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9.wmf" ContentType="image/x-wmf"/>
  <Override PartName="/ppt/media/image12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5056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00C5-9ED7-4487-B766-EFD87E551B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8B8F-98D3-4955-8567-B34A8F12B3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C88E-11FC-40AB-B111-49FC8C8975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9109-2A2B-4615-A5BB-538AA33D18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1D7-F956-42F9-A3F0-7CB46C4756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526C-17E6-4C50-93DE-52E039CCE4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6105-E7C4-4084-B7DF-AC8B8D6307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0952-1074-41E8-9A28-55F587DF80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A405-5176-4D74-BFC2-95A298799B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33F0-A337-44EB-B40A-B085659941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CC47-BB88-4F8E-A90F-7C3714499F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DC66-FAE3-4323-8367-BA562703F7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C09-47FC-4D11-8364-DF786D2E6A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GESTI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731880" y="1338120"/>
            <a:ext cx="7991280" cy="52912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8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432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92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11280" y="1320840"/>
            <a:ext cx="8064360" cy="53514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96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5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6" name="Picture 3" descr="BARRITA"/>
            <p:cNvPicPr/>
            <p:nvPr/>
          </p:nvPicPr>
          <p:blipFill>
            <a:blip r:embed="rId1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9"/>
          <p:cNvSpPr/>
          <p:nvPr/>
        </p:nvSpPr>
        <p:spPr>
          <a:xfrm>
            <a:off x="3556080" y="1562040"/>
            <a:ext cx="5253120" cy="48196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772080" y="1758960"/>
            <a:ext cx="4657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 SUS PROYECTOS Y CUALES S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SE RELACIONAN LOS PROYECTOS CON LOS DATOS FINANCIEROS DE LA EMPRES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APARECE EN LOS ESTADOS FINANCIER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SABE LO QUE SON LOS BONOS ECOLOGIC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ES EL CHIS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INTERVINO LA SV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1144686021"/>
          <p:cNvPicPr/>
          <p:nvPr/>
        </p:nvPicPr>
        <p:blipFill>
          <a:blip r:embed="rId2"/>
          <a:stretch/>
        </p:blipFill>
        <p:spPr>
          <a:xfrm>
            <a:off x="539640" y="4840200"/>
            <a:ext cx="2448000" cy="161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empresa-tapa"/>
          <p:cNvPicPr/>
          <p:nvPr/>
        </p:nvPicPr>
        <p:blipFill>
          <a:blip r:embed="rId3"/>
          <a:stretch/>
        </p:blipFill>
        <p:spPr>
          <a:xfrm>
            <a:off x="539640" y="1484280"/>
            <a:ext cx="2411640" cy="147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Cavemen Developing"/>
          <p:cNvPicPr/>
          <p:nvPr/>
        </p:nvPicPr>
        <p:blipFill>
          <a:blip r:embed="rId4"/>
          <a:stretch/>
        </p:blipFill>
        <p:spPr>
          <a:xfrm>
            <a:off x="250920" y="2781360"/>
            <a:ext cx="27684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556080" y="1562040"/>
            <a:ext cx="5253120" cy="30909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72080" y="1758960"/>
            <a:ext cx="4657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RA A FUTURO CON LA EMPRES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SIMILITUD TIENE CON OTROS CASOS QUE ESTUDIAM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TIPO DE EMPRESA ES HO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ODEMOS EVALUAR DE LA CIFRAS DURA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bannerBiselwb"/>
          <p:cNvPicPr/>
          <p:nvPr/>
        </p:nvPicPr>
        <p:blipFill>
          <a:blip r:embed="rId1"/>
          <a:stretch/>
        </p:blipFill>
        <p:spPr>
          <a:xfrm>
            <a:off x="395280" y="5805360"/>
            <a:ext cx="8209080" cy="7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10" descr="productos-tapawb"/>
          <p:cNvPicPr/>
          <p:nvPr/>
        </p:nvPicPr>
        <p:blipFill>
          <a:blip r:embed="rId2"/>
          <a:stretch/>
        </p:blipFill>
        <p:spPr>
          <a:xfrm>
            <a:off x="324000" y="1557360"/>
            <a:ext cx="2950920" cy="169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11" descr="inversiones"/>
          <p:cNvPicPr/>
          <p:nvPr/>
        </p:nvPicPr>
        <p:blipFill>
          <a:blip r:embed="rId3"/>
          <a:stretch/>
        </p:blipFill>
        <p:spPr>
          <a:xfrm>
            <a:off x="324000" y="3429000"/>
            <a:ext cx="2954160" cy="165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12" descr="Caveman - Business Class"/>
          <p:cNvPicPr/>
          <p:nvPr/>
        </p:nvPicPr>
        <p:blipFill>
          <a:blip r:embed="rId4"/>
          <a:stretch/>
        </p:blipFill>
        <p:spPr>
          <a:xfrm>
            <a:off x="826920" y="4724280"/>
            <a:ext cx="4105440" cy="188928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5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0" name="Picture 3" descr="BARRITA"/>
            <p:cNvPicPr/>
            <p:nvPr/>
          </p:nvPicPr>
          <p:blipFill>
            <a:blip r:embed="rId5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3" name="Picture 5" descr="BARRITA"/>
            <p:cNvPicPr/>
            <p:nvPr/>
          </p:nvPicPr>
          <p:blipFill>
            <a:blip r:embed="rId1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704880" y="1484280"/>
            <a:ext cx="7878600" cy="470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25400" y="1484280"/>
            <a:ext cx="8004240" cy="49690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8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19280" y="1413000"/>
            <a:ext cx="7850160" cy="5103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72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92200" y="1268280"/>
            <a:ext cx="8064360" cy="53625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76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27200" y="1251000"/>
            <a:ext cx="7850160" cy="531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0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31880" y="1285920"/>
            <a:ext cx="7991280" cy="53118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4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Jorge Berrios</cp:lastModifiedBy>
  <dcterms:modified xsi:type="dcterms:W3CDTF">2012-09-04T12:05:34Z</dcterms:modified>
  <cp:revision>233</cp:revision>
  <dc:subject/>
  <dc:title>Presentación de PowerPoint</dc:title>
</cp:coreProperties>
</file>