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9.wmf" ContentType="image/x-wmf"/>
  <Override PartName="/ppt/media/image12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7.jpeg" ContentType="image/jpeg"/>
  <Override PartName="/ppt/media/image4.jpeg" ContentType="image/jpeg"/>
  <Override PartName="/ppt/media/image10.wmf" ContentType="image/x-wmf"/>
  <Override PartName="/ppt/media/image2.png" ContentType="image/pn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50560" y="684360"/>
            <a:ext cx="4559400" cy="34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3C7A-90C9-4D27-AC69-F2919BF158F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C446-F9C9-40C3-ADB8-5FEA7AA1B19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109F-7603-4694-A6D0-77121F50DE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7758-3388-4336-9C5F-6E3D06722B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CBE6-5DDF-47F8-9D18-5870D68905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BC62-EC51-4527-A359-39CC766DC99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C1BA-7F82-410A-9834-1CD17734C6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0821-3FCE-4EE9-9829-693F0D0246C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24D1-E954-434B-A86C-99A7218643A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F247-C960-4867-B005-5F4DD872A3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972D-94AF-4F11-A18E-37691EE22BD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E929-7E7A-4C1C-BD57-011CC9E592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15F1-5A80-4C0A-A013-FD7CB7E3610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362680" y="548496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R. JORGE BERRIOS VOG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684360" y="2349360"/>
            <a:ext cx="7980120" cy="1922760"/>
          </a:xfrm>
          <a:prstGeom prst="rect">
            <a:avLst/>
          </a:prstGeom>
          <a:noFill/>
          <a:ln w="0">
            <a:noFill/>
          </a:ln>
          <a:effectLst>
            <a:outerShdw dist="227005" dir="159390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Britannic Bold"/>
              </a:rPr>
              <a:t>GESTIO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Britannic Bold"/>
              </a:rPr>
              <a:t>FINANCIERA I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731880" y="1338120"/>
            <a:ext cx="7991280" cy="529128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88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137440" cy="54324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92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11280" y="1320840"/>
            <a:ext cx="8064360" cy="53514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96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5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46" name="Picture 3" descr="BARRITA"/>
            <p:cNvPicPr/>
            <p:nvPr/>
          </p:nvPicPr>
          <p:blipFill>
            <a:blip r:embed="rId1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4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9"/>
          <p:cNvSpPr/>
          <p:nvPr/>
        </p:nvSpPr>
        <p:spPr>
          <a:xfrm>
            <a:off x="3556080" y="1562040"/>
            <a:ext cx="5253120" cy="481968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772080" y="1758960"/>
            <a:ext cx="46576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IENSA DEL CAS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IENSA DE SUS PROYECTOS Y CUALES SO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OMO SE RELACIONAN LOS PROYECTOS CON LOS DATOS FINANCIEROS DE LA EMPRES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APARECE EN LOS ESTADOS FINANCIERO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SABE LO QUE SON LOS BONOS ECOLOGICO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ES EL CHIS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POR QUE INTERVINO LA SV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1144686021"/>
          <p:cNvPicPr/>
          <p:nvPr/>
        </p:nvPicPr>
        <p:blipFill>
          <a:blip r:embed="rId2"/>
          <a:stretch/>
        </p:blipFill>
        <p:spPr>
          <a:xfrm>
            <a:off x="539640" y="4840200"/>
            <a:ext cx="2448000" cy="1613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empresa-tapa"/>
          <p:cNvPicPr/>
          <p:nvPr/>
        </p:nvPicPr>
        <p:blipFill>
          <a:blip r:embed="rId3"/>
          <a:stretch/>
        </p:blipFill>
        <p:spPr>
          <a:xfrm>
            <a:off x="539640" y="1484280"/>
            <a:ext cx="2411640" cy="147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Cavemen Developing"/>
          <p:cNvPicPr/>
          <p:nvPr/>
        </p:nvPicPr>
        <p:blipFill>
          <a:blip r:embed="rId4"/>
          <a:stretch/>
        </p:blipFill>
        <p:spPr>
          <a:xfrm>
            <a:off x="250920" y="2781360"/>
            <a:ext cx="276840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556080" y="1562040"/>
            <a:ext cx="5253120" cy="309096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772080" y="1758960"/>
            <a:ext cx="4657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ASARA A FUTURO CON LA EMPRES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SIMILITUD TIENE CON OTROS CASOS QUE ESTUDIAMO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TIPO DE EMPRESA ES HO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ODEMOS EVALUAR DE LA CIFRAS DURA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bannerBiselwb"/>
          <p:cNvPicPr/>
          <p:nvPr/>
        </p:nvPicPr>
        <p:blipFill>
          <a:blip r:embed="rId1"/>
          <a:stretch/>
        </p:blipFill>
        <p:spPr>
          <a:xfrm>
            <a:off x="395280" y="5805360"/>
            <a:ext cx="8209080" cy="71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10" descr="productos-tapawb"/>
          <p:cNvPicPr/>
          <p:nvPr/>
        </p:nvPicPr>
        <p:blipFill>
          <a:blip r:embed="rId2"/>
          <a:stretch/>
        </p:blipFill>
        <p:spPr>
          <a:xfrm>
            <a:off x="324000" y="1557360"/>
            <a:ext cx="2950920" cy="169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11" descr="inversiones"/>
          <p:cNvPicPr/>
          <p:nvPr/>
        </p:nvPicPr>
        <p:blipFill>
          <a:blip r:embed="rId3"/>
          <a:stretch/>
        </p:blipFill>
        <p:spPr>
          <a:xfrm>
            <a:off x="324000" y="3429000"/>
            <a:ext cx="2954160" cy="165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Picture 12" descr="Caveman - Business Class"/>
          <p:cNvPicPr/>
          <p:nvPr/>
        </p:nvPicPr>
        <p:blipFill>
          <a:blip r:embed="rId4"/>
          <a:stretch/>
        </p:blipFill>
        <p:spPr>
          <a:xfrm>
            <a:off x="826920" y="4724280"/>
            <a:ext cx="4105440" cy="188928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15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60" name="Picture 3" descr="BARRITA"/>
            <p:cNvPicPr/>
            <p:nvPr/>
          </p:nvPicPr>
          <p:blipFill>
            <a:blip r:embed="rId5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4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63" name="Picture 5" descr="BARRITA"/>
            <p:cNvPicPr/>
            <p:nvPr/>
          </p:nvPicPr>
          <p:blipFill>
            <a:blip r:embed="rId1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704880" y="1484280"/>
            <a:ext cx="7878600" cy="4707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725400" y="1484280"/>
            <a:ext cx="8004240" cy="49690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68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19280" y="1413000"/>
            <a:ext cx="7850160" cy="51037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72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92200" y="1268280"/>
            <a:ext cx="8064360" cy="536256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76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727200" y="1251000"/>
            <a:ext cx="7850160" cy="531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80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31880" y="1285920"/>
            <a:ext cx="7991280" cy="53118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84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4:45:49Z</dcterms:created>
  <dc:creator>JORGE BERRIOS.</dc:creator>
  <dc:description/>
  <dc:language>en-US</dc:language>
  <cp:lastModifiedBy>Jorge Berrios</cp:lastModifiedBy>
  <dcterms:modified xsi:type="dcterms:W3CDTF">2012-09-04T12:05:34Z</dcterms:modified>
  <cp:revision>233</cp:revision>
  <dc:subject/>
  <dc:title>Presentación de PowerPoint</dc:title>
</cp:coreProperties>
</file>