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9.wmf" ContentType="image/x-wmf"/>
  <Override PartName="/ppt/media/image12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7.jpeg" ContentType="image/jpeg"/>
  <Override PartName="/ppt/media/image4.jpeg" ContentType="image/jpeg"/>
  <Override PartName="/ppt/media/image10.wmf" ContentType="image/x-wmf"/>
  <Override PartName="/ppt/media/image2.png" ContentType="image/pn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50560" y="684360"/>
            <a:ext cx="4559400" cy="34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D693-73A3-4612-BA6E-5ECB2A083D4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DB0C-F88A-44BB-9047-11D380A124F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B286-3882-4C1F-A9EE-88737E7EE9B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952E-46DE-4E5D-91F0-73157CCF16B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C715-80D5-4B04-8EC9-8A718031F26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BB25-8F97-443E-B365-8E4E2A949EA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8714-9DF2-4F2B-BE9A-A4556A0DE07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5A14-BECD-463D-8A15-D596C2396BE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14EC-BE59-4BBF-811B-E0A7E9BE17D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7CC3-64F5-4B18-9B8A-81ED5C520A2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6F98-19E2-4075-85B1-9372887C193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D5BB-F2C4-4D63-8D80-C8604FBC8EE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3 Marcador de número de diapositiva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B560-84AC-49AD-90E7-32C2C836D5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362680" y="548496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R. JORGE BERRIOS VOG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684360" y="2349360"/>
            <a:ext cx="7980120" cy="1922760"/>
          </a:xfrm>
          <a:prstGeom prst="rect">
            <a:avLst/>
          </a:prstGeom>
          <a:noFill/>
          <a:ln w="0">
            <a:noFill/>
          </a:ln>
          <a:effectLst>
            <a:outerShdw dist="227005" dir="159390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00"/>
                </a:solidFill>
                <a:latin typeface="Britannic Bold"/>
              </a:rPr>
              <a:t>GESTION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00"/>
                </a:solidFill>
                <a:latin typeface="Britannic Bold"/>
              </a:rPr>
              <a:t>FINANCIERA I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731880" y="1338120"/>
            <a:ext cx="7991280" cy="529128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4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88" name="Picture 5" descr="BARRITA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6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137440" cy="54324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4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92" name="Picture 5" descr="BARRITA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6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611280" y="1320840"/>
            <a:ext cx="8064360" cy="53514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4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96" name="Picture 5" descr="BARRITA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6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5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46" name="Picture 3" descr="BARRITA"/>
            <p:cNvPicPr/>
            <p:nvPr/>
          </p:nvPicPr>
          <p:blipFill>
            <a:blip r:embed="rId1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4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Rectangle 9"/>
          <p:cNvSpPr/>
          <p:nvPr/>
        </p:nvSpPr>
        <p:spPr>
          <a:xfrm>
            <a:off x="3556080" y="1562040"/>
            <a:ext cx="5253120" cy="4819680"/>
          </a:xfrm>
          <a:prstGeom prst="rect">
            <a:avLst/>
          </a:prstGeom>
          <a:solidFill>
            <a:srgbClr val="000000">
              <a:alpha val="4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772080" y="1758960"/>
            <a:ext cx="46576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PIENSA DEL CASO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PIENSA DE SUS PROYECTOS Y CUALES SO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COMO SE RELACIONAN LOS PROYECTOS CON LOS DATOS FINANCIEROS DE LA EMPRESA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APARECE EN LOS ESTADOS FINANCIERO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SABE LO QUE SON LOS BONOS ECOLOGICO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ES EL CHIS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POR QUE INTERVINO LA SV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1144686021"/>
          <p:cNvPicPr/>
          <p:nvPr/>
        </p:nvPicPr>
        <p:blipFill>
          <a:blip r:embed="rId2"/>
          <a:stretch/>
        </p:blipFill>
        <p:spPr>
          <a:xfrm>
            <a:off x="539640" y="4840200"/>
            <a:ext cx="2448000" cy="1613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empresa-tapa"/>
          <p:cNvPicPr/>
          <p:nvPr/>
        </p:nvPicPr>
        <p:blipFill>
          <a:blip r:embed="rId3"/>
          <a:stretch/>
        </p:blipFill>
        <p:spPr>
          <a:xfrm>
            <a:off x="539640" y="1484280"/>
            <a:ext cx="2411640" cy="147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Cavemen Developing"/>
          <p:cNvPicPr/>
          <p:nvPr/>
        </p:nvPicPr>
        <p:blipFill>
          <a:blip r:embed="rId4"/>
          <a:stretch/>
        </p:blipFill>
        <p:spPr>
          <a:xfrm>
            <a:off x="250920" y="2781360"/>
            <a:ext cx="276840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3556080" y="1562040"/>
            <a:ext cx="5253120" cy="3090960"/>
          </a:xfrm>
          <a:prstGeom prst="rect">
            <a:avLst/>
          </a:prstGeom>
          <a:solidFill>
            <a:srgbClr val="000000">
              <a:alpha val="4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772080" y="1758960"/>
            <a:ext cx="46576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PASARA A FUTURO CON LA EMPRESA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SIMILITUD TIENE CON OTROS CASOS QUE ESTUDIAMO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TIPO DE EMPRESA ES HO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PODEMOS EVALUAR DE LA CIFRAS DURA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bannerBiselwb"/>
          <p:cNvPicPr/>
          <p:nvPr/>
        </p:nvPicPr>
        <p:blipFill>
          <a:blip r:embed="rId1"/>
          <a:stretch/>
        </p:blipFill>
        <p:spPr>
          <a:xfrm>
            <a:off x="395280" y="5805360"/>
            <a:ext cx="8209080" cy="71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6" name="Picture 10" descr="productos-tapawb"/>
          <p:cNvPicPr/>
          <p:nvPr/>
        </p:nvPicPr>
        <p:blipFill>
          <a:blip r:embed="rId2"/>
          <a:stretch/>
        </p:blipFill>
        <p:spPr>
          <a:xfrm>
            <a:off x="324000" y="1557360"/>
            <a:ext cx="2950920" cy="1695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" name="Picture 11" descr="inversiones"/>
          <p:cNvPicPr/>
          <p:nvPr/>
        </p:nvPicPr>
        <p:blipFill>
          <a:blip r:embed="rId3"/>
          <a:stretch/>
        </p:blipFill>
        <p:spPr>
          <a:xfrm>
            <a:off x="324000" y="3429000"/>
            <a:ext cx="2954160" cy="165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" name="Picture 12" descr="Caveman - Business Class"/>
          <p:cNvPicPr/>
          <p:nvPr/>
        </p:nvPicPr>
        <p:blipFill>
          <a:blip r:embed="rId4"/>
          <a:stretch/>
        </p:blipFill>
        <p:spPr>
          <a:xfrm>
            <a:off x="826920" y="4724280"/>
            <a:ext cx="4105440" cy="188928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15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60" name="Picture 3" descr="BARRITA"/>
            <p:cNvPicPr/>
            <p:nvPr/>
          </p:nvPicPr>
          <p:blipFill>
            <a:blip r:embed="rId5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4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4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63" name="Picture 5" descr="BARRITA"/>
            <p:cNvPicPr/>
            <p:nvPr/>
          </p:nvPicPr>
          <p:blipFill>
            <a:blip r:embed="rId1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6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704880" y="1484280"/>
            <a:ext cx="7878600" cy="4707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725400" y="1484280"/>
            <a:ext cx="8004240" cy="49690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4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68" name="Picture 5" descr="BARRITA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6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19280" y="1413000"/>
            <a:ext cx="7850160" cy="510372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4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72" name="Picture 5" descr="BARRITA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6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92200" y="1268280"/>
            <a:ext cx="8064360" cy="536256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4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76" name="Picture 5" descr="BARRITA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6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727200" y="1251000"/>
            <a:ext cx="7850160" cy="531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4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80" name="Picture 5" descr="BARRITA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6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31880" y="1285920"/>
            <a:ext cx="7991280" cy="53118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4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84" name="Picture 5" descr="BARRITA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6"/>
            <p:cNvSpPr/>
            <p:nvPr/>
          </p:nvSpPr>
          <p:spPr>
            <a:xfrm>
              <a:off x="2484360" y="422280"/>
              <a:ext cx="4319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SCHWAG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14:45:49Z</dcterms:created>
  <dc:creator>JORGE BERRIOS.</dc:creator>
  <dc:description/>
  <dc:language>en-US</dc:language>
  <cp:lastModifiedBy>Jorge Berrios</cp:lastModifiedBy>
  <dcterms:modified xsi:type="dcterms:W3CDTF">2012-09-04T12:05:34Z</dcterms:modified>
  <cp:revision>233</cp:revision>
  <dc:subject/>
  <dc:title>Presentación de PowerPoint</dc:title>
</cp:coreProperties>
</file>