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5056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2AB-31CC-4FC8-8680-03339A26C6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8983-9DD8-40A0-9D7F-1A42670E35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0907-A273-4D69-B4B9-D42B9ABF0E6D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581A-D307-4598-9354-950B4BD12A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2BE-909E-4BAF-84EC-E940C133D8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 U achicado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R. JORGE BERRIOS VOG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692360" y="189000"/>
            <a:ext cx="6000480" cy="917640"/>
            <a:chOff x="1692360" y="189000"/>
            <a:chExt cx="6000480" cy="917640"/>
          </a:xfrm>
        </p:grpSpPr>
        <p:pic>
          <p:nvPicPr>
            <p:cNvPr id="47" name="Picture 3" descr="BARRITA"/>
            <p:cNvPicPr/>
            <p:nvPr/>
          </p:nvPicPr>
          <p:blipFill>
            <a:blip r:embed="rId1"/>
            <a:stretch/>
          </p:blipFill>
          <p:spPr>
            <a:xfrm>
              <a:off x="1692360" y="189000"/>
              <a:ext cx="600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3180600" y="40356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LA PICCO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9"/>
          <p:cNvSpPr/>
          <p:nvPr/>
        </p:nvSpPr>
        <p:spPr>
          <a:xfrm>
            <a:off x="3556080" y="1413000"/>
            <a:ext cx="5253120" cy="50403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772080" y="1557360"/>
            <a:ext cx="4657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A CON LA ADMINISTRACI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AFECTA EL REPORTAJE TV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LOS BANCO ENTREGARON TANTO FINANCIAMIENT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GARANTIAS ENTREGAR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ES UN NEGOCIO DE FLUJ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QUEBRAR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ES ESTA INDUSTRI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RELACIONE EL REPORTAJE CON LA REALIDAD DE LAS CIFRAS - EXC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20070201180137"/>
          <p:cNvPicPr/>
          <p:nvPr/>
        </p:nvPicPr>
        <p:blipFill>
          <a:blip r:embed="rId2"/>
          <a:stretch/>
        </p:blipFill>
        <p:spPr>
          <a:xfrm>
            <a:off x="250920" y="1413000"/>
            <a:ext cx="3097080" cy="2319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Picture 19" descr="logopiccola-italia-793740"/>
          <p:cNvPicPr/>
          <p:nvPr/>
        </p:nvPicPr>
        <p:blipFill>
          <a:blip r:embed="rId3"/>
          <a:stretch/>
        </p:blipFill>
        <p:spPr>
          <a:xfrm>
            <a:off x="324000" y="4724280"/>
            <a:ext cx="3025800" cy="1683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3"/>
          <p:cNvGrpSpPr/>
          <p:nvPr/>
        </p:nvGrpSpPr>
        <p:grpSpPr>
          <a:xfrm>
            <a:off x="1692360" y="189000"/>
            <a:ext cx="6000480" cy="917640"/>
            <a:chOff x="1692360" y="189000"/>
            <a:chExt cx="6000480" cy="917640"/>
          </a:xfrm>
        </p:grpSpPr>
        <p:pic>
          <p:nvPicPr>
            <p:cNvPr id="54" name="Picture 14" descr="BARRITA"/>
            <p:cNvPicPr/>
            <p:nvPr/>
          </p:nvPicPr>
          <p:blipFill>
            <a:blip r:embed="rId1"/>
            <a:stretch/>
          </p:blipFill>
          <p:spPr>
            <a:xfrm>
              <a:off x="1692360" y="189000"/>
              <a:ext cx="600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5"/>
            <p:cNvSpPr/>
            <p:nvPr/>
          </p:nvSpPr>
          <p:spPr>
            <a:xfrm>
              <a:off x="3180600" y="40356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LA PICCO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9" descr="2855_imagen_piccola"/>
          <p:cNvPicPr/>
          <p:nvPr/>
        </p:nvPicPr>
        <p:blipFill>
          <a:blip r:embed="rId2"/>
          <a:stretch/>
        </p:blipFill>
        <p:spPr>
          <a:xfrm>
            <a:off x="826920" y="3135240"/>
            <a:ext cx="410544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21" descr="La Piccola Italia Blimp"/>
          <p:cNvPicPr/>
          <p:nvPr/>
        </p:nvPicPr>
        <p:blipFill>
          <a:blip r:embed="rId3"/>
          <a:stretch/>
        </p:blipFill>
        <p:spPr>
          <a:xfrm>
            <a:off x="5435640" y="3135240"/>
            <a:ext cx="3313080" cy="313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23" descr="piccola+italia"/>
          <p:cNvPicPr/>
          <p:nvPr/>
        </p:nvPicPr>
        <p:blipFill>
          <a:blip r:embed="rId4"/>
          <a:stretch/>
        </p:blipFill>
        <p:spPr>
          <a:xfrm>
            <a:off x="826920" y="5727600"/>
            <a:ext cx="4104000" cy="58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WordArt 24"/>
          <p:cNvSpPr txBox="1"/>
          <p:nvPr/>
        </p:nvSpPr>
        <p:spPr>
          <a:xfrm>
            <a:off x="2916360" y="1268280"/>
            <a:ext cx="3771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 SIEMPRE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TRE LINEAS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Jorge Berrios</cp:lastModifiedBy>
  <dcterms:modified xsi:type="dcterms:W3CDTF">2012-09-04T12:05:52Z</dcterms:modified>
  <cp:revision>227</cp:revision>
  <dc:subject/>
  <dc:title>Presentación de PowerPoint</dc:title>
</cp:coreProperties>
</file>