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733-3843-4CB2-AB74-584F9E0682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B71-5A89-4627-9F05-177F997786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8A1-5D81-4F87-BF8B-398EEBCE3AE2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B38-09BD-435D-919D-9B923C2B8E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D71-7848-454E-BC8E-60D18803ED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 U achicado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47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9"/>
          <p:cNvSpPr/>
          <p:nvPr/>
        </p:nvSpPr>
        <p:spPr>
          <a:xfrm>
            <a:off x="3556080" y="1413000"/>
            <a:ext cx="5253120" cy="5040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772080" y="155736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 CON LA ADMINISTRAC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AFECTA EL REPORTAJE TV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LOS BANCO ENTREGARON TANTO FINANCIAMIEN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GARANTIAS ENTREG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UN NEGOCIO DE FLUJ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QUEBR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ES ESTA INDUSTRI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RELACIONE EL REPORTAJE CON LA REALIDAD DE LAS CIFRAS - EXC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0070201180137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19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Picture 19" descr="logopiccola-italia-793740"/>
          <p:cNvPicPr/>
          <p:nvPr/>
        </p:nvPicPr>
        <p:blipFill>
          <a:blip r:embed="rId3"/>
          <a:stretch/>
        </p:blipFill>
        <p:spPr>
          <a:xfrm>
            <a:off x="324000" y="4724280"/>
            <a:ext cx="3025800" cy="16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3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54" name="Picture 14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9" descr="2855_imagen_piccola"/>
          <p:cNvPicPr/>
          <p:nvPr/>
        </p:nvPicPr>
        <p:blipFill>
          <a:blip r:embed="rId2"/>
          <a:stretch/>
        </p:blipFill>
        <p:spPr>
          <a:xfrm>
            <a:off x="826920" y="3135240"/>
            <a:ext cx="410544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21" descr="La Piccola Italia Blimp"/>
          <p:cNvPicPr/>
          <p:nvPr/>
        </p:nvPicPr>
        <p:blipFill>
          <a:blip r:embed="rId3"/>
          <a:stretch/>
        </p:blipFill>
        <p:spPr>
          <a:xfrm>
            <a:off x="5435640" y="3135240"/>
            <a:ext cx="3313080" cy="31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23" descr="piccola+italia"/>
          <p:cNvPicPr/>
          <p:nvPr/>
        </p:nvPicPr>
        <p:blipFill>
          <a:blip r:embed="rId4"/>
          <a:stretch/>
        </p:blipFill>
        <p:spPr>
          <a:xfrm>
            <a:off x="826920" y="5727600"/>
            <a:ext cx="4104000" cy="58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WordArt 24"/>
          <p:cNvSpPr txBox="1"/>
          <p:nvPr/>
        </p:nvSpPr>
        <p:spPr>
          <a:xfrm>
            <a:off x="2916360" y="1268280"/>
            <a:ext cx="377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 SIEMPR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RE LINEAS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52Z</dcterms:modified>
  <cp:revision>227</cp:revision>
  <dc:subject/>
  <dc:title>Presentación de PowerPoint</dc:title>
</cp:coreProperties>
</file>