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50560" y="684360"/>
            <a:ext cx="4559400" cy="34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59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59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A2C46-2962-47AF-9039-88D946B1A402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7"/>
          <p:cNvSpPr/>
          <p:nvPr/>
        </p:nvSpPr>
        <p:spPr>
          <a:xfrm>
            <a:off x="3886200" y="8659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DFEE2-7E17-42FF-9CDD-8ECCB40673D3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7"/>
          <p:cNvSpPr/>
          <p:nvPr/>
        </p:nvSpPr>
        <p:spPr>
          <a:xfrm>
            <a:off x="3886200" y="8659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7E8C6-FEDF-4924-9D61-2D93F4854B7D}" type="slidenum">
              <a:rPr b="0" lang="es-E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9400" cy="341928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1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7"/>
          <p:cNvSpPr/>
          <p:nvPr/>
        </p:nvSpPr>
        <p:spPr>
          <a:xfrm>
            <a:off x="3886200" y="8659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AFD9E-8F2A-4FF3-8480-9C8D2EA496DC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9400" cy="341928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1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7"/>
          <p:cNvSpPr/>
          <p:nvPr/>
        </p:nvSpPr>
        <p:spPr>
          <a:xfrm>
            <a:off x="3886200" y="8659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2D64F-A4D5-4F3B-9A0A-66A7AE1B9C02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9400" cy="341928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0" descr="logo U achicado"/>
          <p:cNvPicPr/>
          <p:nvPr/>
        </p:nvPicPr>
        <p:blipFill>
          <a:blip r:embed="rId3"/>
          <a:stretch/>
        </p:blipFill>
        <p:spPr>
          <a:xfrm>
            <a:off x="324000" y="189000"/>
            <a:ext cx="576000" cy="571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2"/>
          <p:cNvSpPr/>
          <p:nvPr/>
        </p:nvSpPr>
        <p:spPr>
          <a:xfrm>
            <a:off x="2362680" y="5484960"/>
            <a:ext cx="446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  <a:ea typeface="Arial"/>
              </a:rPr>
              <a:t>SR. JORGE BERRIOS VOG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684360" y="2349360"/>
            <a:ext cx="7980120" cy="1922760"/>
          </a:xfrm>
          <a:prstGeom prst="rect">
            <a:avLst/>
          </a:prstGeom>
          <a:noFill/>
          <a:ln w="0">
            <a:noFill/>
          </a:ln>
          <a:effectLst>
            <a:outerShdw dist="227005" dir="1593903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6000" spc="-1" strike="noStrike">
                <a:solidFill>
                  <a:srgbClr val="ffff00"/>
                </a:solidFill>
                <a:latin typeface="Britannic Bold"/>
              </a:rPr>
              <a:t>GESTION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0" spc="-1" strike="noStrike">
                <a:solidFill>
                  <a:srgbClr val="ffff00"/>
                </a:solidFill>
                <a:latin typeface="Britannic Bold"/>
              </a:rPr>
              <a:t>FINANCIERA I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1692360" y="189000"/>
            <a:ext cx="6000480" cy="917640"/>
            <a:chOff x="1692360" y="189000"/>
            <a:chExt cx="6000480" cy="917640"/>
          </a:xfrm>
        </p:grpSpPr>
        <p:pic>
          <p:nvPicPr>
            <p:cNvPr id="47" name="Picture 3" descr="BARRITA"/>
            <p:cNvPicPr/>
            <p:nvPr/>
          </p:nvPicPr>
          <p:blipFill>
            <a:blip r:embed="rId1"/>
            <a:stretch/>
          </p:blipFill>
          <p:spPr>
            <a:xfrm>
              <a:off x="1692360" y="189000"/>
              <a:ext cx="6000480" cy="9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Text Box 4"/>
            <p:cNvSpPr/>
            <p:nvPr/>
          </p:nvSpPr>
          <p:spPr>
            <a:xfrm>
              <a:off x="3180600" y="403560"/>
              <a:ext cx="30355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63504" dir="318390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00"/>
                  </a:solidFill>
                  <a:latin typeface="Arial Black"/>
                </a:rPr>
                <a:t>LA PICCOLA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Rectangle 9"/>
          <p:cNvSpPr/>
          <p:nvPr/>
        </p:nvSpPr>
        <p:spPr>
          <a:xfrm>
            <a:off x="3556080" y="1413000"/>
            <a:ext cx="5253120" cy="5040360"/>
          </a:xfrm>
          <a:prstGeom prst="rect">
            <a:avLst/>
          </a:prstGeom>
          <a:solidFill>
            <a:srgbClr val="000000">
              <a:alpha val="40000"/>
            </a:srgbClr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0"/>
          <p:cNvSpPr/>
          <p:nvPr/>
        </p:nvSpPr>
        <p:spPr>
          <a:xfrm>
            <a:off x="3772080" y="1557360"/>
            <a:ext cx="465768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 algn="just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"/>
              </a:rPr>
              <a:t>¿QUE PIENSA DEL CASO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 algn="just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"/>
              </a:rPr>
              <a:t>¿QUE PASA CON LA ADMINISTRACION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 algn="just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"/>
              </a:rPr>
              <a:t>¿COMO AFECTA EL REPORTAJE TVN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 algn="just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 algn="just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"/>
              </a:rPr>
              <a:t>¿COMO LOS BANCO ENTREGARON TANTO FINANCIAMIENTO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 algn="just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 algn="just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"/>
              </a:rPr>
              <a:t>¿QUE GARANTIAS ENTREGARON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 algn="just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 algn="just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"/>
              </a:rPr>
              <a:t>¿QUE ES UN NEGOCIO DE FLUJO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 algn="just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 algn="just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"/>
              </a:rPr>
              <a:t>¿POR QUE QUEBRARON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 algn="just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 algn="just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"/>
              </a:rPr>
              <a:t>¿COMO ES ESTA INDUSTRIA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 algn="just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 algn="just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"/>
              </a:rPr>
              <a:t>RELACIONE EL REPORTAJE CON LA REALIDAD DE LAS CIFRAS - EXCUS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 algn="just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7" descr="20070201180137"/>
          <p:cNvPicPr/>
          <p:nvPr/>
        </p:nvPicPr>
        <p:blipFill>
          <a:blip r:embed="rId2"/>
          <a:stretch/>
        </p:blipFill>
        <p:spPr>
          <a:xfrm>
            <a:off x="250920" y="1413000"/>
            <a:ext cx="3097080" cy="231912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000000">
                <a:alpha val="50000"/>
              </a:srgbClr>
            </a:outerShdw>
          </a:effectLst>
        </p:spPr>
      </p:pic>
      <p:pic>
        <p:nvPicPr>
          <p:cNvPr id="52" name="Picture 19" descr="logopiccola-italia-793740"/>
          <p:cNvPicPr/>
          <p:nvPr/>
        </p:nvPicPr>
        <p:blipFill>
          <a:blip r:embed="rId3"/>
          <a:stretch/>
        </p:blipFill>
        <p:spPr>
          <a:xfrm>
            <a:off x="324000" y="4724280"/>
            <a:ext cx="3025800" cy="168300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00000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Group 13"/>
          <p:cNvGrpSpPr/>
          <p:nvPr/>
        </p:nvGrpSpPr>
        <p:grpSpPr>
          <a:xfrm>
            <a:off x="1692360" y="189000"/>
            <a:ext cx="6000480" cy="917640"/>
            <a:chOff x="1692360" y="189000"/>
            <a:chExt cx="6000480" cy="917640"/>
          </a:xfrm>
        </p:grpSpPr>
        <p:pic>
          <p:nvPicPr>
            <p:cNvPr id="54" name="Picture 14" descr="BARRITA"/>
            <p:cNvPicPr/>
            <p:nvPr/>
          </p:nvPicPr>
          <p:blipFill>
            <a:blip r:embed="rId1"/>
            <a:stretch/>
          </p:blipFill>
          <p:spPr>
            <a:xfrm>
              <a:off x="1692360" y="189000"/>
              <a:ext cx="6000480" cy="9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Text Box 15"/>
            <p:cNvSpPr/>
            <p:nvPr/>
          </p:nvSpPr>
          <p:spPr>
            <a:xfrm>
              <a:off x="3180600" y="403560"/>
              <a:ext cx="30355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63504" dir="318390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00"/>
                  </a:solidFill>
                  <a:latin typeface="Arial Black"/>
                </a:rPr>
                <a:t>LA PICCOLA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6" name="Picture 19" descr="2855_imagen_piccola"/>
          <p:cNvPicPr/>
          <p:nvPr/>
        </p:nvPicPr>
        <p:blipFill>
          <a:blip r:embed="rId2"/>
          <a:stretch/>
        </p:blipFill>
        <p:spPr>
          <a:xfrm>
            <a:off x="826920" y="3135240"/>
            <a:ext cx="4105440" cy="22971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57" name="Picture 21" descr="La Piccola Italia Blimp"/>
          <p:cNvPicPr/>
          <p:nvPr/>
        </p:nvPicPr>
        <p:blipFill>
          <a:blip r:embed="rId3"/>
          <a:stretch/>
        </p:blipFill>
        <p:spPr>
          <a:xfrm>
            <a:off x="5435640" y="3135240"/>
            <a:ext cx="3313080" cy="31370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58" name="Picture 23" descr="piccola+italia"/>
          <p:cNvPicPr/>
          <p:nvPr/>
        </p:nvPicPr>
        <p:blipFill>
          <a:blip r:embed="rId4"/>
          <a:stretch/>
        </p:blipFill>
        <p:spPr>
          <a:xfrm>
            <a:off x="826920" y="5727600"/>
            <a:ext cx="4104000" cy="5810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9" name="WordArt 24"/>
          <p:cNvSpPr txBox="1"/>
          <p:nvPr/>
        </p:nvSpPr>
        <p:spPr>
          <a:xfrm>
            <a:off x="2916360" y="1268280"/>
            <a:ext cx="377172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LEER SIEMPRE</a:t>
            </a:r>
            <a:endParaRPr b="1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ENTRE LINEAS</a:t>
            </a:r>
            <a:endParaRPr b="1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06T14:45:49Z</dcterms:created>
  <dc:creator>JORGE BERRIOS.</dc:creator>
  <dc:description/>
  <dc:language>en-US</dc:language>
  <cp:lastModifiedBy>Jorge Berrios</cp:lastModifiedBy>
  <dcterms:modified xsi:type="dcterms:W3CDTF">2012-09-04T12:05:52Z</dcterms:modified>
  <cp:revision>227</cp:revision>
  <dc:subject/>
  <dc:title>Presentación de PowerPoint</dc:title>
</cp:coreProperties>
</file>