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13.jpeg" ContentType="image/jpeg"/>
  <Override PartName="/ppt/media/image4.png" ContentType="image/png"/>
  <Override PartName="/ppt/media/image27.wmf" ContentType="image/x-wmf"/>
  <Override PartName="/ppt/media/image24.wmf" ContentType="image/x-wmf"/>
  <Override PartName="/ppt/media/image25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4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1.wm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0.wmf"/><Relationship Id="rId15" Type="http://schemas.openxmlformats.org/officeDocument/2006/relationships/image" Target="../media/image21.wmf"/><Relationship Id="rId16" Type="http://schemas.openxmlformats.org/officeDocument/2006/relationships/image" Target="../media/image22.wmf"/><Relationship Id="rId17" Type="http://schemas.openxmlformats.org/officeDocument/2006/relationships/image" Target="../media/image23.jpe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SR. JORGE BERRIOS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2268720" cy="3024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40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1" name="" descr=""/>
            <p:cNvPicPr/>
            <p:nvPr/>
          </p:nvPicPr>
          <p:blipFill>
            <a:blip r:embed="rId3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003640" y="3429000"/>
            <a:ext cx="2303640" cy="294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76720" y="1268280"/>
            <a:ext cx="3024360" cy="244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800000">
              <a:alpha val="5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30240" y="208116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¿SE ACUER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ESTA FO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2492280"/>
            <a:ext cx="1224000" cy="1513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ff33">
              <a:alpha val="7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592360" cy="253836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916360" y="2276640"/>
            <a:ext cx="6048360" cy="380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79280" y="1125360"/>
            <a:ext cx="2664000" cy="2087640"/>
          </a:xfrm>
          <a:prstGeom prst="cloudCallout">
            <a:avLst>
              <a:gd name="adj1" fmla="val -7865"/>
              <a:gd name="adj2" fmla="val 90685"/>
            </a:avLst>
          </a:prstGeom>
          <a:solidFill>
            <a:srgbClr val="800000">
              <a:alpha val="5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7440" y="1773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¿QUE 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VERLIN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1514520"/>
            <a:ext cx="8208720" cy="504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9113600">
            <a:off x="108000" y="1052280"/>
            <a:ext cx="1150920" cy="76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7785000" y="836640"/>
            <a:ext cx="135900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556080" y="1268280"/>
            <a:ext cx="5253120" cy="5256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141300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PASO EST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REE UD., QUE TRABAJABAN CON INFORMACION PRIVILEGIAD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NOCE UD., LA LEGISLACION RESPECTO A LAS INVERSIONES EN EL MERCADO DE CAPITAL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UD., EL RIESGO DE LOS INSTRUMENTOS EN QUE INVIERTE Y DE LOS BANCOS EN QUE LO HA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IEN CREE UD., QUE ES EL BANCO QUE MAS RENTA EN EL MERC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SE ACUERDA DE RIESGO – REN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2209680" cy="256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24000" y="1268280"/>
            <a:ext cx="2663640" cy="196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556080" y="1413000"/>
            <a:ext cx="5253120" cy="518472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154296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APARECEN ALGUNAS PERSONALIDADES EN INVERLIN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NADIE SE DIO CUEN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Arial"/>
              </a:rPr>
              <a:t>¿CUALES SON LOS TEMAS ETICO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AFECTO ESTO LOS ESTADOS FINANCIEROS DE LOS PARTICIPANTES, YA SEAN DEPOSITANTES O CAPTADOR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O CON LAS EMPRESAS ASOCIADAS EL GRUPO INVERLINK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SABE UD., EL RIESGO DE LOS INSTRUMENTOS EN QUE INVIERTE Y DE LOS BANCOS EN QUE LO HAC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 algn="just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RA A FUTUR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376360" cy="1942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050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3068640"/>
            <a:ext cx="2089080" cy="1224000"/>
          </a:xfrm>
          <a:prstGeom prst="rect">
            <a:avLst/>
          </a:prstGeom>
          <a:solidFill>
            <a:srgbClr val="9933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LOS PE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CAPITAL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</a:rPr>
              <a:t>INVER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40200" y="1341360"/>
          <a:ext cx="22874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0200" y="1341360"/>
                    <a:ext cx="22874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924360" y="2565360"/>
          <a:ext cx="230328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2565360"/>
                    <a:ext cx="2303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924360" y="3789360"/>
          <a:ext cx="2303280" cy="111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3789360"/>
                    <a:ext cx="23032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924360" y="5191200"/>
          <a:ext cx="2303280" cy="1190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5191200"/>
                    <a:ext cx="2303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443640" y="2565360"/>
          <a:ext cx="2376360" cy="96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2565360"/>
                    <a:ext cx="23763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516720" y="3789360"/>
          <a:ext cx="2303280" cy="1079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6720" y="3789360"/>
                    <a:ext cx="230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 rot="19963200">
            <a:off x="2627280" y="2421000"/>
            <a:ext cx="936720" cy="792000"/>
          </a:xfrm>
          <a:prstGeom prst="rightArrow">
            <a:avLst>
              <a:gd name="adj1" fmla="val 50000"/>
              <a:gd name="adj2" fmla="val 29568"/>
            </a:avLst>
          </a:prstGeom>
          <a:solidFill>
            <a:srgbClr val="00ff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427400">
            <a:off x="2626920" y="4221000"/>
            <a:ext cx="936720" cy="792360"/>
          </a:xfrm>
          <a:prstGeom prst="rightArrow">
            <a:avLst>
              <a:gd name="adj1" fmla="val 50000"/>
              <a:gd name="adj2" fmla="val 29555"/>
            </a:avLst>
          </a:prstGeom>
          <a:solidFill>
            <a:srgbClr val="00ff00">
              <a:alpha val="6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5"/>
          <a:stretch/>
        </p:blipFill>
        <p:spPr>
          <a:xfrm>
            <a:off x="6588000" y="1197000"/>
            <a:ext cx="1619280" cy="1625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6"/>
          <a:stretch/>
        </p:blipFill>
        <p:spPr>
          <a:xfrm>
            <a:off x="324000" y="4437000"/>
            <a:ext cx="201600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7"/>
          <a:stretch/>
        </p:blipFill>
        <p:spPr>
          <a:xfrm>
            <a:off x="250920" y="1268280"/>
            <a:ext cx="2089080" cy="1681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22520" y="1247760"/>
            <a:ext cx="4032360" cy="86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44800" y="146052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¿QUE PASARA A FUTURO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2997360"/>
            <a:ext cx="5410440" cy="38088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800000"/>
                </a:solidFill>
                <a:latin typeface="Times New Roman"/>
              </a:rPr>
              <a:t>VOLVERA A PASAR LO MISMO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8720" y="2205000"/>
            <a:ext cx="100800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227640" y="3573360"/>
            <a:ext cx="2051280" cy="296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11280" y="3500280"/>
            <a:ext cx="467208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1727280" y="208080"/>
            <a:ext cx="6000840" cy="917280"/>
            <a:chOff x="1727280" y="208080"/>
            <a:chExt cx="6000840" cy="91728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27280" y="208080"/>
              <a:ext cx="6000840" cy="9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963880" y="422280"/>
              <a:ext cx="36957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El CASO INVER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50920" y="1285920"/>
            <a:ext cx="6335640" cy="4867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156360" y="3357720"/>
            <a:ext cx="2522520" cy="32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227640" y="836640"/>
            <a:ext cx="1702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HP Authorized Customer</cp:lastModifiedBy>
  <dcterms:modified xsi:type="dcterms:W3CDTF">2007-05-12T04:14:33Z</dcterms:modified>
  <cp:revision>231</cp:revision>
  <dc:subject/>
  <dc:title>Presentación de PowerPoint</dc:title>
</cp:coreProperties>
</file>