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7.jpeg" ContentType="image/jpeg"/>
  <Override PartName="/ppt/media/image20.png" ContentType="image/png"/>
  <Override PartName="/ppt/media/image12.png" ContentType="image/png"/>
  <Override PartName="/ppt/media/image9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40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H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3556080" y="1413000"/>
            <a:ext cx="5253120" cy="5040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72080" y="1557360"/>
            <a:ext cx="4657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 CON LA ADMINISTRAC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COMPRAN EL METROPOLITA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UANTO SUMAN LAS PERDIDAS INICIAL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FUNCIONAN LAS EMPRESAS FAMILIARES? ¿QUE IMPACTO TIEN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TIENEN ALGUN EFECTO LOS DIARIOS GRAT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UAL ES EL SECTOR INDUSTRI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O CON LA POLA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2376360" cy="148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1280" y="4869000"/>
            <a:ext cx="2376360" cy="153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00000" y="2608200"/>
            <a:ext cx="18957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H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556080" y="1562040"/>
            <a:ext cx="5253120" cy="50356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1628640"/>
            <a:ext cx="4657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UAL ES EL DILEMA DE LA DEUD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UAL FUE LA ESTRATEGIA DE SALID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HITES: OPERACIÓN RES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ESTRATEGIA DE LA NUEVA ADMINISTRAC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UAL HA SIDO EL IMPACTO EN LOS ESTADOS FINANCIEROS EN ESTOS AÑ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O CON EL METROPOLITANO? ¿QUIEN SE QUEDO CON EL “CACHO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PERSPECTIVAS FUT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O CON EL AV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631880"/>
            <a:ext cx="2160360" cy="16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2160360" cy="16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971640" y="2637000"/>
            <a:ext cx="150156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08360" y="1700280"/>
            <a:ext cx="3168720" cy="3816360"/>
          </a:xfrm>
          <a:prstGeom prst="rect">
            <a:avLst/>
          </a:prstGeom>
          <a:gradFill rotWithShape="0">
            <a:gsLst>
              <a:gs pos="0">
                <a:srgbClr val="000080">
                  <a:alpha val="50196"/>
                </a:srgbClr>
              </a:gs>
              <a:gs pos="100000">
                <a:srgbClr val="000000">
                  <a:alpha val="48235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87640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211880" y="2997360"/>
            <a:ext cx="1392480" cy="252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211880" y="1700280"/>
            <a:ext cx="1366920" cy="125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59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H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852720" y="1989000"/>
            <a:ext cx="28702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A NUEVA ADMINIST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STRATEGIA IMPLEMENT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SULTADOS INI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ROYECCION FU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MBIOS IMPLEMEN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5805360"/>
            <a:ext cx="4038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 CUMPLIO OBJETIVO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H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8360" y="5013360"/>
            <a:ext cx="2303280" cy="64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97480" y="1484280"/>
            <a:ext cx="3495600" cy="1841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512720" cy="1050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7524720" y="5380200"/>
            <a:ext cx="1440000" cy="1001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492360" y="1773360"/>
            <a:ext cx="1079640" cy="865080"/>
          </a:xfrm>
          <a:prstGeom prst="rightArrow">
            <a:avLst>
              <a:gd name="adj1" fmla="val 50000"/>
              <a:gd name="adj2" fmla="val 31201"/>
            </a:avLst>
          </a:prstGeom>
          <a:solidFill>
            <a:srgbClr val="990000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987640" y="285264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6443640" y="3500280"/>
            <a:ext cx="1635120" cy="1783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Portada de &quot;El Metropolitano&quot; del 2 de Mayo. A exactamente un a�o de su formaci�n, Patria Nueva Sociedad daba el m�s duro golpe al orgullo del Gobierno y el poder del Sionismo. Como dice el dicho, &quot;el que r�e al �ltimo r�e mejor&quot;."/>
          <p:cNvPicPr/>
          <p:nvPr/>
        </p:nvPicPr>
        <p:blipFill>
          <a:blip r:embed="rId9"/>
          <a:stretch/>
        </p:blipFill>
        <p:spPr>
          <a:xfrm>
            <a:off x="468360" y="1484280"/>
            <a:ext cx="230832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727280" y="208080"/>
            <a:ext cx="6000480" cy="917280"/>
            <a:chOff x="1727280" y="208080"/>
            <a:chExt cx="6000480" cy="9172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4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215520" y="4222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H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556000" y="1341360"/>
            <a:ext cx="6335640" cy="511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2780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284720" y="3645000"/>
            <a:ext cx="2952720" cy="271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92720" y="1341360"/>
            <a:ext cx="2879640" cy="1943280"/>
          </a:xfrm>
          <a:prstGeom prst="cloudCallout">
            <a:avLst>
              <a:gd name="adj1" fmla="val -17087"/>
              <a:gd name="adj2" fmla="val 80148"/>
            </a:avLst>
          </a:prstGeom>
          <a:solidFill>
            <a:srgbClr val="8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198900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¿POR QUE TIE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RENTABILIDA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19280" y="115920"/>
            <a:ext cx="6000480" cy="917640"/>
            <a:chOff x="1619280" y="115920"/>
            <a:chExt cx="6000480" cy="91764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1619280" y="11592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07520" y="33048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H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55640" y="1413000"/>
            <a:ext cx="2803680" cy="35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5-12T04:14:17Z</dcterms:modified>
  <cp:revision>222</cp:revision>
  <dc:subject/>
  <dc:title>Presentación de PowerPoint</dc:title>
</cp:coreProperties>
</file>