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wmf" ContentType="image/x-wmf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0.jpeg" ContentType="image/jpeg"/>
  <Override PartName="/ppt/media/image17.wmf" ContentType="image/x-wmf"/>
  <Override PartName="/ppt/media/image15.jpeg" ContentType="image/jpeg"/>
  <Override PartName="/ppt/media/image18.jpeg" ContentType="image/jpeg"/>
  <Override PartName="/ppt/media/image21.wmf" ContentType="image/x-wmf"/>
  <Override PartName="/ppt/media/image1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iridianrepository.com/Enron/PostEnron.gif&amp;imgrefurl=http://www.viridianrepository.com/Enron/Enron.htm&amp;h=443&amp;w=676&amp;sz=16&amp;hl=es&amp;start=8&amp;tbnid=UCabmspiPg480M:&amp;tbnh=91&amp;tbnw=139&amp;prev=/images%3Fq%3DENRON%26svnum%3D10%26hl%3Des%26lr%3D%26sa%3DN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gpictures.com/resources/presskits/Enron/Enron5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magpictures.com/resources/presskits/Enron/Enron4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image" Target="../media/image12.jpe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magpictures.com/resources/presskits/Enron/Enron2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55640" y="4795920"/>
            <a:ext cx="2376360" cy="17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0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3556080" y="1268280"/>
            <a:ext cx="5253120" cy="5256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141300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PASO ES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 LAS INFLUENCIAS DE LA EMPRES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NADIE DE DIO CUEN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UEDE HABER ALGO EN LOS ESTADOS FINANCIER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QUIEBRA UNO DE LOS GRUPOS MAS GRANDES DEL MUN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O CON LAS NORMAS CONTAB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QUE PASO CON LAS EMPRESAS DE AUDITOR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2222640" cy="17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270080" y="2637000"/>
            <a:ext cx="150156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4941720"/>
            <a:ext cx="208944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8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556080" y="1268280"/>
            <a:ext cx="5253120" cy="5256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141300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UD., LO QUE ES CONTABILIZAR UN “VPP” O “MARKET TO MARKET ACCOUN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FALL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SABE UD., ALGO DE LA LEY SABARNES  - OXLE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POR QUE EN EE.UU. LAS QUIEBRAS AFECTAN TANTO LOS ASPECTOS PREVISIONALES DE LAS PERSONA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CUALES SON LAS MEDIDAS QUE SE TOMAR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QUE SIGUE EN ESTE CASO Y SUS IMPLICANCIA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55640" y="1268280"/>
            <a:ext cx="2087640" cy="15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973080" y="2349360"/>
            <a:ext cx="2230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86080"/>
            <a:ext cx="2651040" cy="266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38920" y="1484280"/>
            <a:ext cx="266544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7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556000" y="4292640"/>
            <a:ext cx="4249440" cy="23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3492360" y="1413000"/>
            <a:ext cx="22780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1773360"/>
            <a:ext cx="31147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3168720" cy="229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3168720" cy="237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132000" y="2060640"/>
            <a:ext cx="2462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384720" cy="254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148360" y="1413000"/>
            <a:ext cx="3456000" cy="252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132000" y="4149720"/>
            <a:ext cx="274320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516720" y="3716280"/>
            <a:ext cx="1733400" cy="30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826920" y="3789360"/>
            <a:ext cx="1479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EN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AA_lit_systemx4_Large"/>
          <p:cNvPicPr/>
          <p:nvPr/>
        </p:nvPicPr>
        <p:blipFill>
          <a:blip r:embed="rId3"/>
          <a:stretch/>
        </p:blipFill>
        <p:spPr>
          <a:xfrm>
            <a:off x="611280" y="1557360"/>
            <a:ext cx="3543120" cy="450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19640" y="1557360"/>
            <a:ext cx="3240000" cy="2255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724360" y="3933720"/>
            <a:ext cx="2257560" cy="25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21:06Z</dcterms:modified>
  <cp:revision>227</cp:revision>
  <dc:subject/>
  <dc:title>Presentación de PowerPoint</dc:title>
</cp:coreProperties>
</file>