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0CA8-BEA3-41E2-893A-29E804D5FA45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F2E9-5AE6-41B6-BE3F-7849534DF0DF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488B-CA2B-4D0B-B928-EECAF6B2121C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7D0D-7780-41F6-A76F-1B3D9999369E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EADF-71BF-42E6-B7B7-4678FCD76F23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8F6F-3901-4410-9B62-D953CC8A378B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0BD2-F0A6-4592-B093-AD0A8ACA3ED7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2F7A-0B26-48E9-BC51-260F479B63AF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1B49-B3FA-4EDA-B483-6362D60D7846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4C69-8447-4B00-BAF5-E0AA794FFBB9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3EEA-DF36-4B44-9278-2B71A7D9C4EB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0C3B-0D63-43F0-B47A-928441C2E958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106D-E7E7-4DE8-A99A-749FF0EE67E6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4596-B57A-4D65-A026-281859EB9CCA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C528-2597-4B6D-94AC-A2F0A7EBB4FA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A247-F920-4DC2-A2BC-2444BD6CC6E3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1E26-0CAD-4AA1-80CF-A33560E9CAAF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25A6-F764-4359-A45A-E647684EA78E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8280-6D93-459C-9F4B-E2F7E3D446DE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B34A-01A9-4C2B-9C93-1B802C702D7F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FCB4-66E2-4695-B86A-CB5FDE295AF5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1534-6732-4CE4-9D5C-FE31431B547C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D7DE-9730-4FC2-BA5E-0340BD3D014A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80E-6D91-48FA-BE60-DFD6D69D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F3E6-5403-4FCB-9741-0EE44F72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7B3-D289-4A98-AD96-B04E3409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8FA4-4CA3-4D82-B2FD-312AC5EC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72EA-1A18-4D8C-BBFA-B784B085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0020-130E-4268-B4AD-86F4834D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8B17-67AC-487F-AEC1-D64ECF37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576E-EAF8-4136-9A10-11AC6C86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175E-A3D2-474B-9128-9675B67C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15C3-A226-42B5-81F5-AB4D92F2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C321-0814-444B-B81E-BC54A230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3C7-69C9-49A8-A6B4-1555D38E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CE67-A654-49AF-A6B8-C9786F93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FF3B-6539-4FF9-A17F-0CE2F6CD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2453-F994-4F68-AE96-5BDC5939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5CFA-6981-4843-8AF2-5C130416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678A-883E-48A5-B5B9-7B16E9C6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198-E3E8-4543-B8DF-63A5A75C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A87A-0607-475E-8C12-B800FE0A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C33-93B3-4654-ADF2-CD9C056E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5CDA-B08D-455D-9F65-15393507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11D-ECA4-4B8E-8328-172CE93A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CB6-F317-4FE3-88D9-94A0B11E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BD0-C7C5-4BEF-B47B-1865F076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86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7643-7DAE-417B-8B52-3DB3D2EE225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114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AA27-A8A4-4F34-A967-286D76437E82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8B97-C3EF-4BAA-932E-0E135AC6A16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187280" y="692280"/>
            <a:ext cx="736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Algunos Consejos para hacer una buena Presentación 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14" descr="MPj04393450000[1]"/>
          <p:cNvPicPr/>
          <p:nvPr/>
        </p:nvPicPr>
        <p:blipFill>
          <a:blip r:embed="rId1"/>
          <a:stretch/>
        </p:blipFill>
        <p:spPr>
          <a:xfrm>
            <a:off x="2340000" y="1844640"/>
            <a:ext cx="48560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4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5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2F16-6710-48A7-B8E4-C2F4101F632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ahoma"/>
              </a:rPr>
              <a:t>La Forma (cont…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Si se está Senta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reclinarse sobre la mesa o sobre las ma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esconder las manos bajo la me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taparse la cara o la bo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 se está de pi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caminar demasiado de un lado al o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ampoco está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sentarse en la me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meterse las manos en los bolsill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839E-8184-44BD-86FC-EFF157AA7A9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583640" y="11764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Colaboración Gru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523880" y="1905120"/>
            <a:ext cx="717876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70c0"/>
                </a:solidFill>
                <a:uFillTx/>
                <a:latin typeface="Tahoma"/>
              </a:rPr>
              <a:t>Los compañeros de grupo deben dar colaboración al que exp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se debe ubicar al frente o al lado del que expone, nunca detrá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debe estár concentrado frente al que exp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nunca debe conversar ni preparar cosas de última h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no debe interrumpir al que exp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debe dar soporte al que expone. Movimientos de cabeza y una atenta mirada son recursos úti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2443-DDC8-40B5-B2F8-A29F9BCDD39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1201320" y="110016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Estructurando su pres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83808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51460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26708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172200" y="2590920"/>
            <a:ext cx="190512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34340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590920" y="4648320"/>
            <a:ext cx="1218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914400" y="464832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825840" y="262260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Saludo ini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511720" y="2590920"/>
            <a:ext cx="117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rop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resenta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4271760" y="2590920"/>
            <a:ext cx="12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ntroducció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al tem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248160" y="2666880"/>
            <a:ext cx="1826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resentación dividi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en partes o pun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2590560" y="464832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4343400" y="46483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Resume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s o pun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921960" y="4648320"/>
            <a:ext cx="129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nvitar a hac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consult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2057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3733920" y="2819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48640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24"/>
          <p:cNvSpPr/>
          <p:nvPr/>
        </p:nvSpPr>
        <p:spPr>
          <a:xfrm flipH="1">
            <a:off x="571500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25"/>
          <p:cNvSpPr/>
          <p:nvPr/>
        </p:nvSpPr>
        <p:spPr>
          <a:xfrm flipH="1">
            <a:off x="38098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7"/>
          <p:cNvSpPr/>
          <p:nvPr/>
        </p:nvSpPr>
        <p:spPr>
          <a:xfrm flipH="1">
            <a:off x="2209320" y="4876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FFBB-D5C2-4CB3-B032-04A43C3E9140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1395720" y="11764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rateg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584360" y="2487600"/>
            <a:ext cx="557856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ígale a la audiencia lo que les va a dec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ígase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ígale a la audiencia lo que les ha dich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9854-0D9F-4DB5-AD18-D8749800B09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306440" y="12524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020240" y="2292480"/>
            <a:ext cx="5622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cuerde: la primera impresión cuent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tonces muestre a la audiencia s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jores cualidades profesionales y huma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particula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uma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lu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plíc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A954-28BB-43A2-9A5D-C29EF63334D4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274760" y="12524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Saludo ini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07800" y="2139840"/>
            <a:ext cx="644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aludo inicial y pres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uenos días/tardes/no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ñora y señores, coleg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i nombre es .... Y soy el Gerente de 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oy quisiera (tomar nn minutos 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uestro tiempo para) presentarles el proyecto 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B563-505A-4FFF-924F-16F2276F005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1242360" y="125244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Introducción al 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279440" y="201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066680" y="1905120"/>
            <a:ext cx="746784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sent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e dividido mi presentación en nn partes/puntos     Punto 1, punto 2, punto 3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tienen aluna pregunta siéntanse en libertad de interrump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s preguntas prefiero contestarla al final para desarrollar el tema con continu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C0C4-9059-4D9D-8059-F77BFA6228D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026"/>
          <p:cNvSpPr/>
          <p:nvPr/>
        </p:nvSpPr>
        <p:spPr>
          <a:xfrm>
            <a:off x="1185120" y="125244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- Pres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027"/>
          <p:cNvSpPr/>
          <p:nvPr/>
        </p:nvSpPr>
        <p:spPr>
          <a:xfrm>
            <a:off x="1033920" y="1801800"/>
            <a:ext cx="6778080" cy="57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Para comenzar con el primer pu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ra comenzar me gustaría considerar..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imero que todo me gustaría darle una mirada a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imeramente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éjenme comenzar con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deas conecta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Para finalizar cada pu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ien, eso era lo que les iba a decir acerca d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r lo ta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 presentado corresponde al 1° punto d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6BE7-4DD9-47E6-92D0-2328662B491A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185120" y="125244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- Pres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721080" y="1878120"/>
            <a:ext cx="7191000" cy="54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Comenzando con un nuevo pu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hora iremos al siguiente punto / parte..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siguiente punto / parte que me gustaría desarrollar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hora examinaremos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deas conecta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Para finalizar cada pu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ien, eso era lo que les iba a decir acerca d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r lo tanto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 presentado corresponde al 1° punto d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35ED-D483-4873-B724-BED65DD275A2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203480" y="2014560"/>
            <a:ext cx="740700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tonces me gustaría resumir los principales puntos /te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n resumen de lo visto sería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capitulando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éjenme recapitular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58760" y="1176480"/>
            <a:ext cx="57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- Resumen de partes o pu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4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5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4E88-09B1-4C06-9930-20DDF388A3B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ahoma"/>
              </a:rPr>
              <a:t>Importancia de la Presentació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 presentación de un proyecto debe consider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n conteni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na pres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mbos factores son fundamentales para que el proyecto se aprob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particular, hacer una buena presentación explota no sólo factores técnicos sino humanos y de conocimiento personal de los involucr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y detalles que pueden ser muy importantes. Todo suma o resta en la consideración del inversor o de quién decida por la viabilidad de un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E630-D667-4903-8954-6D5CCCCE9732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1203480" y="2014560"/>
            <a:ext cx="740700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conclusión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tonces podemos concluir que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Fin de la pres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o sería todo lo que les quería presentar / decir por ah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 esto concluye mi pres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racias por su aten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015200" y="1176480"/>
            <a:ext cx="69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Conclusiones o fin de la pres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09B6-2989-4649-AF85-C31BB6DEF8E4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131120" y="117648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Consul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066680" y="1981080"/>
            <a:ext cx="740736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nvitación a hacer consul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Y ahora, si ustedes tienen alguna consulta, estaré atento / feliz a / de contestársel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lguna consulta?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3E77-E6B9-4838-BDF5-D2F40ECA47D5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1289520" y="1176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Presentación Escr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1219320" y="1981080"/>
            <a:ext cx="50101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umen Ejecutiv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tecedentes Prelimina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lan o política informát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3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formación histór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agnóst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vantamiento de la situación actu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do del arte y tendencias tecnológ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3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FO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3.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Intern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3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Exter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3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del problema y objet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3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el Problem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3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jetivos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ACB6-3405-4CA1-8CA6-D0B6A2C56603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1181880" y="117648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esentación Escr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219320" y="1981080"/>
            <a:ext cx="50101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as de solu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ión sobre el  contex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ejoramiento de la Situación Actu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3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de alternativas de solu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4          Preselección de alternativa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5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ción de costos y benefici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5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st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5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enefici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6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valuación económ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7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lan de Activi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8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uentes de Informació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6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6E13-11A5-41C7-AA02-54E640265FA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ahoma"/>
              </a:rPr>
              <a:t>Un pequeño detalle puede hacer la diferenci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"/>
          <p:cNvPicPr/>
          <p:nvPr/>
        </p:nvPicPr>
        <p:blipFill>
          <a:blip r:embed="rId2"/>
          <a:stretch/>
        </p:blipFill>
        <p:spPr>
          <a:xfrm>
            <a:off x="6199200" y="1844640"/>
            <a:ext cx="2790720" cy="2095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3"/>
          <a:stretch/>
        </p:blipFill>
        <p:spPr>
          <a:xfrm>
            <a:off x="6210360" y="4194000"/>
            <a:ext cx="2779560" cy="1810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4"/>
          <a:stretch/>
        </p:blipFill>
        <p:spPr>
          <a:xfrm>
            <a:off x="2700360" y="1844640"/>
            <a:ext cx="33544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4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5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5F28-21B6-4AAC-9ED0-A3A714292A5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ahoma"/>
              </a:rPr>
              <a:t>Planificación Gener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ener claro los objetivos de la Pres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ocimientos del 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quiere inducir a discusió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quiere inducir a pregun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rategias. Tipo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ocimiento de la audiencia. Lenguaje. Respetar las jerarquí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tiempo de la exposi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veriguar el tiempo recomend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no existe, planificar un tiempo razonable que permita entregar el mensaje claramente, sin aburrir y sin atosi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presentará una síntesis, no todo el trabajo. Los datos expuestos deben ser los necesarios para entender de qué se está hablando… ni más, ni me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ora de in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4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5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C76E-C112-48A6-8DC7-97FE3DE856B0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ahoma"/>
              </a:rPr>
              <a:t>Planificación General (Cont…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187280" y="2205000"/>
            <a:ext cx="698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medio y el documento a presen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izarra, transparencia, pantalla, resum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porte en papel y medios magnético (respaldo). Conocimiento en el uso de los medi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sentación. Ortograf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F2D6-19CE-44BA-AD8F-F8B0C8253235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56120" y="117648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pers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126800" y="1752480"/>
            <a:ext cx="64472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ahoma"/>
              </a:rPr>
              <a:t>Es recomendable un estilo sob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de fiesta ni de fin de semana en la play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agen pers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s colores son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na presentación acorde con la oca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ugar, época del año, Clima, Solemnidad, Audi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8" descr="PE01000_"/>
          <p:cNvPicPr/>
          <p:nvPr/>
        </p:nvPicPr>
        <p:blipFill>
          <a:blip r:embed="rId1"/>
          <a:stretch/>
        </p:blipFill>
        <p:spPr>
          <a:xfrm>
            <a:off x="1143000" y="4267080"/>
            <a:ext cx="1089000" cy="1820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BD05584_"/>
          <p:cNvPicPr/>
          <p:nvPr/>
        </p:nvPicPr>
        <p:blipFill>
          <a:blip r:embed="rId2"/>
          <a:stretch/>
        </p:blipFill>
        <p:spPr>
          <a:xfrm>
            <a:off x="6781680" y="4267080"/>
            <a:ext cx="1370160" cy="1828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PE01023_"/>
          <p:cNvPicPr/>
          <p:nvPr/>
        </p:nvPicPr>
        <p:blipFill>
          <a:blip r:embed="rId3"/>
          <a:stretch/>
        </p:blipFill>
        <p:spPr>
          <a:xfrm>
            <a:off x="2590920" y="4191120"/>
            <a:ext cx="1330200" cy="208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BD06784_"/>
          <p:cNvPicPr/>
          <p:nvPr/>
        </p:nvPicPr>
        <p:blipFill>
          <a:blip r:embed="rId4"/>
          <a:stretch/>
        </p:blipFill>
        <p:spPr>
          <a:xfrm>
            <a:off x="4495680" y="4572000"/>
            <a:ext cx="1524240" cy="1409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PE01838_"/>
          <p:cNvPicPr/>
          <p:nvPr/>
        </p:nvPicPr>
        <p:blipFill>
          <a:blip r:embed="rId5"/>
          <a:stretch/>
        </p:blipFill>
        <p:spPr>
          <a:xfrm>
            <a:off x="6781680" y="2666880"/>
            <a:ext cx="1351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6F93-0C7A-47E2-A0CA-B06E85B48F16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582920" y="117648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La Actitu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619280" y="1793880"/>
            <a:ext cx="656892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ahoma"/>
              </a:rPr>
              <a:t>Mostrar una actitud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Tahoma"/>
              </a:rPr>
              <a:t>segura y sere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titubear o hablar con voz tirito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blar con voz fuerte (sin grita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blar con voz segura (sin titubea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blar con voz clara (sin modism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70c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70c0"/>
                </a:solidFill>
                <a:uFillTx/>
                <a:latin typeface="Tahoma"/>
              </a:rPr>
              <a:t>Mostrar Seguridad     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70c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70c0"/>
                </a:solidFill>
                <a:uFillTx/>
                <a:latin typeface="Tahoma"/>
              </a:rPr>
              <a:t>Lograr Confianza       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70c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70c0"/>
                </a:solidFill>
                <a:uFillTx/>
                <a:latin typeface="Tahoma"/>
              </a:rPr>
              <a:t>Mostrar tranquilidad 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4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5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41FC-9A6C-43E6-9394-BD957A134ED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La Actitud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0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 presentación debe ser entretenida, dinámica. Tener el total convencimiento del proyecto que se pres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azonablemente lento o por lo menos no tan rápi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 la sensación de importancia respecto de lo que uno está hablando. Hacer sentir a la audiencia la importancia del 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uidado con la improvisación de respuestas, que se pueden pagar caro al mediano o largo plazo. El prestigio profesional hay que cuidar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C965-DDD1-4D87-B75A-747DA0D7C6DA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588320" y="1252440"/>
            <a:ext cx="50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La Forma en términos gener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523880" y="2166840"/>
            <a:ext cx="67820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gesticular demasi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determinados momentos llamar la atención con cambios de tono o indicación con punteros y ma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mirar al sue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irar a los ojos a la audi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poyarse en alguno que esté concentrado. No sobre explotar este recur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 posible apoyarse en una mesa para descansar un poco. No sobre explotar este recur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1T16:19:31Z</dcterms:created>
  <dc:creator/>
  <dc:description/>
  <dc:language>en-US</dc:language>
  <cp:lastModifiedBy>Gonzalez</cp:lastModifiedBy>
  <dcterms:modified xsi:type="dcterms:W3CDTF">2012-10-04T14:49:33Z</dcterms:modified>
  <cp:revision>41</cp:revision>
  <dc:subject/>
  <dc:title>Presentación de PowerPoint</dc:title>
</cp:coreProperties>
</file>