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962A-36D0-408A-A861-14684C211FD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4CC-D450-4744-9779-BFEF390B9F2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0C2-4D37-47FA-AA5B-6E5C2DA4FD47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3EA-A031-49EF-BEAE-E76107CF1C5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5041-EC21-4889-9C0C-2B53216C3F1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D4C9-93BE-46A5-B9EA-56CB915D4C7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EB3-0FB9-432C-B782-AB6EDE06B70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82D0-CB7C-41ED-8B7E-A0E59086354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50E5-A77D-4931-B7EE-C4C15A82FB00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C9EA-B3EF-4EF4-8EBF-F1320128B4C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718F-4D9B-4924-8C40-FFBE00C33EF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C849-E2F6-4BA4-9324-409B6F90FD7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0BB9-8C17-453D-B0BA-CB0CE396B4F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C471-A82C-4AFC-ACAE-D907CF6B750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8E10-DC09-4F52-9069-ACE6AB3E919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5DAC-4DF4-4DC6-B09D-B9FDEB20147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F56-6CC9-4035-8FA4-B67D47BC86B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3A43-F935-4C39-B6A0-AAD0FFF0C110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6B31-A82C-4432-B8B3-4E06CD2F4A5D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8D9-137E-46F0-B5B3-4D631816E9E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006E-29D7-4DEF-8471-0E6ACF878C0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55A3-FC89-4BBE-BABF-E84308E601AF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A71-7AD5-4962-9C4C-538654B60062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001-76BE-46BD-8A9C-C3C3E174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8A1-A89C-4416-A964-3D9D050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5B1-5A82-4132-912B-A6061862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38F-A7D8-48B5-9B0E-0B784F39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A9DA-CE91-43FC-A78C-459F8A0D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4435-3BE6-42DA-8FD8-21261484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DE3C-DDB3-4B1C-8704-2652CBDB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0E8F-C449-4DAF-92F8-58B3DE24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975-AAEB-4D1F-BCD7-CB8883B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E269-5B0F-4372-AE77-5F960231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A43D-D6C6-4909-841B-0BA49690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C51-F3DC-4B06-92B3-A76F307A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3C17-BEA9-41FB-B6D9-FB2FE21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D4DC-E854-49D6-813E-B2F9ED9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AEC0-2275-444E-B812-A24E5657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F583-28E7-4E39-8265-6F00F99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6A5D-74D0-4F42-887B-6884C377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674-5F17-46C1-B30C-BB1565DD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2AC-E560-43F3-A124-61FA6FF7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B63-2690-4231-8F47-3519E5D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11D-AD18-4531-97E8-8BC8A1C5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600-CDFA-44B0-8293-F749281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938-0A75-4E17-B779-6D13C8A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BC9-B9DE-478D-916D-A4399D9B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F60-BB78-4891-B6CE-77ADFB693B9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6787-5888-48AA-9193-12E8980600F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5BF6-B2E7-4E67-9DC4-948826A2C56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187280" y="692280"/>
            <a:ext cx="736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Algunos Consejos para hacer una buena Presentación 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14" descr="MPj04393450000[1]"/>
          <p:cNvPicPr/>
          <p:nvPr/>
        </p:nvPicPr>
        <p:blipFill>
          <a:blip r:embed="rId1"/>
          <a:stretch/>
        </p:blipFill>
        <p:spPr>
          <a:xfrm>
            <a:off x="2340000" y="1844640"/>
            <a:ext cx="4856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8D67-6770-4BFB-9E82-7BE7B8710E5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La Forma (cont…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 se está Senta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reclinarse sobre la mesa o sobre las ma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esconder las manos bajo la m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aparse la cara o la bo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 se está de pi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caminar demasiado de un lado al o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mpoco está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sentarse en la m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eterse las manos en los bolsil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C647-5D0A-4266-9B75-81163D0524E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583640" y="1176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laboración Gru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3880" y="1905120"/>
            <a:ext cx="7178760" cy="48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70c0"/>
                </a:solidFill>
                <a:uFillTx/>
                <a:latin typeface="Tahoma"/>
              </a:rPr>
              <a:t>Los compañeros de grupo deben dar colaboración al que exp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se debe ubicar al frente o al lado del que expone, nunca detrá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estár concentrado frente al que exp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unca debe conversar ni preparar cosas de últim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o debe interrumpir al que exp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dar soporte al que expone. Movimientos de cabeza y una atenta mirada son recursos út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925-79F1-4C45-ACF1-ECFD46B156F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201320" y="110016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ructurando su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838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51460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267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172200" y="2590920"/>
            <a:ext cx="19051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343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90920" y="46483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91440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825840" y="26226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Saludo ini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51172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op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271760" y="259092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troduc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al te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248160" y="2666880"/>
            <a:ext cx="1826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 dividi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n partes o pu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590560" y="46483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4343400" y="4648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sume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s o pu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921960" y="4648320"/>
            <a:ext cx="129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vitar a ha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sult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48640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4"/>
          <p:cNvSpPr/>
          <p:nvPr/>
        </p:nvSpPr>
        <p:spPr>
          <a:xfrm flipH="1">
            <a:off x="57150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5"/>
          <p:cNvSpPr/>
          <p:nvPr/>
        </p:nvSpPr>
        <p:spPr>
          <a:xfrm flipH="1">
            <a:off x="38098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7"/>
          <p:cNvSpPr/>
          <p:nvPr/>
        </p:nvSpPr>
        <p:spPr>
          <a:xfrm flipH="1">
            <a:off x="22093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A7F-560A-46B2-8857-8DD5454481C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1395720" y="1176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84360" y="2487600"/>
            <a:ext cx="55785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va a de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se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ha di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B4C-2790-4D5F-9CD4-5C9430B3E66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06440" y="125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20240" y="2292480"/>
            <a:ext cx="5622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uerde: la primera impresión cuent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uestre a la audiencia s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jores cualidades profesionales y huma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l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líc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7CBC-3437-4D6F-BC24-6E230506D6E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274760" y="12524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Saludo ini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207800" y="2139840"/>
            <a:ext cx="644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ludo inicial y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enos días/tardes/no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ñora y señores, coleg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 nombre es .... Y soy el Gerente de 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 quisiera (tomar nn minutos 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uestro tiempo para) presentarles el proyecto 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7BB1-CC47-4BCF-841E-C918B13E810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1242360" y="12524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Introducción al 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279440" y="20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905120"/>
            <a:ext cx="74678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e dividido mi presentación en nn partes/puntos     Punto 1, punto 2, punto 3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tienen aluna pregunta siéntanse en libertad de interrump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s preguntas prefiero contestarla al final para desarrollar el tema con continu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DE1-914B-4CDC-A9E5-9FCB7D1CC68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026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027"/>
          <p:cNvSpPr/>
          <p:nvPr/>
        </p:nvSpPr>
        <p:spPr>
          <a:xfrm>
            <a:off x="1033920" y="1801800"/>
            <a:ext cx="677808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comenzar con el primer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comenzar me gustaría considerar.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o que todo me gustaría darle una mirada a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amente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comenzar con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3F4C-DFAF-4EF2-9492-E5B2C187EA1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21080" y="1878120"/>
            <a:ext cx="719100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enzando con un nuevo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iremos al siguiente punto / parte..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siguiente punto / parte que me gustaría desarrollar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examinaremos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8BD-5ABC-4A8D-BBE5-68929E30CD7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203480" y="2014560"/>
            <a:ext cx="74070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e gustaría resumir los principales puntos /t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resumen de lo visto sería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apitulando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recapitular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58760" y="117648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Resumen de partes o pu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8E08-ADB3-4CC9-BB46-C9386582A3F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Importancia de la Present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resentación de un proyecto debe consider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conten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mbos factores son fundamentales para que el proyecto se aprob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, hacer una buena presentación explota no sólo factores técnicos sino humanos y de conocimiento personal de los involucr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y detalles que pueden ser muy importantes. Todo suma o resta en la consideración del inversor o de quién decida por la viabilidad de u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96D-AFA2-4B16-9ECE-FE5F9E9DE1D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203480" y="2014560"/>
            <a:ext cx="74070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nclusión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podemos concluir que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Fin de la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o sería todo lo que les quería presentar / decir por a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 esto concluye mi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racias por su aten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15200" y="117648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clusiones o fin de la pres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51F-B580-4A29-978F-761C3A5D25C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131120" y="117648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sul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066680" y="1981080"/>
            <a:ext cx="74073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vitación a hacer consul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hora, si ustedes tienen alguna consulta, estaré atento / feliz a / de contestársel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lguna consulta?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2577-30BA-4331-A34B-67D1218C7DF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1289520" y="1176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219320" y="1981080"/>
            <a:ext cx="5010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tecedentes Prelimina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o política informát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formación histór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vantamiento de la situación ac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 del arte y tendencias tecnológ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FO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Intern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Exter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l problema y obje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el Proble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7EEE-7BE5-4BC8-A44E-9A4C0C82E26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1181880" y="1176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219320" y="1981080"/>
            <a:ext cx="5010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as de sol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ión sobre el  contex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joramiento de la Situación Actu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 alternativas de solu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4          Preselección de alternativa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ción de costos y benefici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enefici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ción económ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 de Informació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6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6D5B-4062-4E44-9C8B-4185D2FC52C5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Un pequeño detalle puede hacer la diferenci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6199200" y="1844640"/>
            <a:ext cx="27907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6210360" y="4194000"/>
            <a:ext cx="2779560" cy="181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4"/>
          <a:stretch/>
        </p:blipFill>
        <p:spPr>
          <a:xfrm>
            <a:off x="2700360" y="1844640"/>
            <a:ext cx="3354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1B2C-601B-4EC4-A824-2C344D25DBF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Tahoma"/>
              </a:rPr>
              <a:t>Planificación Gener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er claro los objetivos de la Pres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ocimientos del 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quiere inducir a discus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quiere inducir a pregun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rategias. Tipo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ocimiento de la audiencia. Lenguaje. Respetar las jerarquí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tiempo de la exposi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veriguar el tiempo recomend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no existe, planificar un tiempo razonable que permita entregar el mensaje claramente, sin aburrir y sin atosi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esentará una síntesis, no todo el trabajo. Los datos expuestos deben ser los necesarios para entender de qué se está hablando… ni más, ni m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ra de in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CE8-AD2E-4312-B606-C5FE3663FF4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ahoma"/>
              </a:rPr>
              <a:t>Planificación General (Cont…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87280" y="220500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medio y el documento a pres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izarra, transparencia, pantalla, res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porte en papel y medios magnético (respaldo). Conocimiento en el uso de los medi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. Ortograf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9B0-B977-434B-B4D5-635EC28E858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56120" y="1176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pers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126800" y="1752480"/>
            <a:ext cx="64472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Es recomendable un estilo sob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de fiesta ni de fin de semana en la play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agen pers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colores son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 acorde con la oca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, época del año, Clima, Solemnidad, Aud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PE01000_"/>
          <p:cNvPicPr/>
          <p:nvPr/>
        </p:nvPicPr>
        <p:blipFill>
          <a:blip r:embed="rId1"/>
          <a:stretch/>
        </p:blipFill>
        <p:spPr>
          <a:xfrm>
            <a:off x="1143000" y="426708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BD05584_"/>
          <p:cNvPicPr/>
          <p:nvPr/>
        </p:nvPicPr>
        <p:blipFill>
          <a:blip r:embed="rId2"/>
          <a:stretch/>
        </p:blipFill>
        <p:spPr>
          <a:xfrm>
            <a:off x="6781680" y="4267080"/>
            <a:ext cx="137016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PE01023_"/>
          <p:cNvPicPr/>
          <p:nvPr/>
        </p:nvPicPr>
        <p:blipFill>
          <a:blip r:embed="rId3"/>
          <a:stretch/>
        </p:blipFill>
        <p:spPr>
          <a:xfrm>
            <a:off x="2590920" y="41911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BD06784_"/>
          <p:cNvPicPr/>
          <p:nvPr/>
        </p:nvPicPr>
        <p:blipFill>
          <a:blip r:embed="rId4"/>
          <a:stretch/>
        </p:blipFill>
        <p:spPr>
          <a:xfrm>
            <a:off x="4495680" y="45720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PE01838_"/>
          <p:cNvPicPr/>
          <p:nvPr/>
        </p:nvPicPr>
        <p:blipFill>
          <a:blip r:embed="rId5"/>
          <a:stretch/>
        </p:blipFill>
        <p:spPr>
          <a:xfrm>
            <a:off x="6781680" y="2666880"/>
            <a:ext cx="135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925-3677-4C02-BCA6-9294815C96C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582920" y="11764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19280" y="1793880"/>
            <a:ext cx="656892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Mostrar una actitud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Tahoma"/>
              </a:rPr>
              <a:t>segura y ser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itubear o hablar con voz tirito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fuerte (sin grit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segura (sin titubea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clara (sin modism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Mostrar Seguridad     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Lograr Confianza       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70c0"/>
                </a:solidFill>
                <a:uFillTx/>
                <a:latin typeface="Tahoma"/>
              </a:rPr>
              <a:t>Mostrar tranquilidad 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4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5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8159-1244-43D6-84A1-8FBA7C019B2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presentación debe ser entretenida, dinámica. Tener el total convencimiento del proyecto que se pres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zonablemente lento o por lo menos no tan ráp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 la sensación de importancia respecto de lo que uno está hablando. Hacer sentir a la audiencia la importancia del 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idado con la improvisación de respuestas, que se pueden pagar caro al mediano o largo plazo. El prestigio profesional hay que cuidar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2 Marcador de pie de página"/>
          <p:cNvSpPr/>
          <p:nvPr/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blo González J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925-E5E1-4075-AEC8-A80C9AE627B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588320" y="125244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Forma en términos gene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3880" y="2166840"/>
            <a:ext cx="67820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gesticular demasi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determinados momentos llamar la atención con cambios de tono o indicación con punteros y ma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irar al sue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rar a los ojos a la aud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arse en alguno que esté concentrado. No sobre explotar est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 posible apoyarse en una mesa para descansar un poco. No sobre explotar est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6:19:31Z</dcterms:created>
  <dc:creator/>
  <dc:description/>
  <dc:language>en-US</dc:language>
  <cp:lastModifiedBy>Gonzalez</cp:lastModifiedBy>
  <dcterms:modified xsi:type="dcterms:W3CDTF">2012-10-04T14:49:33Z</dcterms:modified>
  <cp:revision>41</cp:revision>
  <dc:subject/>
  <dc:title>Presentación de PowerPoint</dc:title>
</cp:coreProperties>
</file>