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E15-4AD2-4AAA-8B43-1525B626AA4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A6C-4014-4784-BDB1-AFA5FA287EA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B396-6B96-4A39-903E-46DCBE3C332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9DE3-3A24-4755-BA50-445F7A5B37BE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B69-68D1-4CE6-88FB-421CA9154E8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988-CF79-4C87-AE8F-226139E10F2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EB0-594C-4628-A465-ED969D8B160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1E0-3C97-4EA3-9B98-B644BFD2401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6336-85F5-4FF2-828B-D9A9A89E4027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50D-98C4-4EB8-BC24-DA56B16A976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5AE-AEB6-4BE9-BAC4-49407CB9740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BC64-5A40-4385-83DB-DD9A2B6BD1D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FB4-FD68-40AE-AEF0-78CACBD16B6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7C1-7840-44CE-B652-94F5A50E9DA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68D-6E85-44C3-B343-AA6870CFB59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112-FB04-4FF2-AAD0-3AD154E5B7E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E69-B97B-4335-83D3-7B8E88BAC8D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7B1B-A336-422E-B561-ABC8A339C24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C82-89B2-46A0-9A27-5FE06107118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EB71-6BCD-45D7-9C0A-5A8EC9C2F4D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2926-0884-4956-9AFB-04064457EB5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A517-C375-4B7A-8CF2-426EC21B4CF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E877-6CB9-48DC-9BA5-CCB35B51455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FD2-ED52-4716-B62B-CFCE63CC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93E-0E8A-4DCC-8158-14CBD2B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A82-3F17-464B-9F0A-7AA5E28C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804-02CF-4406-AFBE-14E1BCBB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322-8638-4BF6-AE1E-DA89AF0C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613-BB27-4679-AC11-4800BDE3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EF0F-5A8D-4183-9A97-4C78DEC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86E2-9570-4DE3-8AC1-CA02EC74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F74-C44C-4BD1-AAAF-6464439E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85D-9855-4DD7-94F9-B9538C76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CEE7-D138-4F26-8253-ACCD466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C33-4484-4B47-8B5B-B3B90E3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9413-07E8-4C3F-ADA9-EA977005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095-8ECF-48B4-BB86-CACD822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024-55E3-4B05-AB27-A091E94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C1E9-25AE-4F8B-81E4-7F4C1C53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58A-B9BE-4C2E-9F5C-E1E0CDF5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75F-5418-4097-8A04-26C12D2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F43-22FF-4F9D-8419-82BDA2CC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5E6-AA40-4135-9F52-97F80ED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1F8-A728-41A0-BCBF-250B2646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4FA-8D83-493B-B91C-4D6B576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FFA-E336-45C3-827B-DE1A784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A24-C1A5-42B3-B4CF-F535D01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FF2-321E-4EB4-9C6E-ED8E203B54C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C76-A4B9-4063-99C5-DAD92F0128C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DB7-244F-4859-8D96-4788D005C78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187280" y="692280"/>
            <a:ext cx="73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lgunos Consejos para hacer una buena Presentación 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4" descr="MPj04393450000[1]"/>
          <p:cNvPicPr/>
          <p:nvPr/>
        </p:nvPicPr>
        <p:blipFill>
          <a:blip r:embed="rId1"/>
          <a:stretch/>
        </p:blipFill>
        <p:spPr>
          <a:xfrm>
            <a:off x="2340000" y="1844640"/>
            <a:ext cx="4856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972C-B774-48F1-BB96-82288901AD5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La Forma (cont…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 se está Senta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reclinarse sobre la mesa o sobre las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esconder las manos bajo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aparse la cara o la bo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se está de p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caminar demasiado de un lado al o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mpoco está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sentarse en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eterse las manos en los bolsil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42E-ED0B-4572-B4D4-BA39DDC1336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583640" y="1176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laboración Gru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3880" y="1905120"/>
            <a:ext cx="717876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70c0"/>
                </a:solidFill>
                <a:uFillTx/>
                <a:latin typeface="Tahoma"/>
              </a:rPr>
              <a:t>Los compañeros de grupo deben dar colaboración al que exp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se debe ubicar al frente o al lado del que expone, nunca detrá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estár concentrado frente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unca debe conversar ni preparar cosas de últim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o debe interrumpir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dar soporte al que expone. Movimientos de cabeza y una atenta mirada son recursos út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FC9-0E8A-487A-961E-4B00C871CA4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201320" y="110016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ructurando su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51460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267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172200" y="2590920"/>
            <a:ext cx="19051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343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90920" y="46483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91440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825840" y="26226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Saludo ini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51172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271760" y="259092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trodu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al 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248160" y="2666880"/>
            <a:ext cx="182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 divid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n 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590560" y="4648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4343400" y="4648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sume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921960" y="4648320"/>
            <a:ext cx="129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vitar a ha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sult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57150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5"/>
          <p:cNvSpPr/>
          <p:nvPr/>
        </p:nvSpPr>
        <p:spPr>
          <a:xfrm flipH="1">
            <a:off x="38098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7"/>
          <p:cNvSpPr/>
          <p:nvPr/>
        </p:nvSpPr>
        <p:spPr>
          <a:xfrm flipH="1">
            <a:off x="22093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23B2-854E-416F-8DB3-6A0AF44E183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95720" y="1176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84360" y="2487600"/>
            <a:ext cx="55785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va a de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s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ha di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163-6578-45B5-BC26-7CFD6C1F318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06440" y="125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20240" y="2292480"/>
            <a:ext cx="562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uerde: la primera impresión cuen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uestre a la audiencia s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jores cualidades profesionales y hu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l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líc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1C5-9F70-410D-BCCB-B20D501589D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274760" y="1252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Saludo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07800" y="2139840"/>
            <a:ext cx="644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ludo inicial y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enos días/tardes/no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ñora y señores, col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 nombre es .... Y soy el Gerente de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 quisiera (tomar nn minutos 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uestro tiempo para) presentarles el proyecto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3D45-1A61-4CA6-8321-E9B92173FF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242360" y="12524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Introducción al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27944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905120"/>
            <a:ext cx="74678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e dividido mi presentación en nn partes/puntos     Punto 1, punto 2, punto 3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tienen aluna pregunta siéntanse en libertad de interrump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preguntas prefiero contestarla al final para desarrollar el tema con continu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244-C83A-4C54-923D-0C427CAB8CE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26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027"/>
          <p:cNvSpPr/>
          <p:nvPr/>
        </p:nvSpPr>
        <p:spPr>
          <a:xfrm>
            <a:off x="1033920" y="1801800"/>
            <a:ext cx="677808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comenzar con el primer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comenzar me gustaría considerar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o que todo me gustaría darle una mirada a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ament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comenzar co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17B-84C2-44F3-9A3E-947DE59DFB7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21080" y="1878120"/>
            <a:ext cx="719100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enzando con un nuevo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iremos al siguiente punto / parte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siguiente punto / parte que me gustaría desarrollar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examinaremos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31A-3D9A-4290-9518-8A4D6231458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203480" y="2014560"/>
            <a:ext cx="74070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e gustaría resumir los principales puntos /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resumen de lo visto sería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apitulando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recapitular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58760" y="117648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Resumen de partes o pu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DA9E-1F61-43A3-BE75-C2306170F61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Importancia de la Present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 un proyecto debe consider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conten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factores son fundamentales para que el proyecto se aprob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, hacer una buena presentación explota no sólo factores técnicos sino humanos y de conocimiento personal de los involucr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y detalles que pueden ser muy importantes. Todo suma o resta en la consideración del inversor o de quién decida por la viabilidad de u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F74-328B-4DF3-99D1-0BA9DDD542B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203480" y="2014560"/>
            <a:ext cx="74070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nclusió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podemos concluir qu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Fin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o sería todo lo que les quería presentar / decir por a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 esto concluye mi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racias por su aten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15200" y="117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clusiones o fin de la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5207-4E8C-46CC-9D62-698B5BB8569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31120" y="117648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sul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066680" y="1981080"/>
            <a:ext cx="74073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vitación a hacer consul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hora, si ustedes tienen alguna consulta, estaré atento / feliz a / de contestársel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guna consulta?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CE7-2CB5-4F48-8EC5-9541C603712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289520" y="1176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219320" y="1981080"/>
            <a:ext cx="501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tecedentes Prelimina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o política informát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ción histó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vant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 del arte y tendencias tecnológ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FO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Intern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Exter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l problema y obje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el Proble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BC3-0F7F-420B-AFA8-E1B987052A4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81880" y="1176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219320" y="1981080"/>
            <a:ext cx="5010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ión sobre el  contex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jor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 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4          Preselección de alternativ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ción de costos y 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ción econó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 de Informació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6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7419-BEC6-455E-A61D-26A8A5D355E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Un pequeño detalle puede hacer la diferenc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6199200" y="1844640"/>
            <a:ext cx="27907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6210360" y="4194000"/>
            <a:ext cx="2779560" cy="18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4"/>
          <a:stretch/>
        </p:blipFill>
        <p:spPr>
          <a:xfrm>
            <a:off x="2700360" y="1844640"/>
            <a:ext cx="335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983-394B-4ABE-9A96-485912D92F4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Planificación Gener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r claro los objetivos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s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discus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pregun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rategias. Tipo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 de la audiencia. Lenguaje. Respetar las jerarquí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tiempo de la expos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eriguar el tiempo recomend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no existe, planificar un tiempo razonable que permita entregar el mensaje claramente, sin aburrir y sin atosi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esentará una síntesis, no todo el trabajo. Los datos expuestos deben ser los necesarios para entender de qué se está hablando… ni más, ni m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ra de in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9115-E779-40C0-A6B8-8F102062AE5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ahoma"/>
              </a:rPr>
              <a:t>Planificación General (Cont…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87280" y="220500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dio y el documento a pres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izarra, transparencia, pantalla, res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porte en papel y medios magnético (respaldo). Conocimiento en el uso de los medi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. Ortograf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33CC-2581-4DA9-B044-C3EB70C0EE8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56120" y="1176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126800" y="1752480"/>
            <a:ext cx="64472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Es recomendable un estilo sob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de fiesta ni de fin de semana en la play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agen pers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colores son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 acorde con la oca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, época del año, Clima, Solemnidad, Aud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PE01000_"/>
          <p:cNvPicPr/>
          <p:nvPr/>
        </p:nvPicPr>
        <p:blipFill>
          <a:blip r:embed="rId1"/>
          <a:stretch/>
        </p:blipFill>
        <p:spPr>
          <a:xfrm>
            <a:off x="1143000" y="426708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BD05584_"/>
          <p:cNvPicPr/>
          <p:nvPr/>
        </p:nvPicPr>
        <p:blipFill>
          <a:blip r:embed="rId2"/>
          <a:stretch/>
        </p:blipFill>
        <p:spPr>
          <a:xfrm>
            <a:off x="6781680" y="4267080"/>
            <a:ext cx="13701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PE01023_"/>
          <p:cNvPicPr/>
          <p:nvPr/>
        </p:nvPicPr>
        <p:blipFill>
          <a:blip r:embed="rId3"/>
          <a:stretch/>
        </p:blipFill>
        <p:spPr>
          <a:xfrm>
            <a:off x="2590920" y="41911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BD06784_"/>
          <p:cNvPicPr/>
          <p:nvPr/>
        </p:nvPicPr>
        <p:blipFill>
          <a:blip r:embed="rId4"/>
          <a:stretch/>
        </p:blipFill>
        <p:spPr>
          <a:xfrm>
            <a:off x="4495680" y="45720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PE01838_"/>
          <p:cNvPicPr/>
          <p:nvPr/>
        </p:nvPicPr>
        <p:blipFill>
          <a:blip r:embed="rId5"/>
          <a:stretch/>
        </p:blipFill>
        <p:spPr>
          <a:xfrm>
            <a:off x="6781680" y="2666880"/>
            <a:ext cx="135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C62-7281-4619-A29D-6C801C7A4EC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582920" y="1176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19280" y="1793880"/>
            <a:ext cx="656892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Mostrar una actitud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Tahoma"/>
              </a:rPr>
              <a:t>segura y ser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itubear o hablar con voz tirito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fuerte (sin grit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segura (sin titube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clara (sin modism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Seguridad     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Lograr Confianza      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tranquilidad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573B-CDA7-4CCA-BF17-CC3332E89B3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be ser entretenida, dinámica. Tener el total convencimiento del proyecto que se pres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zonablemente lento o por lo menos no tan ráp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 la sensación de importancia respecto de lo que uno está hablando. Hacer sentir a la audiencia la importancia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idado con la improvisación de respuestas, que se pueden pagar caro al mediano o largo plazo. El prestigio profesional hay que cuidar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283-5901-4D82-8EAF-10952B0DB19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588320" y="125244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Forma en términos gene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3880" y="2166840"/>
            <a:ext cx="67820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gesticular demas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determinados momentos llamar la atención con cambios de tono o indicación con punteros y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irar al su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rar a los ojos a la aud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rse en alguno que esté concentrad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posible apoyarse en una mesa para descansar un poc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6:19:31Z</dcterms:created>
  <dc:creator/>
  <dc:description/>
  <dc:language>en-US</dc:language>
  <cp:lastModifiedBy>Gonzalez</cp:lastModifiedBy>
  <dcterms:modified xsi:type="dcterms:W3CDTF">2012-10-04T14:49:33Z</dcterms:modified>
  <cp:revision>41</cp:revision>
  <dc:subject/>
  <dc:title>Presentación de PowerPoint</dc:title>
</cp:coreProperties>
</file>