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8B0B-C8F4-44B5-9C77-2F6F0C1A625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BC6A-908B-4CEC-A71B-504B9D4BE3F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87FC-60F9-4464-82DA-899DF6DE75F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B89F-1F21-4E27-A942-295BC1ECFF0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BD2A-04E8-48ED-8B96-CEE818B5B2D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884D4-9476-4780-921A-8ABF18F1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409EE-B7D1-4196-8AA7-18C6BF5E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045F6-4D74-40A3-BFD6-EFD32CA0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92377-3E0E-4ED3-B2DA-4A9D1C1A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15BC7-BC45-4695-AF90-FA798580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CB1BD-7414-4CF9-8776-F64DC32E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5B415-8AEB-4BBE-AAE0-13E2E23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32654-FE29-41D4-9FB3-825C47F4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CE4B8-AF34-41CF-8768-C20B523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81363-DCC7-435A-84FC-4BA96764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D7916-D71F-4E6B-90CA-4036FC2A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6EC0B-620B-4132-8E68-3E8D60A6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4360" y="623700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E151-422F-4F2E-8D4E-D8BEB6353F1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97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6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37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51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3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71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73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toshiba</dc:creator>
  <dc:description/>
  <dc:language>en-US</dc:language>
  <cp:lastModifiedBy>toshiba</cp:lastModifiedBy>
  <dcterms:modified xsi:type="dcterms:W3CDTF">2010-06-17T23:09:50Z</dcterms:modified>
  <cp:revision>8</cp:revision>
  <dc:subject/>
  <dc:title>El concepto de VALOR</dc:title>
</cp:coreProperties>
</file>