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61BE-BC50-473F-9290-A752D79727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4D8A-C350-46C4-905E-21BA7DC819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29C-7132-40ED-96BD-5C86C273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8B4-AF94-4004-A02D-8A66C07B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D5C-DDE0-464D-9F08-F632BCB5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6156-8D0F-4083-9D70-1B69E3B4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3E7-2848-4A2C-8A73-CC3B6845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1E6-A69B-426C-8D93-0EA70EC4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9389-453F-4D98-8B27-A8E76C8F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D00-C4AE-4EE8-A484-4EC54C5C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9AD9-9922-49A7-92B2-F7A1AC7E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615-D01F-42DA-BD15-AD1F17DC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9CE-FC6D-4603-B4CB-75E29A94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E11-9DDC-443B-98D5-504CECC7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706A-35FF-4D6D-84BA-7382886C24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rpino@novos.cl" TargetMode="External"/><Relationship Id="rId3" Type="http://schemas.openxmlformats.org/officeDocument/2006/relationships/hyperlink" Target="http://twitter.com/rpino" TargetMode="External"/><Relationship Id="rId4" Type="http://schemas.openxmlformats.org/officeDocument/2006/relationships/hyperlink" Target="http://www.novos.cl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INGRES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a “caja” que una compañía genera a partir de cada clien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or qué valor nuestros clientes desean paga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ómo están pagando actualmente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Venta de activos/cosas (aut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or uso (telefonia celular pre y post pag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uscripción (diarios, revistas, gimnasio)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rriendo/Leasing (rent a car - Suipi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Licenciamiento (software a la antigu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rmediación (transbank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CURS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RECURS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ísicos  (bodegas, servido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lectuales (marcas, patente, derech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Humanos (laboratorios farmaceuticos 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inancieros (Microcrédit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IVIDADE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entury Gothic"/>
              </a:rPr>
              <a:t>ACTIVIDADES TÍP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arrollo y Producción (empresas de manufactur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solver problemas (Consultoría - Hospital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Gestión de Plataformas (ebay – Microsof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LIAD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s la red proveedores y aliados que hacen funcion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clave desarrollan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clave estamos adquiriendo de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OTIVACIONES PARA CREAR ALIANZ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Optimización y Economías de Escala (Pay Ro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ducir el riesgo (desarrollo del Blu-Ray - itu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dquisición de recursos especiales (OS de celula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STRCUTURA DE COST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Son todos los costos “importantes” en los que se incurre para oper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y recursos claves son los más car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uáles son los costos más importantes de nuestro modelo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MULLINS - KOMIS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Getting to Plan B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UADRO DE MAND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4200" y="1428840"/>
          <a:ext cx="8715600" cy="407196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LEMENTO DEL MODELO DE NEGO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IPOTESIS PARA TESTEAR ACTOS DE 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l  margen br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Co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liquid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MUL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con exitosos de los cuales adoptar, adaptar para entender los aspectos relevantes del negoci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VIT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sin éxito de los cuales aprender para cambiar y diferenciar los diversos aspectos del modelo de negocio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OS DE F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Respuestas a  las preguntas que surgen y que no tienen respuesta sobre la base de aspectos a evitar y emular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nvicciones sin evidencias reales, sobre las cuales se plantean hipótesi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EL MODELO DE NEGOCI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Es un modelo que describe la razón de ser de cómo una organización (empresa, proyecto, ONG, etc.)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ffffff"/>
                </a:solidFill>
                <a:uFillTx/>
                <a:latin typeface="Century Gothic"/>
              </a:rPr>
              <a:t>Crea, distribuye y captura valor*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l patrón (esquema, modelo) de la actividad económica que determina la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Century Gothic"/>
              </a:rPr>
              <a:t>liquidez y atractivo 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de un negocio*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GRES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ién comprará? ¿Cuándo y con qué frecuencia? ¿A que precio? ¿Cuánto dinero recibo efectivament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MARGEN BRUT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parte de los ingresos quedará después de haber pagado los costos directos de lo que se vendió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GAST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otros costos de venta se tiene además de los costos directos de los bienes y servicios vendido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LIQUIDEZ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l es el plazo de pago que tengo con mis clientes? ¿Es necesario reservar recursos para ventas posteriores? ¿Qué frecuencia y desfase de pago tengo con mis proveedor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VERSIÓN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nto dinero se requiere invertir inicialmente hasta que los clientes proporcionen suficientes recursos para cubrir los gastos de explotació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1285920"/>
            <a:ext cx="8553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14200" y="1285920"/>
          <a:ext cx="8715600" cy="534672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Descarga de Música a través de la web y canciones individuales, a gusto person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usicNet – PressPla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Descaragas pagadas por suscripción y solo descargables en UN computador y el no pago de la suscripción eliminaba las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dos los jóvenes de menos de 25 años descargan mú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Walkman de Son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La gente escucha música en dispositivos portátiles y pers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pañías Discográficas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ólo presentan catálogos web de sus artistas y venden discos comple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xisten dispositivos  bien diseñados para reproducir música dig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Modelo de Negocios Gillette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La máquina de afeitar es el iPod y las hojas de afeitar la música (o contenido). Pero finalmente el tema fue al revés, se vendieron más iPods que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Rio: primer reproductor de MP3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 dificil de usar, tenia poca capacidad y el proceson de sincronización era muy l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stá claro que la gente pague por las canciones descargad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sponer música sin licencias o piratas como </a:t>
                      </a: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s usuarios están dispuestos a pagar, pero quieren reproducirlos en más dispositiv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2 Marcador de contenido"/>
          <p:cNvSpPr/>
          <p:nvPr/>
        </p:nvSpPr>
        <p:spPr>
          <a:xfrm>
            <a:off x="357120" y="4029120"/>
            <a:ext cx="86439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Roberto 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E-mail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rpino@novos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Twitter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http://twitter.com/r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Twitter corporativo: http://twitter.com/nov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Web: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www.novos.cl</a:t>
            </a: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Fono: 978493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ÓMO DEFINIRL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No hay mejor manera que definirlo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Century Gothic"/>
              </a:rPr>
              <a:t>“en terreno”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 y probándolo en el mercad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Pero hay que partir de algo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odelo de Osterwald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etodología Mullins – Komis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OSTERWALDE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The Business Modelo Generation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THE BUSINESS MODEL CANVA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0040" y="1176480"/>
            <a:ext cx="8215200" cy="553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SEGMENTOS DE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Grupos de personas u organizaciones a quienes se desea alcanzar y serv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ara quienes estamos creando valo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iénes son nuestros clientes más importa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SEGMENTOS DE CLIENTES: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Masivo (retai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Nicho (tunning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egmentado (telecomunicacio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versificado (amazo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ultiplataforma (goog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PROPUESTA DE VALOR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l paquete de productos y servicios que crean valor a un segmento de clientes específic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valor entregamos a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problemas estamos ayudando a resolve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728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DE VALO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Novedad (iphon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empeño (inte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xclusividad y Hecho a la Medida (aston marti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seño (app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status (rolex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recio / Costo (ryanair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ccesibilidad (ERP Pym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nveniencia (ok marke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ANAL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 Gothic"/>
              </a:rPr>
              <a:t>Mecanismos mediante los cuales una empresa se comunica y llega a sus segmentos de clientes para entregar su propuesta de val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A través de qué canales llegarem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canales prefieren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OBSERVAD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Propi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end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Web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uerza de Vent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Extern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LACIÓN CON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Tipologías de interacción, contacto y comunicación con cada uno de los segmentos de clien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esperan nuestros clientes mantengamos con ell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tenemos y cuanto cuest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LOGÍ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sistencia Personal (banca Corporativ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utoservicio (Yogurt Lif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munidad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-Creación (Youtub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3:55:26Z</dcterms:created>
  <dc:creator>Roberto Pino</dc:creator>
  <dc:description/>
  <dc:language>en-US</dc:language>
  <cp:lastModifiedBy>Usuario</cp:lastModifiedBy>
  <dcterms:modified xsi:type="dcterms:W3CDTF">2011-05-17T19:37:13Z</dcterms:modified>
  <cp:revision>479</cp:revision>
  <dc:subject/>
  <dc:title>PROYECTO FORTALECIMIENTO CAPACIDADES DE INCUBACIÓN DII</dc:title>
</cp:coreProperties>
</file>