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28EB-4802-4496-9175-387C6664774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4AD-502C-46B7-90C1-41045F150B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316-80C0-4DBD-A7AB-96CD1EF5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392-08E5-4AAB-9256-945B6C1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727-34AB-4636-AEB4-743C083E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4F6-02AC-49F9-B904-03AE0DF7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B6F-BA16-4582-9609-06BBE284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414-4CBF-4089-92DE-BADB4B35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E5F5-2ED6-47F1-BFFE-EF12F79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464-A043-44EF-A2CE-5208A19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A17-5A1E-4B84-AA95-8736E78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D21-8A1B-4503-98FC-8D2BF47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E58-9E64-406D-9800-5ED8068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2FB-CBB5-4A97-B2B5-644897C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6AEC-A124-4070-B7D7-519D52C270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Usuario</cp:lastModifiedBy>
  <dcterms:modified xsi:type="dcterms:W3CDTF">2011-05-17T19:37:13Z</dcterms:modified>
  <cp:revision>479</cp:revision>
  <dc:subject/>
  <dc:title>PROYECTO FORTALECIMIENTO CAPACIDADES DE INCUBACIÓN DII</dc:title>
</cp:coreProperties>
</file>