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4A14-1F84-4002-93EC-B324DEA5A9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3BC2-BCD6-4F2F-B6CC-21F1BE6531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27C-043D-4A18-AD25-0B5199CC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EEC-AD52-429D-A08C-1EA13761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BDA-2FC8-45F3-965F-69D90193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C52-43A8-4DF0-B784-A883BBC1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568-7B88-4FE6-A601-7E1F8371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E7F-0A88-4212-9974-25F65BE8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E82-4152-4876-B4FB-C9335683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FE3-C0AE-487D-A81C-A64D92F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F8F-62D0-431E-A072-FE9230D4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B73-650E-475F-8B4D-297B1955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0C3-BFB7-48FD-808D-F0437FF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3A4-5E79-44E2-82D1-B654070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0CCF-7637-4979-A7EE-C920825C3A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Usuario</cp:lastModifiedBy>
  <dcterms:modified xsi:type="dcterms:W3CDTF">2011-05-17T19:37:13Z</dcterms:modified>
  <cp:revision>479</cp:revision>
  <dc:subject/>
  <dc:title>PROYECTO FORTALECIMIENTO CAPACIDADES DE INCUBACIÓN DII</dc:title>
</cp:coreProperties>
</file>