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9FA-7B88-4BA7-B2E2-DF0BB46644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02A7-EB77-4090-A416-E0A640BFEA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6B9-FF7C-4922-8FD5-A46EF618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989-03D6-4527-8182-69A90AAB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211-F787-418E-A71F-09C672FE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3D6-43AA-44A3-9964-C1AC6035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F74-4E20-4C7D-BF35-2343C103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4DB-C733-4378-9FD0-4AE6F7E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CEA-9B6E-4C9C-B1FC-B90D3FEC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6C0-7FA6-4E5C-8ED0-497FE4D2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5D5-ADFB-409A-89F2-91D8A7E3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15D-4780-4903-8157-5DB2C0C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E5F-B6F2-41A9-B1E2-47ABF82D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4F3-B7AF-48F6-9C1A-B1D2FEB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388-10EF-4AE4-9D06-C1DC7AB4F3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Usuario</cp:lastModifiedBy>
  <dcterms:modified xsi:type="dcterms:W3CDTF">2011-05-17T19:37:13Z</dcterms:modified>
  <cp:revision>479</cp:revision>
  <dc:subject/>
  <dc:title>PROYECTO FORTALECIMIENTO CAPACIDADES DE INCUBACIÓN DII</dc:title>
</cp:coreProperties>
</file>