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D861-D99F-4DEE-84B0-996069E32C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B6F2-1B0B-4362-A19C-B5B812B3070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4FEA-52BC-45CC-B608-EB04B905FE4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12DD-5836-4687-A7EA-C1DFC806CFF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6C58-33D4-459E-832A-9CA968CFB62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8F55-F42D-4F0F-833E-3D33032FFF0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4AA1-9FFA-44A7-8C1A-5E7D76BD61B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1241-E94B-4B76-A24A-F7D6241169B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5764-CE69-4148-AC1A-A9C25AC9C6D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9CA4-3951-4D6E-BFBF-BA7D6EC96B7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F69D-4691-4ECA-B688-5CD069C8E28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6993-E9E7-436D-8D43-8E19C64EEF0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C3E9-8ADA-4F31-B37F-F6F5B343AD62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ECEA-F868-4371-9F21-128C1B4AD8E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089A-6E98-4167-899B-7D497B19134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EF68-2323-4B69-A9FF-8C12828EA1B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5A00-0CD4-442B-A151-83ECE8E344F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70D8-69DC-4900-B14B-BDA7D03883A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D487-F7C8-4662-A547-9E80FDCAD114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E0DC-1F2F-4015-8D3F-44EFFCF641E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CDD3-1509-42C7-A189-014EAF814DA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0C3D-118D-4AAC-98C9-4DF0A8CB768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0002-1C09-43B4-B5C9-DEF83E0E9C8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486C-F0E9-4A8D-8764-A56F2C376C2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90A0-21E8-41BA-B396-F9918E413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D054-C7BC-4549-B246-D39C28E7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23FD-41D4-43E4-9982-5244C535F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9C24-DFA2-4C11-BF8D-643D16730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CEFB-BE93-4A7A-AF81-0F6EA7C09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3878-67FF-41FA-B4DD-F2BF05FF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A8E9-12AD-4304-8A34-262D91AF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7C85-13C9-4299-890A-CC41C3C1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A1DE-23FD-4A54-BDF1-4B7045A5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29EB-7845-4D8C-96B6-8581EBC6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19AC-C20F-4091-89C2-5E70844B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1BA9-8AEA-44F7-92B9-5D4B4EAE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C410-921F-41DC-B622-A1BF9DA3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0E6C-F573-41ED-976E-D4454315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3DB4-4CC0-4D47-8A2F-6CE87A34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76A4-C4EC-4B59-AEDA-DE7EFF80A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A562-9AD5-448B-BF73-CE29209EB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CCD03F-744D-4291-843E-0915F9D63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91F6F0-4C9B-4750-AB77-4C96E676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A7A810-9B19-480C-AD0C-CFA56FFB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1B8E22-E898-4E7B-B86B-FAA9EE08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40B22D-AF45-4410-92A8-D01FD67A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93A5-2013-4048-9E3A-B9A17F44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9EB1D4-A57D-44E8-B2CD-B7854B83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26EB20-3320-44EC-A130-DA0AD1F0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2465FF-5BC2-44E0-88A9-D78BF5B6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57D26C-175F-4117-A3E2-3786F64A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73AE72-63A1-4772-ABCA-65B54165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93E17D-00C3-4860-A2A2-9F6E19C7D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5CBDFC-50CE-4FC2-A106-CDBD070D0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B8BEE-FFE8-4A53-B436-7B5555BC2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B6F05-DEDD-4E80-9B30-1DE8B81B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77021-9A9A-41A2-B49D-94E1139E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E45F-6797-4A73-95B2-DF7A654B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1DB5C-1FC0-4D18-AFC4-A5AD5F27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475ED-67C3-416D-86D2-998145DF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FC3B2-3EC0-44C2-907F-974C40B5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71B65-38B3-4A61-B43B-35CA3695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2BA8C-C052-413B-B042-C6477ECC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BDF33-4386-4E85-ABBC-7CCA7799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53D1B-7867-4AF4-9DF8-AD7A62F2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1577F-2091-4634-B4F6-2146CA8C1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49807-F322-47C5-955D-45D77819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724E7B-5B96-4790-8780-585A3ED0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4E17-32D9-4E40-8AF3-9506F160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B2B3B7-0CDD-4A48-AFD1-DF5CF340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215D97-F2D9-4C40-BE51-AA52A788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844CDB-FE63-4E69-A7B9-6B63EE86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CDC75D-814E-461C-98D3-F7CE8265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B3238C-B4DD-4F26-AF3B-DF0EF160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961616-2CE9-4EAF-9976-4C7F380A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103A20-6839-4267-AD2E-85711F79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35E8CA-8CC7-4C48-81E8-B3E45238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087F91-1CA5-4AF0-9346-24811628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47D2E9-070B-4C24-9647-54455753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A429-0227-43FF-8AD0-4C841436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9B1E9B-B1AA-4CE1-B5B2-873803ACA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BB8E75-2F57-4010-A152-B794EAA05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FFDBB8-AC6D-4A1E-95B5-697A31AE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1001B7-4499-4764-B68B-2587CB6E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E28745-C356-497E-8302-6FFCC1F0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335752-E25B-4686-B2CA-34E561B6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04F0CF-A0FC-4AB1-82A4-5EBDC24E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951A98-3427-4596-BDC9-979937DF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5B02A6-B4F9-4D2C-9D02-8BEAA58A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5B3A4B-F786-4E02-9904-1C51D5C1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C32B-A198-4D0E-96FC-FB7D8F3F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D4F8AB-7CA7-4277-8C3D-EC25CC2C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C652AF-2FE7-481D-AC95-680812FDB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6569F8-EEDB-4D1F-8004-A5B6071D6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5206C6-84C6-46AF-94EA-7C51C9D1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5DCA0F-CD5C-4940-A0D0-EBB0B8D1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6542FF-FFEC-4528-94C8-006534E0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78B94D-BB0D-4265-B529-DF5330E6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54DA5F-BAF1-4152-AEDC-D2114861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DDAECD-E78B-4530-A063-C1508B34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C245E9-A6DD-4FF3-B265-327C3AF9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EDCA-F390-44B7-AEDD-1C9F37A8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A2D233-4EB1-4A3E-B216-10883B70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2A2A7A-99F1-4A14-B41F-BE16E494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858279-5AF9-4F5E-A049-1BC3DE30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704362-F119-45C8-9FC6-EE7B3EAC0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87F649-2481-4516-B2BF-A1D15AA10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2C91-3962-4568-8E5A-C82E3AD4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3167-330C-4450-8F4D-543895F60DF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DBFF-9426-481C-8B7E-D6D50A78F3E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0BCB-6A2A-4DB7-9D2D-1861EDABCFD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6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7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8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9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10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11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12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1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1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1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1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18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1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20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23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24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6ecf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9953-406E-456C-8BE4-A0AFDC9133E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191D-CA6C-4834-B2BB-EFB9873298D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6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7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8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9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10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11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12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4FD2-0E14-49AE-AA88-9FAA763E044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6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7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11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2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8D8E-13C3-4B25-9149-484F9C6A00E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0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17 Rectángulo" descr=""/>
          <p:cNvPicPr/>
          <p:nvPr/>
        </p:nvPicPr>
        <p:blipFill>
          <a:blip r:embed="rId1"/>
          <a:stretch/>
        </p:blipFill>
        <p:spPr>
          <a:xfrm>
            <a:off x="2382840" y="1951200"/>
            <a:ext cx="2854440" cy="110304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7"/>
          <p:cNvSpPr/>
          <p:nvPr/>
        </p:nvSpPr>
        <p:spPr>
          <a:xfrm>
            <a:off x="815760" y="214200"/>
            <a:ext cx="420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Modelo de Negoc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usando Canv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581640" y="357120"/>
            <a:ext cx="167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Ca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6500880" y="4786200"/>
            <a:ext cx="21826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2521440" y="357120"/>
            <a:ext cx="525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4. Relación con los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2357280" y="1857240"/>
            <a:ext cx="4838760" cy="2772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"/>
          <p:cNvPicPr/>
          <p:nvPr/>
        </p:nvPicPr>
        <p:blipFill>
          <a:blip r:embed="rId2"/>
          <a:stretch/>
        </p:blipFill>
        <p:spPr>
          <a:xfrm>
            <a:off x="3286080" y="1643040"/>
            <a:ext cx="26002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7143840" y="5072040"/>
            <a:ext cx="1311120" cy="141912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7"/>
          <p:cNvSpPr/>
          <p:nvPr/>
        </p:nvSpPr>
        <p:spPr>
          <a:xfrm>
            <a:off x="2644200" y="357120"/>
            <a:ext cx="481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Relación con los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"/>
          <p:cNvPicPr/>
          <p:nvPr/>
        </p:nvPicPr>
        <p:blipFill>
          <a:blip r:embed="rId1"/>
          <a:stretch/>
        </p:blipFill>
        <p:spPr>
          <a:xfrm>
            <a:off x="3643200" y="4214880"/>
            <a:ext cx="4410360" cy="173340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7"/>
          <p:cNvSpPr/>
          <p:nvPr/>
        </p:nvSpPr>
        <p:spPr>
          <a:xfrm>
            <a:off x="2772360" y="428760"/>
            <a:ext cx="39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5. Flujo de Ingr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2"/>
          <a:stretch/>
        </p:blipFill>
        <p:spPr>
          <a:xfrm>
            <a:off x="3143160" y="1285920"/>
            <a:ext cx="482940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2681640" y="357120"/>
            <a:ext cx="346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Flujo de Ingr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7429680" y="3786120"/>
            <a:ext cx="146664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" descr=""/>
          <p:cNvPicPr/>
          <p:nvPr/>
        </p:nvPicPr>
        <p:blipFill>
          <a:blip r:embed="rId1"/>
          <a:stretch/>
        </p:blipFill>
        <p:spPr>
          <a:xfrm>
            <a:off x="2214720" y="2857680"/>
            <a:ext cx="1742760" cy="165708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7"/>
          <p:cNvSpPr/>
          <p:nvPr/>
        </p:nvSpPr>
        <p:spPr>
          <a:xfrm>
            <a:off x="2698920" y="285840"/>
            <a:ext cx="34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6. Recurso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2" descr=""/>
          <p:cNvPicPr/>
          <p:nvPr/>
        </p:nvPicPr>
        <p:blipFill>
          <a:blip r:embed="rId2"/>
          <a:stretch/>
        </p:blipFill>
        <p:spPr>
          <a:xfrm>
            <a:off x="3905280" y="1643040"/>
            <a:ext cx="5238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2964960" y="357120"/>
            <a:ext cx="304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Recurso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175716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3" descr=""/>
          <p:cNvPicPr/>
          <p:nvPr/>
        </p:nvPicPr>
        <p:blipFill>
          <a:blip r:embed="rId1"/>
          <a:stretch/>
        </p:blipFill>
        <p:spPr>
          <a:xfrm>
            <a:off x="2500200" y="1643040"/>
            <a:ext cx="1447920" cy="12002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"/>
          <p:cNvPicPr/>
          <p:nvPr/>
        </p:nvPicPr>
        <p:blipFill>
          <a:blip r:embed="rId2"/>
          <a:stretch/>
        </p:blipFill>
        <p:spPr>
          <a:xfrm>
            <a:off x="2143080" y="2857680"/>
            <a:ext cx="1714680" cy="159048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7"/>
          <p:cNvSpPr/>
          <p:nvPr/>
        </p:nvSpPr>
        <p:spPr>
          <a:xfrm>
            <a:off x="2744640" y="428760"/>
            <a:ext cx="393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7. Actividade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3"/>
          <a:stretch/>
        </p:blipFill>
        <p:spPr>
          <a:xfrm>
            <a:off x="3905280" y="1428840"/>
            <a:ext cx="5238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2670120" y="428760"/>
            <a:ext cx="34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Actividade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7429680" y="5072040"/>
            <a:ext cx="114300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2517840" y="285840"/>
            <a:ext cx="42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8. Asociacione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6" descr=""/>
          <p:cNvPicPr/>
          <p:nvPr/>
        </p:nvPicPr>
        <p:blipFill>
          <a:blip r:embed="rId1"/>
          <a:stretch/>
        </p:blipFill>
        <p:spPr>
          <a:xfrm>
            <a:off x="0" y="1428840"/>
            <a:ext cx="2523960" cy="26384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"/>
          <p:cNvPicPr/>
          <p:nvPr/>
        </p:nvPicPr>
        <p:blipFill>
          <a:blip r:embed="rId2"/>
          <a:stretch/>
        </p:blipFill>
        <p:spPr>
          <a:xfrm>
            <a:off x="2071800" y="1428840"/>
            <a:ext cx="1476360" cy="12096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"/>
          <p:cNvPicPr/>
          <p:nvPr/>
        </p:nvPicPr>
        <p:blipFill>
          <a:blip r:embed="rId3"/>
          <a:stretch/>
        </p:blipFill>
        <p:spPr>
          <a:xfrm>
            <a:off x="1643040" y="2500200"/>
            <a:ext cx="1714680" cy="1590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"/>
          <p:cNvPicPr/>
          <p:nvPr/>
        </p:nvPicPr>
        <p:blipFill>
          <a:blip r:embed="rId4"/>
          <a:stretch/>
        </p:blipFill>
        <p:spPr>
          <a:xfrm>
            <a:off x="3429000" y="1143000"/>
            <a:ext cx="5238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789840" y="285840"/>
            <a:ext cx="219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El Nego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2443320" y="357120"/>
            <a:ext cx="376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Asociacione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6808680" y="4786200"/>
            <a:ext cx="179712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2618280" y="285840"/>
            <a:ext cx="458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9. Estructura de Co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357120" y="1071720"/>
            <a:ext cx="8325000" cy="40384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"/>
          <p:cNvPicPr/>
          <p:nvPr/>
        </p:nvPicPr>
        <p:blipFill>
          <a:blip r:embed="rId2"/>
          <a:stretch/>
        </p:blipFill>
        <p:spPr>
          <a:xfrm>
            <a:off x="214200" y="3643200"/>
            <a:ext cx="43052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0" y="115920"/>
            <a:ext cx="1695600" cy="141912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7"/>
          <p:cNvSpPr/>
          <p:nvPr/>
        </p:nvSpPr>
        <p:spPr>
          <a:xfrm>
            <a:off x="2527920" y="285840"/>
            <a:ext cx="413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Estructura de Co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8501040" cy="39528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4"/>
          <p:cNvSpPr/>
          <p:nvPr/>
        </p:nvSpPr>
        <p:spPr>
          <a:xfrm>
            <a:off x="2176560" y="214200"/>
            <a:ext cx="41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Modelo de negoc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2214720" y="2643120"/>
            <a:ext cx="1257120" cy="16765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2"/>
          <a:stretch/>
        </p:blipFill>
        <p:spPr>
          <a:xfrm>
            <a:off x="2786040" y="4429080"/>
            <a:ext cx="1282680" cy="15368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"/>
          <p:cNvPicPr/>
          <p:nvPr/>
        </p:nvPicPr>
        <p:blipFill>
          <a:blip r:embed="rId3"/>
          <a:stretch/>
        </p:blipFill>
        <p:spPr>
          <a:xfrm>
            <a:off x="6286680" y="2357280"/>
            <a:ext cx="1168200" cy="12448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"/>
          <p:cNvPicPr/>
          <p:nvPr/>
        </p:nvPicPr>
        <p:blipFill>
          <a:blip r:embed="rId4"/>
          <a:stretch/>
        </p:blipFill>
        <p:spPr>
          <a:xfrm>
            <a:off x="1857240" y="1143000"/>
            <a:ext cx="1447920" cy="11174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"/>
          <p:cNvPicPr/>
          <p:nvPr/>
        </p:nvPicPr>
        <p:blipFill>
          <a:blip r:embed="rId5"/>
          <a:stretch/>
        </p:blipFill>
        <p:spPr>
          <a:xfrm>
            <a:off x="4929120" y="5000760"/>
            <a:ext cx="1612800" cy="13586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"/>
          <p:cNvPicPr/>
          <p:nvPr/>
        </p:nvPicPr>
        <p:blipFill>
          <a:blip r:embed="rId6"/>
          <a:stretch/>
        </p:blipFill>
        <p:spPr>
          <a:xfrm>
            <a:off x="4786200" y="1285920"/>
            <a:ext cx="1041480" cy="13208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8" descr=""/>
          <p:cNvPicPr/>
          <p:nvPr/>
        </p:nvPicPr>
        <p:blipFill>
          <a:blip r:embed="rId7"/>
          <a:stretch/>
        </p:blipFill>
        <p:spPr>
          <a:xfrm>
            <a:off x="7343640" y="988920"/>
            <a:ext cx="1409760" cy="12700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"/>
          <p:cNvPicPr/>
          <p:nvPr/>
        </p:nvPicPr>
        <p:blipFill>
          <a:blip r:embed="rId8"/>
          <a:stretch/>
        </p:blipFill>
        <p:spPr>
          <a:xfrm>
            <a:off x="4214880" y="3214800"/>
            <a:ext cx="1612800" cy="12571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0" descr=""/>
          <p:cNvPicPr/>
          <p:nvPr/>
        </p:nvPicPr>
        <p:blipFill>
          <a:blip r:embed="rId9"/>
          <a:stretch/>
        </p:blipFill>
        <p:spPr>
          <a:xfrm>
            <a:off x="7500960" y="3929040"/>
            <a:ext cx="965160" cy="100332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4"/>
          <p:cNvSpPr/>
          <p:nvPr/>
        </p:nvSpPr>
        <p:spPr>
          <a:xfrm>
            <a:off x="1685880" y="285840"/>
            <a:ext cx="581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Modelo de negocios: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11" descr=""/>
          <p:cNvPicPr/>
          <p:nvPr/>
        </p:nvPicPr>
        <p:blipFill>
          <a:blip r:embed="rId1"/>
          <a:stretch/>
        </p:blipFill>
        <p:spPr>
          <a:xfrm>
            <a:off x="428760" y="1643040"/>
            <a:ext cx="8523000" cy="378612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7"/>
          <p:cNvSpPr/>
          <p:nvPr/>
        </p:nvSpPr>
        <p:spPr>
          <a:xfrm>
            <a:off x="2314080" y="285840"/>
            <a:ext cx="358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MODELO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6 Rectángulo"/>
          <p:cNvSpPr/>
          <p:nvPr/>
        </p:nvSpPr>
        <p:spPr>
          <a:xfrm>
            <a:off x="6300720" y="126828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Segmentos de 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1" name="10 Conector recto de flecha"/>
          <p:cNvCxnSpPr/>
          <p:nvPr/>
        </p:nvCxnSpPr>
        <p:spPr>
          <a:xfrm flipV="1">
            <a:off x="7450560" y="1557000"/>
            <a:ext cx="73800" cy="41328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sp>
        <p:nvSpPr>
          <p:cNvPr id="342" name="11 Rectángulo"/>
          <p:cNvSpPr/>
          <p:nvPr/>
        </p:nvSpPr>
        <p:spPr>
          <a:xfrm>
            <a:off x="214200" y="142884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Asociaciones C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12 Rectángulo"/>
          <p:cNvSpPr/>
          <p:nvPr/>
        </p:nvSpPr>
        <p:spPr>
          <a:xfrm>
            <a:off x="6286680" y="6143760"/>
            <a:ext cx="192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Ingreso de Fluj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13 Rectángulo"/>
          <p:cNvSpPr/>
          <p:nvPr/>
        </p:nvSpPr>
        <p:spPr>
          <a:xfrm>
            <a:off x="2357280" y="92880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Acciones C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14 Rectángulo"/>
          <p:cNvSpPr/>
          <p:nvPr/>
        </p:nvSpPr>
        <p:spPr>
          <a:xfrm>
            <a:off x="4643280" y="83664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Relación con los 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15 Rectángulo"/>
          <p:cNvSpPr/>
          <p:nvPr/>
        </p:nvSpPr>
        <p:spPr>
          <a:xfrm>
            <a:off x="2143080" y="614376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Estructura de Co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" name="19 Conector recto de flecha"/>
          <p:cNvCxnSpPr>
            <a:endCxn id="344" idx="2"/>
          </p:cNvCxnSpPr>
          <p:nvPr/>
        </p:nvCxnSpPr>
        <p:spPr>
          <a:xfrm flipH="1" flipV="1">
            <a:off x="3357360" y="1297800"/>
            <a:ext cx="72000" cy="70236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48" name="22 Conector recto de flecha"/>
          <p:cNvCxnSpPr/>
          <p:nvPr/>
        </p:nvCxnSpPr>
        <p:spPr>
          <a:xfrm flipH="1" flipV="1">
            <a:off x="1428480" y="1785240"/>
            <a:ext cx="357840" cy="78660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49" name="26 Conector recto de flecha"/>
          <p:cNvCxnSpPr>
            <a:endCxn id="345" idx="2"/>
          </p:cNvCxnSpPr>
          <p:nvPr/>
        </p:nvCxnSpPr>
        <p:spPr>
          <a:xfrm flipV="1">
            <a:off x="6000840" y="1206000"/>
            <a:ext cx="72000" cy="50904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50" name="29 Conector recto de flecha"/>
          <p:cNvCxnSpPr>
            <a:endCxn id="343" idx="0"/>
          </p:cNvCxnSpPr>
          <p:nvPr/>
        </p:nvCxnSpPr>
        <p:spPr>
          <a:xfrm>
            <a:off x="6999840" y="5143680"/>
            <a:ext cx="251640" cy="100080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51" name="33 Conector recto de flecha"/>
          <p:cNvCxnSpPr>
            <a:endCxn id="346" idx="0"/>
          </p:cNvCxnSpPr>
          <p:nvPr/>
        </p:nvCxnSpPr>
        <p:spPr>
          <a:xfrm>
            <a:off x="2642040" y="5071680"/>
            <a:ext cx="678600" cy="107244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sp>
        <p:nvSpPr>
          <p:cNvPr id="352" name="42 Rectángulo"/>
          <p:cNvSpPr/>
          <p:nvPr/>
        </p:nvSpPr>
        <p:spPr>
          <a:xfrm>
            <a:off x="5572080" y="5572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44 Conector recto de flecha"/>
          <p:cNvCxnSpPr>
            <a:endCxn id="352" idx="0"/>
          </p:cNvCxnSpPr>
          <p:nvPr/>
        </p:nvCxnSpPr>
        <p:spPr>
          <a:xfrm>
            <a:off x="5929200" y="4000320"/>
            <a:ext cx="215280" cy="157212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sp>
        <p:nvSpPr>
          <p:cNvPr id="354" name="46 Rectángulo"/>
          <p:cNvSpPr/>
          <p:nvPr/>
        </p:nvSpPr>
        <p:spPr>
          <a:xfrm>
            <a:off x="3286080" y="557208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Propuesta de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5" name="51 Conector recto de flecha"/>
          <p:cNvCxnSpPr>
            <a:endCxn id="354" idx="0"/>
          </p:cNvCxnSpPr>
          <p:nvPr/>
        </p:nvCxnSpPr>
        <p:spPr>
          <a:xfrm flipH="1">
            <a:off x="4463640" y="3286080"/>
            <a:ext cx="37440" cy="228672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sp>
        <p:nvSpPr>
          <p:cNvPr id="356" name="53 Rectángulo"/>
          <p:cNvSpPr/>
          <p:nvPr/>
        </p:nvSpPr>
        <p:spPr>
          <a:xfrm>
            <a:off x="0" y="314316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Recursos C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7" name="55 Conector recto de flecha"/>
          <p:cNvCxnSpPr>
            <a:endCxn id="356" idx="2"/>
          </p:cNvCxnSpPr>
          <p:nvPr/>
        </p:nvCxnSpPr>
        <p:spPr>
          <a:xfrm flipH="1">
            <a:off x="999720" y="3359160"/>
            <a:ext cx="2286720" cy="15480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27 CuadroTexto"/>
          <p:cNvSpPr/>
          <p:nvPr/>
        </p:nvSpPr>
        <p:spPr>
          <a:xfrm>
            <a:off x="2428920" y="1928880"/>
            <a:ext cx="5143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3643200" y="1714680"/>
            <a:ext cx="2266920" cy="268596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7"/>
          <p:cNvSpPr/>
          <p:nvPr/>
        </p:nvSpPr>
        <p:spPr>
          <a:xfrm>
            <a:off x="2627640" y="285840"/>
            <a:ext cx="499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1. Segmentos de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2552760" y="285840"/>
            <a:ext cx="465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 </a:t>
            </a: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Segmentos de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7215120" y="4630680"/>
            <a:ext cx="1424160" cy="1816200"/>
          </a:xfrm>
          <a:prstGeom prst="rect">
            <a:avLst/>
          </a:prstGeom>
          <a:ln w="0">
            <a:noFill/>
          </a:ln>
        </p:spPr>
      </p:pic>
      <p:sp>
        <p:nvSpPr>
          <p:cNvPr id="363" name="27 CuadroTexto"/>
          <p:cNvSpPr/>
          <p:nvPr/>
        </p:nvSpPr>
        <p:spPr>
          <a:xfrm>
            <a:off x="2428920" y="1928880"/>
            <a:ext cx="5143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27 CuadroTexto"/>
          <p:cNvSpPr/>
          <p:nvPr/>
        </p:nvSpPr>
        <p:spPr>
          <a:xfrm>
            <a:off x="2428920" y="1928880"/>
            <a:ext cx="5143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4" descr=""/>
          <p:cNvPicPr/>
          <p:nvPr/>
        </p:nvPicPr>
        <p:blipFill>
          <a:blip r:embed="rId1"/>
          <a:stretch/>
        </p:blipFill>
        <p:spPr>
          <a:xfrm>
            <a:off x="3286080" y="2571840"/>
            <a:ext cx="1676520" cy="26193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"/>
          <p:cNvPicPr/>
          <p:nvPr/>
        </p:nvPicPr>
        <p:blipFill>
          <a:blip r:embed="rId2"/>
          <a:stretch/>
        </p:blipFill>
        <p:spPr>
          <a:xfrm>
            <a:off x="5357880" y="2500200"/>
            <a:ext cx="2257200" cy="260028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7"/>
          <p:cNvSpPr/>
          <p:nvPr/>
        </p:nvSpPr>
        <p:spPr>
          <a:xfrm>
            <a:off x="2740320" y="571680"/>
            <a:ext cx="427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2. Propuesta de Va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2736360" y="428760"/>
            <a:ext cx="393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 </a:t>
            </a: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Propuesta de Va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6861240" y="3214800"/>
            <a:ext cx="228276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744000" y="428760"/>
            <a:ext cx="21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3. Ca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5" descr=""/>
          <p:cNvPicPr/>
          <p:nvPr/>
        </p:nvPicPr>
        <p:blipFill>
          <a:blip r:embed="rId1"/>
          <a:stretch/>
        </p:blipFill>
        <p:spPr>
          <a:xfrm>
            <a:off x="2714760" y="2071800"/>
            <a:ext cx="1638000" cy="27432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"/>
          <p:cNvPicPr/>
          <p:nvPr/>
        </p:nvPicPr>
        <p:blipFill>
          <a:blip r:embed="rId2"/>
          <a:stretch/>
        </p:blipFill>
        <p:spPr>
          <a:xfrm>
            <a:off x="5500800" y="2000160"/>
            <a:ext cx="2257200" cy="2600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"/>
          <p:cNvPicPr/>
          <p:nvPr/>
        </p:nvPicPr>
        <p:blipFill>
          <a:blip r:embed="rId3"/>
          <a:stretch/>
        </p:blipFill>
        <p:spPr>
          <a:xfrm>
            <a:off x="3643200" y="3286080"/>
            <a:ext cx="3214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5:08:44Z</dcterms:created>
  <dc:creator>...</dc:creator>
  <dc:description/>
  <dc:language>en-US</dc:language>
  <cp:lastModifiedBy>toshiba</cp:lastModifiedBy>
  <dcterms:modified xsi:type="dcterms:W3CDTF">2011-03-17T02:49:29Z</dcterms:modified>
  <cp:revision>171</cp:revision>
  <dc:subject/>
  <dc:title>Diapositiva 1</dc:title>
</cp:coreProperties>
</file>