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7A7B-2B95-4FE0-A545-97B4ABEB0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318-AC17-4103-AFD2-6265B84D8A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43F7-3611-4F3D-88BF-A4F7ECEF5F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ECFA-B28F-43A3-A8AC-EF0B9F25EA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232B-F441-4405-AC28-2AA8F3A501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6DA-7392-4E80-B394-ADE74CD3AA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E68-04B1-44B1-B151-2301F7A9E6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5B2D-81EA-4856-A964-40EEB6FD00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7D1D-25C4-4B42-973A-54B9D34880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D733-E0A6-4900-B615-C7A6AF9E81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887-6BB3-47D6-B22E-CA85149BD1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087-E6DE-4C21-93C7-37F0FA5304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E0F0-8D22-43BC-8992-D2086C09A07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8ACB-13AD-461D-8D23-3F351D67DC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25F-4206-4B49-84B7-BDE3538713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61EE-2540-49E6-8A47-2D5A5BC74C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D9C-0AC2-4B69-852D-09CF394595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A72B-656B-45AC-8DDF-63C0F08476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264-139C-4D0E-BFEE-68E2EC6821A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F2A-CA66-4054-AD79-61C8F8CF99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573-F1E7-47E0-957A-6DCA7338AC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3AD-90AF-4EB7-8C6F-81A0786061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D957-8D9D-4A7E-9AB6-AC9DD6861C8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42D-D22C-4D81-B374-D0F7A0946E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E62-E0AD-449B-AD9E-92BCC34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304-8803-452D-85E6-30B5CE5B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B67-7EF5-4754-B202-3647C955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E72-ACD1-4E4B-882E-20F183B6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30EB-B3D6-4F4A-BAFC-55A9F92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225-2F56-4571-A1D2-B059A11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3280-4897-4F08-AA52-0C5B2FD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7BF-7DEE-4DCD-8B14-B5D51DAD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8599-0085-4C38-A7BF-5DA40527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7DFF-6663-4869-B001-F4B5926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EC1-F821-4AE1-B96E-D52221B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39F-7BAC-443D-8D62-A3C987C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35B-A175-4BF5-B9BE-6271E47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5B56-AB00-4EE2-89CB-70403FF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6BEB-FC3F-40BF-8F67-F2A43345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B69C-0821-4FD3-82E9-E308D20A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E9E-8B2F-4EAB-ACE6-ECBC779A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304BA-DA51-42AA-83A0-326D7439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A684B-45BC-4493-A6F9-704F625D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E1D44-E2C0-423B-983F-A295290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4C38D-3FC7-456D-9938-E67D753B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859C9-61BE-44DE-AF02-E5BED75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A95-EA3B-42A6-B394-037C91E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9F80B-C4BE-44FA-87BE-E5C754E7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A2D81-EFC0-4992-8633-A46BBF94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97DED-75C1-41D2-84CF-73C07BD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02BBF-FD3E-42C5-957E-B4ABE1B4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6C4E3-834F-410F-866A-606AD8F6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875CC-FC79-4828-A48F-1DCC7142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63723-538D-4459-8A24-93FC3182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04699-E5EB-4D2A-A6DC-1F7A0D39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180C-FCE8-4669-9715-FEAF95CC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E021-A5BE-4557-A7B3-AE62782B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D55-688D-4F4D-8C47-C117408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2D51-0D79-4DEF-B70C-3ABD6A7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9E7C-3650-4F78-9003-EB5D138E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FB3E-351F-4974-9E25-5BE4AF3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632F-D693-4B1E-AF82-2B69843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D94C-ECD9-4FB4-A6FF-5418A27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E2A4-7EDF-4C19-972E-18FECDF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C3CE-EBD6-43A8-B0A1-376468DD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1D5C-7510-4CBC-9310-529F016C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7EBB-F299-491C-BAF2-E54D4B2E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DBE3A-4DD6-44EB-BB49-0A2E62F1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6CD-C241-42C5-990C-65B38F9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82379-57B2-41BF-B918-5C832CD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7B0EE-18D6-4BA7-8800-E8770FB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2E116-E3AD-4B2A-B4B8-6AAC2D0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D2AE9-AF0D-4561-ACB9-97A0D61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0D8EE-3076-4F07-B557-C8CC8A6C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C9A90-DFA7-4033-AA05-A5B071B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41091-2C6E-4F33-A719-792167D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0836B-93CF-4630-A2C8-6CC2ADC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7225B-8EBB-44C3-949E-2D5C1E17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6524D-B0B1-4236-92E5-A3062E7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3BC-757B-4697-B93B-EDD76993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5E1C2-5D1B-488D-9E89-4A232B1A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71A02-A413-419E-837E-C9B85CD5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1D91A-5C89-4A62-AAE1-90DC825D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62972-A824-46F6-AADF-15AAFFFA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0A782-0DB9-42BB-8B4B-FEF603C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55A6D-67C4-4F8B-871F-079D776B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9E9BD-66A0-4A35-B010-A9FA8371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E29EF-456B-43CA-9540-D276647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583D8-B397-4AFA-A7D5-D04F810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5FD0C-7364-4448-91DC-0292DF5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F8F-44B2-4D2B-A8E1-3E28E0BF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A3ECB-9826-4948-833E-2E4728D6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CAEA6-A156-4CD3-900A-56EF522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9D468-8943-48ED-BC79-B9148964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B3ED8-3AAA-437D-813C-16A80275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AB3C8-9F3A-412A-8CAD-CD193B1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6914B-C5DE-4C5F-BC40-DDD97D2E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2AE59-C547-46AF-9D05-3ED5D97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276C8-CD23-44C4-AB39-744C1B70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87BDD-68E4-4830-921B-D35B029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007DC-D166-4759-BC93-567FEEA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F3B-B015-4CAF-97B0-B7BD3EF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026DD-AA1A-4C76-96CB-EC73947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B0A74-38F2-4F3C-AF9D-96D7FC8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19041-9308-4AD0-90E4-6AFA5E69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5944B-800A-4367-BB48-E3A57C0F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B3050-95F8-4F9D-B4E0-141CC19A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139-8785-4B54-84E3-67BB0FA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DFC-2554-4DE6-9FCF-684703AC51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0B2-A5C2-4868-8B79-D2FB694786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A17-4BFB-42F3-A467-8EDC7FACA2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932-513D-41FB-87E1-B4F3B7DF0F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31D6-87C8-4503-8829-82DF475C7C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5C0-E99E-4CF5-97D3-860ED713E9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3C7-C40A-46E5-B5AF-74D293696D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toshiba</cp:lastModifiedBy>
  <dcterms:modified xsi:type="dcterms:W3CDTF">2011-03-17T02:49:29Z</dcterms:modified>
  <cp:revision>171</cp:revision>
  <dc:subject/>
  <dc:title>Diapositiva 1</dc:title>
</cp:coreProperties>
</file>