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3E46A-66C0-454E-935A-0466EC149D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B5EB7-36CA-489A-B017-0C5096584BF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48014-CCD6-463F-BE1B-4A7B618EAE3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43A44-2E46-40BF-8AAE-EF82D62752D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11CB9-C380-4298-BDC2-1C90A3FF394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8D36C-852C-4551-8C51-CE56B96E5A5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5FA4C-6C68-4320-AE20-58F561729A5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E0F50-2E9D-4621-9BB1-CBFDAF19450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52735-3EFF-4739-B280-B5FA47477E0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0A5C6-1437-477B-82D0-AFAC3B02CEC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E1529-6A88-4D96-8EDA-B4521FCCE77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0D90D-0D6C-4736-A823-400F535E002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1AE0C-E417-48C2-B3C1-4397A3A768A1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324B1-71EF-47C3-A8C2-EDA784EF871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5264C-B41A-43BB-82B8-9BE50AFC61A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B3F79-625F-4C2C-9022-5722C2F1777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F338E-0DE3-4307-A8ED-B3F0D4F55A1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3DA17-2180-4E9D-BBF2-6FA1BB4B0B2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B5C6E-5645-43EA-9FEC-3622C3F92845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B0076-D458-4D58-8FC0-95C937A8399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55EA8-9FE3-42E5-A761-C7EF6C71858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34B9C-7928-4A87-9B94-37314F753B6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BF621-930B-478B-8F5C-0A5F74E3A96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C0D13-2DF2-49FC-BEFA-E114929ADC0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FB90-9967-4D9E-97B9-DF175652D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BAE9-0E6B-44AB-9381-0EE213A43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23CE-8422-494E-A817-3757CBE3E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10404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2100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262908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10404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2100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6D95-9E75-4C8B-9A8D-193F5A7E3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D671C-DFFA-4A82-BC07-C079B12D7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B4450-ADB3-4FF6-BBAB-F0D54972E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0AC9A-1172-419C-944D-F1E3AC3D3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0DC35-8D6E-41B1-8A09-65DC23CBF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CE67E-8699-4441-BE76-4D2AADA64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DDCC3-4548-48B5-B66C-6369F5DAF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67E35-A069-4EEC-B4D6-91987DFB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2EA4-CBCB-4E2F-BF99-2D9094007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1C5F5-0647-4EBC-B97D-27D511A3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C1EF2-5EFF-4E90-92DD-CA7101A1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50CD2-25AB-435E-BFF6-F5AC5F38D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D4C33-E816-4534-B3A9-C143C2E30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-10404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42100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-262908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-10404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242100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5C88B-DDF1-42E2-883D-87C62C064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2F9068-098F-4415-B767-56B8D27DD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726B3A-D5C9-41DD-9A25-FB5C11960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5491E2-60F0-4EE7-8FB4-74A3AEE2B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281A86-99DE-4F85-96AC-028B184A2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D5DD09-EDB4-485D-8888-ADDCF9D4A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4234-5972-4D79-9908-4FD7B2207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466BC2-FEAB-46DC-9F4A-C797F1057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FA2037-31E6-4321-8A90-D129048C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F5FC09-264C-464E-ADF7-B577155E7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80DEF4-0E55-4C19-A3CE-395A4A38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E5762C-0232-4B2A-9A28-A3487122E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BE5931-28B2-4C7E-A23E-6900BAF75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-10404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242100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-262908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-10404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242100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133264-43E9-4759-93D4-95A324BC6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16507-2B4F-4CA5-B505-7E00065E9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6877A-A090-43A3-B112-A69DAF814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22CEC-D2B1-4143-AA8D-B13D4BE81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86B8-12BD-467F-9E5E-7CB453A9C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793C0-8BCA-4B68-A0AC-A5F3D0773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EBE4D-0463-4858-89E3-95269D6FE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BE105-7717-473A-8AB5-B6714C5BD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C6175-4C93-40F2-954A-6DD0E21E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C903B-D4E2-40D2-A7AB-30EE34E1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B728C-87B1-414A-8FBD-D88B04C4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A750E-FE83-42DC-93E0-500B74C7C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48C89-F45B-47A6-9EE4-0175A0017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-10404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242100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-262908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-10404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242100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F5947-73F8-4407-BB33-C9D7C014C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941E9F-2E62-499F-9762-6695EA544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7A1E-3BFE-4D6D-8FE6-D98C08465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F217F3-5542-4938-B218-F35E37148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F85F1D-6E75-475B-AD29-56ED4113D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86E066-E580-4156-8F3D-F48C0C611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110385-B6AB-43D6-A04E-16488CC91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067331-41D4-419A-A27D-B40455741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AFEA15-2465-4F02-8582-50065825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6C048A-0093-4B3B-AEFA-C130B0F1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790854-2F67-4510-AEA8-AC815355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88E68C-6FAB-4BA9-96C9-7A0F2B735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7B35B7-FDD0-4572-9502-428E78573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79E1-0BF7-4165-8F5C-92A7978BF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-10404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242100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-262908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-10404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242100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7B98C1-DB8A-4EAA-A029-8FDB612FB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592B78-D09F-4B1D-A5C4-C15AA4CD2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EF341D-AF66-4D63-B629-E0037E9D0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821B0B-EFB5-47D9-9CD0-A86B930EE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2D6CBE-3567-4B8E-89CE-96566CD40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0EFC6B-044A-4519-8A7C-751C54809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53C28B-4670-42E8-A1F4-3EF17DC57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33D686-1770-4B7C-AEB2-329C1139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0A9B63-A8EF-454C-811B-2D2B646E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14C24D-2F89-4A02-AA5E-D69AE127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6D17-A15F-42CF-B1DB-6AF05F2C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4B1369-77DA-4654-8188-35DB71AE5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ACF9FF-891C-453C-B78D-EB69B8F69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-10404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242100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-262908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-10404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242100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8EBAB8-E0E3-42B4-8A2E-C4455680D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89A566-DC8A-4454-861F-E5891A81F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E43334-C7BF-432A-8F6F-C4304E231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E75941-BCD7-42EB-9AC5-F72B35D03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3B6EF9-E622-4876-B0C8-DC0B724BC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56C07D-1496-433B-961B-5191443E0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096414-859E-485C-86CB-6569DFE91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C25780-FE6B-4C8C-BE3E-D616FDCE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23FE-51E7-4683-A5B5-90031BA1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5FA4DF-1595-4108-A6E7-5FDB5A86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41A669-C85E-4532-97AD-4D994BC5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CAB862-D765-4ADC-BF99-CE6AE9E70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AE2D9B-AFA1-4FB6-8E28-26399059D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-10404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242100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-262908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-10404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242100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8D7AC4-27EF-460D-BD5E-7D0868146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F821-3721-464B-A2F4-93F5E4EC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DECBF-4675-4E46-9C40-B75847B8516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6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B31E4-A1E5-4F00-AF7D-8CE0DC43807D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D87A7-4BA8-4638-AD65-9884193A6E7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6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7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8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9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10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11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12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14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15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1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17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18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19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20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23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24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6ecff"/>
              </a:solidFill>
              <a:latin typeface="Century School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6ecf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57E65-ACD4-49A9-BD14-937F9AD66FA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BBF84-B2A0-41F1-B03B-CF9812C86FD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6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7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8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9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10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11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12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3E9CA-589E-4C5F-B7DD-7A4BE9027BE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6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7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11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2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808CD-DFAE-4ED4-B144-461AF479194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0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17 Rectángulo" descr=""/>
          <p:cNvPicPr/>
          <p:nvPr/>
        </p:nvPicPr>
        <p:blipFill>
          <a:blip r:embed="rId1"/>
          <a:stretch/>
        </p:blipFill>
        <p:spPr>
          <a:xfrm>
            <a:off x="2382840" y="1951200"/>
            <a:ext cx="2854440" cy="110304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7"/>
          <p:cNvSpPr/>
          <p:nvPr/>
        </p:nvSpPr>
        <p:spPr>
          <a:xfrm>
            <a:off x="815760" y="214200"/>
            <a:ext cx="4202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Modelo de Negoci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usando Canv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581640" y="357120"/>
            <a:ext cx="167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Ca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3" descr=""/>
          <p:cNvPicPr/>
          <p:nvPr/>
        </p:nvPicPr>
        <p:blipFill>
          <a:blip r:embed="rId1"/>
          <a:stretch/>
        </p:blipFill>
        <p:spPr>
          <a:xfrm>
            <a:off x="6500880" y="4786200"/>
            <a:ext cx="218268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2521440" y="357120"/>
            <a:ext cx="525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4. Relación con los cli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1"/>
          <a:stretch/>
        </p:blipFill>
        <p:spPr>
          <a:xfrm>
            <a:off x="2357280" y="1857240"/>
            <a:ext cx="4838760" cy="27720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" descr=""/>
          <p:cNvPicPr/>
          <p:nvPr/>
        </p:nvPicPr>
        <p:blipFill>
          <a:blip r:embed="rId2"/>
          <a:stretch/>
        </p:blipFill>
        <p:spPr>
          <a:xfrm>
            <a:off x="3286080" y="1643040"/>
            <a:ext cx="26002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2" descr=""/>
          <p:cNvPicPr/>
          <p:nvPr/>
        </p:nvPicPr>
        <p:blipFill>
          <a:blip r:embed="rId1"/>
          <a:stretch/>
        </p:blipFill>
        <p:spPr>
          <a:xfrm>
            <a:off x="7143840" y="5072040"/>
            <a:ext cx="1311120" cy="1419120"/>
          </a:xfrm>
          <a:prstGeom prst="rect">
            <a:avLst/>
          </a:prstGeom>
          <a:ln w="0">
            <a:noFill/>
          </a:ln>
        </p:spPr>
      </p:pic>
      <p:sp>
        <p:nvSpPr>
          <p:cNvPr id="380" name="Rectangle 7"/>
          <p:cNvSpPr/>
          <p:nvPr/>
        </p:nvSpPr>
        <p:spPr>
          <a:xfrm>
            <a:off x="2644200" y="357120"/>
            <a:ext cx="481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Relación con los cli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4" descr=""/>
          <p:cNvPicPr/>
          <p:nvPr/>
        </p:nvPicPr>
        <p:blipFill>
          <a:blip r:embed="rId1"/>
          <a:stretch/>
        </p:blipFill>
        <p:spPr>
          <a:xfrm>
            <a:off x="3643200" y="4214880"/>
            <a:ext cx="4410360" cy="173340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7"/>
          <p:cNvSpPr/>
          <p:nvPr/>
        </p:nvSpPr>
        <p:spPr>
          <a:xfrm>
            <a:off x="2772360" y="428760"/>
            <a:ext cx="391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5. Flujo de Ingre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2" descr=""/>
          <p:cNvPicPr/>
          <p:nvPr/>
        </p:nvPicPr>
        <p:blipFill>
          <a:blip r:embed="rId2"/>
          <a:stretch/>
        </p:blipFill>
        <p:spPr>
          <a:xfrm>
            <a:off x="3143160" y="1285920"/>
            <a:ext cx="4829400" cy="29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2681640" y="357120"/>
            <a:ext cx="346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Flujo de Ingre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2" descr=""/>
          <p:cNvPicPr/>
          <p:nvPr/>
        </p:nvPicPr>
        <p:blipFill>
          <a:blip r:embed="rId1"/>
          <a:stretch/>
        </p:blipFill>
        <p:spPr>
          <a:xfrm>
            <a:off x="7429680" y="3786120"/>
            <a:ext cx="146664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3" descr=""/>
          <p:cNvPicPr/>
          <p:nvPr/>
        </p:nvPicPr>
        <p:blipFill>
          <a:blip r:embed="rId1"/>
          <a:stretch/>
        </p:blipFill>
        <p:spPr>
          <a:xfrm>
            <a:off x="2214720" y="2857680"/>
            <a:ext cx="1742760" cy="165708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7"/>
          <p:cNvSpPr/>
          <p:nvPr/>
        </p:nvSpPr>
        <p:spPr>
          <a:xfrm>
            <a:off x="2698920" y="285840"/>
            <a:ext cx="349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6. Recursos Cl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2" descr=""/>
          <p:cNvPicPr/>
          <p:nvPr/>
        </p:nvPicPr>
        <p:blipFill>
          <a:blip r:embed="rId2"/>
          <a:stretch/>
        </p:blipFill>
        <p:spPr>
          <a:xfrm>
            <a:off x="3905280" y="1643040"/>
            <a:ext cx="523872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2964960" y="357120"/>
            <a:ext cx="304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Recursos Cl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1757160" cy="19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3" descr=""/>
          <p:cNvPicPr/>
          <p:nvPr/>
        </p:nvPicPr>
        <p:blipFill>
          <a:blip r:embed="rId1"/>
          <a:stretch/>
        </p:blipFill>
        <p:spPr>
          <a:xfrm>
            <a:off x="2500200" y="1643040"/>
            <a:ext cx="1447920" cy="12002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4" descr=""/>
          <p:cNvPicPr/>
          <p:nvPr/>
        </p:nvPicPr>
        <p:blipFill>
          <a:blip r:embed="rId2"/>
          <a:stretch/>
        </p:blipFill>
        <p:spPr>
          <a:xfrm>
            <a:off x="2143080" y="2857680"/>
            <a:ext cx="1714680" cy="1590480"/>
          </a:xfrm>
          <a:prstGeom prst="rect">
            <a:avLst/>
          </a:prstGeom>
          <a:ln w="0">
            <a:noFill/>
          </a:ln>
        </p:spPr>
      </p:pic>
      <p:sp>
        <p:nvSpPr>
          <p:cNvPr id="393" name="Rectangle 7"/>
          <p:cNvSpPr/>
          <p:nvPr/>
        </p:nvSpPr>
        <p:spPr>
          <a:xfrm>
            <a:off x="2744640" y="428760"/>
            <a:ext cx="393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7. Actividades Cl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2" descr=""/>
          <p:cNvPicPr/>
          <p:nvPr/>
        </p:nvPicPr>
        <p:blipFill>
          <a:blip r:embed="rId3"/>
          <a:stretch/>
        </p:blipFill>
        <p:spPr>
          <a:xfrm>
            <a:off x="3905280" y="1428840"/>
            <a:ext cx="523872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2670120" y="428760"/>
            <a:ext cx="348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Actividades Cl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2" descr=""/>
          <p:cNvPicPr/>
          <p:nvPr/>
        </p:nvPicPr>
        <p:blipFill>
          <a:blip r:embed="rId1"/>
          <a:stretch/>
        </p:blipFill>
        <p:spPr>
          <a:xfrm>
            <a:off x="7429680" y="5072040"/>
            <a:ext cx="1143000" cy="12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2517840" y="285840"/>
            <a:ext cx="421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8. Asociaciones Cl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6" descr=""/>
          <p:cNvPicPr/>
          <p:nvPr/>
        </p:nvPicPr>
        <p:blipFill>
          <a:blip r:embed="rId1"/>
          <a:stretch/>
        </p:blipFill>
        <p:spPr>
          <a:xfrm>
            <a:off x="0" y="1428840"/>
            <a:ext cx="2523960" cy="263844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4" descr=""/>
          <p:cNvPicPr/>
          <p:nvPr/>
        </p:nvPicPr>
        <p:blipFill>
          <a:blip r:embed="rId2"/>
          <a:stretch/>
        </p:blipFill>
        <p:spPr>
          <a:xfrm>
            <a:off x="2071800" y="1428840"/>
            <a:ext cx="1476360" cy="12096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4" descr=""/>
          <p:cNvPicPr/>
          <p:nvPr/>
        </p:nvPicPr>
        <p:blipFill>
          <a:blip r:embed="rId3"/>
          <a:stretch/>
        </p:blipFill>
        <p:spPr>
          <a:xfrm>
            <a:off x="1643040" y="2500200"/>
            <a:ext cx="1714680" cy="15908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" descr=""/>
          <p:cNvPicPr/>
          <p:nvPr/>
        </p:nvPicPr>
        <p:blipFill>
          <a:blip r:embed="rId4"/>
          <a:stretch/>
        </p:blipFill>
        <p:spPr>
          <a:xfrm>
            <a:off x="3429000" y="1143000"/>
            <a:ext cx="523872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4"/>
          <p:cNvSpPr/>
          <p:nvPr/>
        </p:nvSpPr>
        <p:spPr>
          <a:xfrm>
            <a:off x="789840" y="285840"/>
            <a:ext cx="219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El Nego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2443320" y="357120"/>
            <a:ext cx="376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Asociaciones Cl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"/>
          <p:cNvPicPr/>
          <p:nvPr/>
        </p:nvPicPr>
        <p:blipFill>
          <a:blip r:embed="rId1"/>
          <a:stretch/>
        </p:blipFill>
        <p:spPr>
          <a:xfrm>
            <a:off x="6808680" y="4786200"/>
            <a:ext cx="1797120" cy="14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2618280" y="285840"/>
            <a:ext cx="458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9. Estructura de Co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2" descr=""/>
          <p:cNvPicPr/>
          <p:nvPr/>
        </p:nvPicPr>
        <p:blipFill>
          <a:blip r:embed="rId1"/>
          <a:stretch/>
        </p:blipFill>
        <p:spPr>
          <a:xfrm>
            <a:off x="357120" y="1071720"/>
            <a:ext cx="8325000" cy="40384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" descr=""/>
          <p:cNvPicPr/>
          <p:nvPr/>
        </p:nvPicPr>
        <p:blipFill>
          <a:blip r:embed="rId2"/>
          <a:stretch/>
        </p:blipFill>
        <p:spPr>
          <a:xfrm>
            <a:off x="214200" y="3643200"/>
            <a:ext cx="430524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3" descr=""/>
          <p:cNvPicPr/>
          <p:nvPr/>
        </p:nvPicPr>
        <p:blipFill>
          <a:blip r:embed="rId1"/>
          <a:stretch/>
        </p:blipFill>
        <p:spPr>
          <a:xfrm>
            <a:off x="0" y="115920"/>
            <a:ext cx="1695600" cy="141912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7"/>
          <p:cNvSpPr/>
          <p:nvPr/>
        </p:nvSpPr>
        <p:spPr>
          <a:xfrm>
            <a:off x="2527920" y="285840"/>
            <a:ext cx="413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Estructura de Co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214200" y="1643040"/>
            <a:ext cx="8501040" cy="39528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4"/>
          <p:cNvSpPr/>
          <p:nvPr/>
        </p:nvSpPr>
        <p:spPr>
          <a:xfrm>
            <a:off x="2176560" y="214200"/>
            <a:ext cx="414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Modelo de negoci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2" descr=""/>
          <p:cNvPicPr/>
          <p:nvPr/>
        </p:nvPicPr>
        <p:blipFill>
          <a:blip r:embed="rId1"/>
          <a:stretch/>
        </p:blipFill>
        <p:spPr>
          <a:xfrm>
            <a:off x="2214720" y="2643120"/>
            <a:ext cx="1257120" cy="16765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" descr=""/>
          <p:cNvPicPr/>
          <p:nvPr/>
        </p:nvPicPr>
        <p:blipFill>
          <a:blip r:embed="rId2"/>
          <a:stretch/>
        </p:blipFill>
        <p:spPr>
          <a:xfrm>
            <a:off x="2786040" y="4429080"/>
            <a:ext cx="1282680" cy="15368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4" descr=""/>
          <p:cNvPicPr/>
          <p:nvPr/>
        </p:nvPicPr>
        <p:blipFill>
          <a:blip r:embed="rId3"/>
          <a:stretch/>
        </p:blipFill>
        <p:spPr>
          <a:xfrm>
            <a:off x="6286680" y="2357280"/>
            <a:ext cx="1168200" cy="12448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5" descr=""/>
          <p:cNvPicPr/>
          <p:nvPr/>
        </p:nvPicPr>
        <p:blipFill>
          <a:blip r:embed="rId4"/>
          <a:stretch/>
        </p:blipFill>
        <p:spPr>
          <a:xfrm>
            <a:off x="1857240" y="1143000"/>
            <a:ext cx="1447920" cy="11174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6" descr=""/>
          <p:cNvPicPr/>
          <p:nvPr/>
        </p:nvPicPr>
        <p:blipFill>
          <a:blip r:embed="rId5"/>
          <a:stretch/>
        </p:blipFill>
        <p:spPr>
          <a:xfrm>
            <a:off x="4929120" y="5000760"/>
            <a:ext cx="1612800" cy="13586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7" descr=""/>
          <p:cNvPicPr/>
          <p:nvPr/>
        </p:nvPicPr>
        <p:blipFill>
          <a:blip r:embed="rId6"/>
          <a:stretch/>
        </p:blipFill>
        <p:spPr>
          <a:xfrm>
            <a:off x="4786200" y="1285920"/>
            <a:ext cx="1041480" cy="13208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8" descr=""/>
          <p:cNvPicPr/>
          <p:nvPr/>
        </p:nvPicPr>
        <p:blipFill>
          <a:blip r:embed="rId7"/>
          <a:stretch/>
        </p:blipFill>
        <p:spPr>
          <a:xfrm>
            <a:off x="7343640" y="988920"/>
            <a:ext cx="1409760" cy="12700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9" descr=""/>
          <p:cNvPicPr/>
          <p:nvPr/>
        </p:nvPicPr>
        <p:blipFill>
          <a:blip r:embed="rId8"/>
          <a:stretch/>
        </p:blipFill>
        <p:spPr>
          <a:xfrm>
            <a:off x="4214880" y="3214800"/>
            <a:ext cx="1612800" cy="12571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0" descr=""/>
          <p:cNvPicPr/>
          <p:nvPr/>
        </p:nvPicPr>
        <p:blipFill>
          <a:blip r:embed="rId9"/>
          <a:stretch/>
        </p:blipFill>
        <p:spPr>
          <a:xfrm>
            <a:off x="7500960" y="3929040"/>
            <a:ext cx="965160" cy="100332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4"/>
          <p:cNvSpPr/>
          <p:nvPr/>
        </p:nvSpPr>
        <p:spPr>
          <a:xfrm>
            <a:off x="1685880" y="285840"/>
            <a:ext cx="581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Modelo de negocios: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11" descr=""/>
          <p:cNvPicPr/>
          <p:nvPr/>
        </p:nvPicPr>
        <p:blipFill>
          <a:blip r:embed="rId1"/>
          <a:stretch/>
        </p:blipFill>
        <p:spPr>
          <a:xfrm>
            <a:off x="428760" y="1643040"/>
            <a:ext cx="8523000" cy="378612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7"/>
          <p:cNvSpPr/>
          <p:nvPr/>
        </p:nvSpPr>
        <p:spPr>
          <a:xfrm>
            <a:off x="2314080" y="285840"/>
            <a:ext cx="358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MODELO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6 Rectángulo"/>
          <p:cNvSpPr/>
          <p:nvPr/>
        </p:nvSpPr>
        <p:spPr>
          <a:xfrm>
            <a:off x="6300720" y="126828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3300"/>
                </a:solidFill>
                <a:latin typeface="Bauhaus 93"/>
                <a:ea typeface="BatangChe"/>
              </a:rPr>
              <a:t>Segmentos de Cl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1" name="10 Conector recto de flecha"/>
          <p:cNvCxnSpPr/>
          <p:nvPr/>
        </p:nvCxnSpPr>
        <p:spPr>
          <a:xfrm flipV="1">
            <a:off x="7450560" y="1557000"/>
            <a:ext cx="73800" cy="41328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sp>
        <p:nvSpPr>
          <p:cNvPr id="342" name="11 Rectángulo"/>
          <p:cNvSpPr/>
          <p:nvPr/>
        </p:nvSpPr>
        <p:spPr>
          <a:xfrm>
            <a:off x="214200" y="142884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3300"/>
                </a:solidFill>
                <a:latin typeface="Bauhaus 93"/>
                <a:ea typeface="BatangChe"/>
              </a:rPr>
              <a:t>Asociaciones C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12 Rectángulo"/>
          <p:cNvSpPr/>
          <p:nvPr/>
        </p:nvSpPr>
        <p:spPr>
          <a:xfrm>
            <a:off x="6286680" y="6143760"/>
            <a:ext cx="192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3300"/>
                </a:solidFill>
                <a:latin typeface="Bauhaus 93"/>
                <a:ea typeface="BatangChe"/>
              </a:rPr>
              <a:t>Ingreso de Fluj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13 Rectángulo"/>
          <p:cNvSpPr/>
          <p:nvPr/>
        </p:nvSpPr>
        <p:spPr>
          <a:xfrm>
            <a:off x="2357280" y="92880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3300"/>
                </a:solidFill>
                <a:latin typeface="Bauhaus 93"/>
                <a:ea typeface="BatangChe"/>
              </a:rPr>
              <a:t>Acciones C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14 Rectángulo"/>
          <p:cNvSpPr/>
          <p:nvPr/>
        </p:nvSpPr>
        <p:spPr>
          <a:xfrm>
            <a:off x="4643280" y="83664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3300"/>
                </a:solidFill>
                <a:latin typeface="Bauhaus 93"/>
                <a:ea typeface="BatangChe"/>
              </a:rPr>
              <a:t>Relación con los cl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15 Rectángulo"/>
          <p:cNvSpPr/>
          <p:nvPr/>
        </p:nvSpPr>
        <p:spPr>
          <a:xfrm>
            <a:off x="2143080" y="614376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3300"/>
                </a:solidFill>
                <a:latin typeface="Bauhaus 93"/>
                <a:ea typeface="BatangChe"/>
              </a:rPr>
              <a:t>Estructura de Cos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7" name="19 Conector recto de flecha"/>
          <p:cNvCxnSpPr>
            <a:endCxn id="344" idx="2"/>
          </p:cNvCxnSpPr>
          <p:nvPr/>
        </p:nvCxnSpPr>
        <p:spPr>
          <a:xfrm flipH="1" flipV="1">
            <a:off x="3357360" y="1297800"/>
            <a:ext cx="72000" cy="70236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cxnSp>
        <p:nvCxnSpPr>
          <p:cNvPr id="348" name="22 Conector recto de flecha"/>
          <p:cNvCxnSpPr/>
          <p:nvPr/>
        </p:nvCxnSpPr>
        <p:spPr>
          <a:xfrm flipH="1" flipV="1">
            <a:off x="1428480" y="1785240"/>
            <a:ext cx="357840" cy="78660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cxnSp>
        <p:nvCxnSpPr>
          <p:cNvPr id="349" name="26 Conector recto de flecha"/>
          <p:cNvCxnSpPr>
            <a:endCxn id="345" idx="2"/>
          </p:cNvCxnSpPr>
          <p:nvPr/>
        </p:nvCxnSpPr>
        <p:spPr>
          <a:xfrm flipV="1">
            <a:off x="6000840" y="1206000"/>
            <a:ext cx="72000" cy="50904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cxnSp>
        <p:nvCxnSpPr>
          <p:cNvPr id="350" name="29 Conector recto de flecha"/>
          <p:cNvCxnSpPr>
            <a:endCxn id="343" idx="0"/>
          </p:cNvCxnSpPr>
          <p:nvPr/>
        </p:nvCxnSpPr>
        <p:spPr>
          <a:xfrm>
            <a:off x="6999840" y="5143680"/>
            <a:ext cx="251640" cy="100080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cxnSp>
        <p:nvCxnSpPr>
          <p:cNvPr id="351" name="33 Conector recto de flecha"/>
          <p:cNvCxnSpPr>
            <a:endCxn id="346" idx="0"/>
          </p:cNvCxnSpPr>
          <p:nvPr/>
        </p:nvCxnSpPr>
        <p:spPr>
          <a:xfrm>
            <a:off x="2642040" y="5071680"/>
            <a:ext cx="678600" cy="107244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sp>
        <p:nvSpPr>
          <p:cNvPr id="352" name="42 Rectángulo"/>
          <p:cNvSpPr/>
          <p:nvPr/>
        </p:nvSpPr>
        <p:spPr>
          <a:xfrm>
            <a:off x="5572080" y="5572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3300"/>
                </a:solidFill>
                <a:latin typeface="Bauhaus 93"/>
                <a:ea typeface="BatangChe"/>
              </a:rPr>
              <a:t>Ca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3" name="44 Conector recto de flecha"/>
          <p:cNvCxnSpPr>
            <a:endCxn id="352" idx="0"/>
          </p:cNvCxnSpPr>
          <p:nvPr/>
        </p:nvCxnSpPr>
        <p:spPr>
          <a:xfrm>
            <a:off x="5929200" y="4000320"/>
            <a:ext cx="215280" cy="157212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sp>
        <p:nvSpPr>
          <p:cNvPr id="354" name="46 Rectángulo"/>
          <p:cNvSpPr/>
          <p:nvPr/>
        </p:nvSpPr>
        <p:spPr>
          <a:xfrm>
            <a:off x="3286080" y="5572080"/>
            <a:ext cx="23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3300"/>
                </a:solidFill>
                <a:latin typeface="Bauhaus 93"/>
                <a:ea typeface="BatangChe"/>
              </a:rPr>
              <a:t>Propuesta de Va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5" name="51 Conector recto de flecha"/>
          <p:cNvCxnSpPr>
            <a:endCxn id="354" idx="0"/>
          </p:cNvCxnSpPr>
          <p:nvPr/>
        </p:nvCxnSpPr>
        <p:spPr>
          <a:xfrm flipH="1">
            <a:off x="4463640" y="3286080"/>
            <a:ext cx="37440" cy="228672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sp>
        <p:nvSpPr>
          <p:cNvPr id="356" name="53 Rectángulo"/>
          <p:cNvSpPr/>
          <p:nvPr/>
        </p:nvSpPr>
        <p:spPr>
          <a:xfrm>
            <a:off x="0" y="314316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3300"/>
                </a:solidFill>
                <a:latin typeface="Bauhaus 93"/>
                <a:ea typeface="BatangChe"/>
              </a:rPr>
              <a:t>Recursos C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7" name="55 Conector recto de flecha"/>
          <p:cNvCxnSpPr>
            <a:endCxn id="356" idx="2"/>
          </p:cNvCxnSpPr>
          <p:nvPr/>
        </p:nvCxnSpPr>
        <p:spPr>
          <a:xfrm flipH="1">
            <a:off x="999720" y="3359160"/>
            <a:ext cx="2286720" cy="15480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27 CuadroTexto"/>
          <p:cNvSpPr/>
          <p:nvPr/>
        </p:nvSpPr>
        <p:spPr>
          <a:xfrm>
            <a:off x="2428920" y="1928880"/>
            <a:ext cx="5143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3" descr=""/>
          <p:cNvPicPr/>
          <p:nvPr/>
        </p:nvPicPr>
        <p:blipFill>
          <a:blip r:embed="rId1"/>
          <a:stretch/>
        </p:blipFill>
        <p:spPr>
          <a:xfrm>
            <a:off x="3643200" y="1714680"/>
            <a:ext cx="2266920" cy="268596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7"/>
          <p:cNvSpPr/>
          <p:nvPr/>
        </p:nvSpPr>
        <p:spPr>
          <a:xfrm>
            <a:off x="2627640" y="285840"/>
            <a:ext cx="499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1. Segmentos de Cli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2552760" y="285840"/>
            <a:ext cx="465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 </a:t>
            </a: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Segmentos de Cli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3" descr=""/>
          <p:cNvPicPr/>
          <p:nvPr/>
        </p:nvPicPr>
        <p:blipFill>
          <a:blip r:embed="rId1"/>
          <a:stretch/>
        </p:blipFill>
        <p:spPr>
          <a:xfrm>
            <a:off x="7215120" y="4630680"/>
            <a:ext cx="1424160" cy="1816200"/>
          </a:xfrm>
          <a:prstGeom prst="rect">
            <a:avLst/>
          </a:prstGeom>
          <a:ln w="0">
            <a:noFill/>
          </a:ln>
        </p:spPr>
      </p:pic>
      <p:sp>
        <p:nvSpPr>
          <p:cNvPr id="363" name="27 CuadroTexto"/>
          <p:cNvSpPr/>
          <p:nvPr/>
        </p:nvSpPr>
        <p:spPr>
          <a:xfrm>
            <a:off x="2428920" y="1928880"/>
            <a:ext cx="5143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27 CuadroTexto"/>
          <p:cNvSpPr/>
          <p:nvPr/>
        </p:nvSpPr>
        <p:spPr>
          <a:xfrm>
            <a:off x="2428920" y="1928880"/>
            <a:ext cx="5143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4" descr=""/>
          <p:cNvPicPr/>
          <p:nvPr/>
        </p:nvPicPr>
        <p:blipFill>
          <a:blip r:embed="rId1"/>
          <a:stretch/>
        </p:blipFill>
        <p:spPr>
          <a:xfrm>
            <a:off x="3286080" y="2571840"/>
            <a:ext cx="1676520" cy="261936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4" descr=""/>
          <p:cNvPicPr/>
          <p:nvPr/>
        </p:nvPicPr>
        <p:blipFill>
          <a:blip r:embed="rId2"/>
          <a:stretch/>
        </p:blipFill>
        <p:spPr>
          <a:xfrm>
            <a:off x="5357880" y="2500200"/>
            <a:ext cx="2257200" cy="260028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7"/>
          <p:cNvSpPr/>
          <p:nvPr/>
        </p:nvSpPr>
        <p:spPr>
          <a:xfrm>
            <a:off x="2740320" y="571680"/>
            <a:ext cx="427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2. Propuesta de Va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2736360" y="428760"/>
            <a:ext cx="393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 </a:t>
            </a: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Propuesta de Va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2" descr=""/>
          <p:cNvPicPr/>
          <p:nvPr/>
        </p:nvPicPr>
        <p:blipFill>
          <a:blip r:embed="rId1"/>
          <a:stretch/>
        </p:blipFill>
        <p:spPr>
          <a:xfrm>
            <a:off x="6861240" y="3214800"/>
            <a:ext cx="2282760" cy="21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744000" y="428760"/>
            <a:ext cx="212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3. Ca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5" descr=""/>
          <p:cNvPicPr/>
          <p:nvPr/>
        </p:nvPicPr>
        <p:blipFill>
          <a:blip r:embed="rId1"/>
          <a:stretch/>
        </p:blipFill>
        <p:spPr>
          <a:xfrm>
            <a:off x="2714760" y="2071800"/>
            <a:ext cx="1638000" cy="27432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" descr=""/>
          <p:cNvPicPr/>
          <p:nvPr/>
        </p:nvPicPr>
        <p:blipFill>
          <a:blip r:embed="rId2"/>
          <a:stretch/>
        </p:blipFill>
        <p:spPr>
          <a:xfrm>
            <a:off x="5500800" y="2000160"/>
            <a:ext cx="2257200" cy="26002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2" descr=""/>
          <p:cNvPicPr/>
          <p:nvPr/>
        </p:nvPicPr>
        <p:blipFill>
          <a:blip r:embed="rId3"/>
          <a:stretch/>
        </p:blipFill>
        <p:spPr>
          <a:xfrm>
            <a:off x="3643200" y="3286080"/>
            <a:ext cx="3214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6T05:08:44Z</dcterms:created>
  <dc:creator>...</dc:creator>
  <dc:description/>
  <dc:language>en-US</dc:language>
  <cp:lastModifiedBy>toshiba</cp:lastModifiedBy>
  <dcterms:modified xsi:type="dcterms:W3CDTF">2011-03-17T02:49:29Z</dcterms:modified>
  <cp:revision>171</cp:revision>
  <dc:subject/>
  <dc:title>Diapositiva 1</dc:title>
</cp:coreProperties>
</file>