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108-887A-486C-9D4E-BFC97F4A0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AFFD-4B2F-4805-9DA3-3F13D2802A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2483-8168-48F6-A7B1-7D6B2B9DE8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15E-46CB-4C30-836E-1AF6F038B8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FA99-9B38-47D7-A65C-F56025386E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155-C3EA-41F9-B3EB-2F45CF1255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918B-CC25-4FF3-BD41-3AB3DED26C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FB69-1D64-4A20-B00A-83D52BA2791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10C5-47CA-49FB-8ADE-4CFEDFC2D4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225-B1BB-48EC-9D2A-8245B48D93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C950-674B-4914-AA2E-B0320E2C40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3CEA-B69C-4441-B000-B89ACDCAF0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662-8A6C-4660-9B96-1EE5D511DEC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3F6-03CA-418C-989A-221CFCFFCB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E85-E4EA-417E-9A40-48A5D8E9C8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0A84-E4F0-4C62-9FFE-6E053B0831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868-E9EC-4744-9DC8-911888A4F2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DC4-CADD-4C31-A75B-A0133DBDC6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A59-B15E-4E62-82E6-643930F2FB2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8C4-F417-4D46-8B9F-50C73CE593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47F8-5ED0-4AB3-B586-3B35F4455D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039-44A7-4F35-B64F-6CE12A4966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6C96-5E8D-434E-A446-9F0FBBBC1E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DAB-ED47-4DF9-8B3C-923ECDCC39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FB5-2ADC-4180-BC9E-643EC22B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E5C-840F-40E3-A030-88A653B8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EB6-2C9A-4A76-BA46-5BF27F76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AE5-702C-416E-AF69-05A1F6EB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1948-F436-4B95-96D0-39C984E3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1C0-1307-4A4C-955A-87BC9B6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A6E1-AE98-4AF8-AFCA-04B0DEE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A27-13AC-42FB-AF9E-2B69B4C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54B6-9AEF-4207-9A53-EE5A0906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7BC2-8EE0-469D-AD48-E3AAE41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091A-722D-4A3A-942B-217C42C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477-647D-4F64-8D07-308AB32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E60-F178-4125-83AF-E9114D9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10EC-4DC1-42E3-9C5F-870DB17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C6B5-23CB-4696-9115-41E36DF7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9134-5A13-48FE-A557-A00206DF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7534-32F9-44B6-A927-A31F5842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CDAD5-F862-4805-B0D5-8A593DCA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D7BB6-26BE-42F4-A7BB-D541D42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96A5D-5337-45E6-BF0F-93A9C65B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BEE5A-B6AA-4B87-AC2A-948ED28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22E7A-2B60-48B3-8EBF-04F3905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8BA-7933-4B3D-BBC8-5C28424C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ADE5F-EDA5-470B-B01C-2ABD711F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2985A-685B-4CDF-9410-BD6197B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23ED1-3817-490E-807A-9FFF0F6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0ED29-F118-4489-AB1F-EDCE70F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EDC04-F942-4DF7-ABD7-CC25E69E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B8F2D-7473-4BEF-A0BA-344DE2F6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D1358-C988-4671-B133-18A603C8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2C63-0CF5-448D-901A-F3D93821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7216-A5C0-46B3-BC90-0B32DCE8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E6785-0F0F-414C-8BA9-56230A5D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BDC-B6E4-4635-8A37-380CABD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FA87-4D8B-4362-9E57-C8D7C27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9C39-2ED7-4CD7-92B0-0734E67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2616-5427-4E01-A16C-2974C88F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4926-4584-4D6F-B740-C8D455D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517D-D33E-43CA-8A29-569E068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E0DD-591C-48C2-88E3-E002922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29A5-51B8-4EDF-80D7-80DCF46D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648B-4F00-48E1-92B7-EB38C753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0E55-523B-4117-8D52-67263A0F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60150-844B-4079-ADF4-0536BE36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E32-C22C-40A0-849E-0FEBAC5A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60BFE-DA51-4D34-87DF-903F422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30BE8-2F34-4DBB-88DE-9FC31BA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0EF6B-62B4-48E6-81FC-F9A7ABC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0AFEA-FC3C-4B4D-866D-DB7D9B59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329C7-EF40-4DFE-8353-80FD708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CF8DC-302C-4919-A746-6BFA827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CEAB8-2931-4E40-B172-1558B48D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BCDD2-18F1-453B-A802-DD55C12C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5ACE5-15FA-4271-A5CD-E29B5569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2888D-FD69-495F-89B7-C5C2CD90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DB5-015F-4BEC-BB12-0EF66470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799B7-903F-4D37-8D88-58AFD7BB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4A6F0-FEA7-4424-9760-3C420518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58429-BD56-4440-9BAA-EB0274A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096B6-7EBA-4A18-919E-C6467D2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C106D-1FB2-4EF9-9145-FC231996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80689-7E2D-4F3B-B756-C5D9E470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3F921-C05C-45B6-B3AF-95250C01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C2DC3-FD99-4B30-B0B3-3AF3F13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FA1B1-7B5D-4EB0-BFD1-E550D68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9BD7B-6F16-4C65-9C3A-06CB7952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403-B6B7-4343-B063-9DCC281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4D48F-FF8E-4BD2-9DE5-80AD563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4FD75-1254-4AE2-B848-661B484B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68E27-EDCD-495F-9B1E-D663FDE3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69999-C102-4B0F-8FD6-188B78FC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A90F6-73F9-4F28-A07C-BCFFEBCB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F08A6-932B-43C3-8E57-3DF783C4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0B946-FE16-4A70-9E37-43C903B0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B3856-F9E7-4B4F-B645-CDDF629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70D12-6BEC-45AC-8904-286FB12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A7680-419F-4474-BC39-DBFF619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0CE-C2D1-47D8-B8C2-136CB1A2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B0480-4141-4D46-91C0-4D5E357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E4059-0C0F-4DDF-ACAA-A9CDA3E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C7ACA-ED0B-43C0-A5F4-A58E22C5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02104-2457-4365-BC4C-E0A3A29F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6A4D1-C250-4A5E-A802-F4F253B2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3F2-E978-4844-A094-3F5D9B3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7043-2059-4AF4-8367-595E2DDDE8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96B-F6C6-4FCF-A6D7-CCD5DB42B45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06EA-650D-4393-8F92-D2934FB762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6EC-3CDA-4347-9FEB-032A0C62FF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65F2-956D-480C-813A-BB8FC267480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F14-FCBE-499B-8B92-DE64D831DB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809E-E5C1-42ED-8D7F-2FA983CFCA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toshiba</cp:lastModifiedBy>
  <dcterms:modified xsi:type="dcterms:W3CDTF">2011-03-17T02:49:29Z</dcterms:modified>
  <cp:revision>171</cp:revision>
  <dc:subject/>
  <dc:title>Diapositiva 1</dc:title>
</cp:coreProperties>
</file>