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2664-5185-4419-989E-9E12D8B1F3C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6220-5812-4498-94A6-90ABD12C16B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2D142-74B2-4ACF-AA52-76E980EF1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AC6CA-03C8-44AB-8240-DBFE8BF41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E52C0-0467-493C-B67D-2CD5D2530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214A2-A5D5-45DD-93F4-995DDF782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9EB28-227C-46C4-B439-0E43FD1C3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0B121-D419-47ED-8620-4766342F3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05FC-F16E-46D4-A97C-1AD970622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0F0D6-FA23-4939-8903-22EDEB19A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1E4A1-1982-4FEA-A4B4-3E4050B26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B9C4F-449C-4CBE-AFC1-AFD19B559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5878-1808-45FD-9D6E-06DC391B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C1297-5DFF-464B-9BAC-EB3218B55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B3D0-4232-4AD5-86D2-B973C50A8C1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toshiba</cp:lastModifiedBy>
  <dcterms:modified xsi:type="dcterms:W3CDTF">2011-11-28T19:03:33Z</dcterms:modified>
  <cp:revision>16</cp:revision>
  <dc:subject/>
  <dc:title>Diapositiva 1</dc:title>
</cp:coreProperties>
</file>