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CDA7-5CAC-4B68-93C9-148332DA686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ldImg"/>
          </p:nvPr>
        </p:nvSpPr>
        <p:spPr>
          <a:xfrm>
            <a:off x="1143000" y="685800"/>
            <a:ext cx="4572000" cy="3429000"/>
          </a:xfrm>
          <a:prstGeom prst="rect">
            <a:avLst/>
          </a:prstGeom>
          <a:ln w="0">
            <a:noFill/>
          </a:ln>
        </p:spPr>
      </p:sp>
      <p:sp>
        <p:nvSpPr>
          <p:cNvPr id="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D4CB8-10E8-462A-88D7-29B4CB75C52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44D23-ADBD-4BB1-B08E-389AB641A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DC659-839A-4C8A-BF17-36845438A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B5C44-BE6D-4228-AA19-AEB5C2884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F8B1E-FFFD-4169-A735-457EBDC8C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353C0-AA50-4005-8C8F-37687718D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38C7F-ACE9-4DCA-9CE9-25CCF1FA1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E4BFD-65F2-443A-903B-2B3350197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29C8C-08C3-4E63-ABBE-2DB8D8EFE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18BEB-8B71-419B-89DB-8EB82D94D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5857A-67DD-4851-B3AD-3D7453DEC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59D25-DCF4-4A6A-9929-3005A1378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BD1E5-8727-4525-87C4-A9166408B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FF2A-84A9-4FB4-AB87-C86F51E0C33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196920" y="123840"/>
          <a:ext cx="8748720" cy="6568920"/>
        </p:xfrm>
        <a:graphic>
          <a:graphicData uri="http://schemas.openxmlformats.org/drawingml/2006/table">
            <a:tbl>
              <a:tblPr/>
              <a:tblGrid>
                <a:gridCol w="1566720"/>
                <a:gridCol w="1728720"/>
                <a:gridCol w="792360"/>
                <a:gridCol w="1079280"/>
                <a:gridCol w="1944720"/>
                <a:gridCol w="163692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art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laves</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ctividades clav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opues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val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laciones c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los clie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Seg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clientes</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a:noFill/>
                    </a:lnB>
                    <a:noFill/>
                  </a:tcPr>
                </a:tc>
              </a:tr>
              <a:tr h="2185920">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artner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roveedore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adquirimos de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de las actividades claves son realizadas por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92d050"/>
                          </a:solidFill>
                          <a:latin typeface="Arial"/>
                        </a:rPr>
                        <a:t>-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actividades clave requiere nuestra propuesta de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c000"/>
                          </a:solidFill>
                          <a:latin typeface="Arial"/>
                        </a:rPr>
                        <a:t>- 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gridSpan="2"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valor le entregamos al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 de los problemas del cliente le ayudamos a resolve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paquetes de productos o servicios le estamos ofreciendo a cada segmento de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necesidades del consumidor estamos satisfaciend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70c0"/>
                          </a:solidFill>
                          <a:latin typeface="Arial"/>
                        </a:rPr>
                        <a:t>-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tipo de relacionamiento con cada segmento de cliente esperamos establecer y mantener?¿Cuáles hemos establecido?¿Cómo se integran con el resto del modelo de negocio?¿Cuán costosos s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000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ara quienes estamos creando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más importante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c00000"/>
                          </a:solidFill>
                          <a:latin typeface="Arial"/>
                        </a:rPr>
                        <a:t>- 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r>
              <a:tr h="283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cursos clav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requiere nuestra propuesta de valor? ¿Nuestros 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f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anal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 través de qué canales desean los clientes ser contactados?¿Cómo los estamos alcanzando ahora?¿Cómo se integran nuestros canales? ¿Cuáles trabajan mejor?¿Cuáles son más eficientes en costos? ¿Cuáles estamos integrando con las rutinas de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5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032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Estructura de Costo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son los costos más importantes en relación a nuestro modelo de negocio? Cuáles recursos claves son más caros? ¿Cuáles actividades claves son más caras?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900" spc="-1" strike="noStrike">
                          <a:solidFill>
                            <a:srgbClr val="002060"/>
                          </a:solidFill>
                          <a:latin typeface="Arial"/>
                        </a:rPr>
                        <a:t> Detallar</a:t>
                      </a: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Flujos de ingreso</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ál valor están dispuestos a pagar nuestr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al valor pagan actualmente? ¿Cómo pagan actualmente?¿Cómo preferirían pagar? ¿Cómo cada flujo de ingreso contribuye al flujo de ingreso gener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 </a:t>
                      </a:r>
                      <a:r>
                        <a:rPr b="0" lang="es-CL" sz="900" spc="-1" strike="noStrike">
                          <a:solidFill>
                            <a:srgbClr val="7030a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8:28:49Z</dcterms:created>
  <dc:creator>jaime.villarreal</dc:creator>
  <dc:description/>
  <dc:language>en-US</dc:language>
  <cp:lastModifiedBy>toshiba</cp:lastModifiedBy>
  <dcterms:modified xsi:type="dcterms:W3CDTF">2011-11-28T19:03:33Z</dcterms:modified>
  <cp:revision>16</cp:revision>
  <dc:subject/>
  <dc:title>Diapositiva 1</dc:title>
</cp:coreProperties>
</file>