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E30B0-8D48-49DC-AB17-EA452E845BC0}"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ldImg"/>
          </p:nvPr>
        </p:nvSpPr>
        <p:spPr>
          <a:xfrm>
            <a:off x="1143000" y="685800"/>
            <a:ext cx="4572000" cy="3429000"/>
          </a:xfrm>
          <a:prstGeom prst="rect">
            <a:avLst/>
          </a:prstGeom>
          <a:ln w="0">
            <a:noFill/>
          </a:ln>
        </p:spPr>
      </p:sp>
      <p:sp>
        <p:nvSpPr>
          <p:cNvPr id="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F1E3C-2960-412B-B474-51EDC8EE2688}"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153F6-3EF0-4858-A0CD-A94746F9BD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CEF4D-1284-4D16-A7AE-5F4DBD6AA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FE050-0FF5-4432-95F5-14AB920782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94DC1-3031-4007-8EB9-28E0CF23DD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5A341-BA60-4E45-832F-07307DB01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F4279-1E59-4C19-88EC-DA439E8D7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5BC22-4425-4EEB-812A-EF4B68A4B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66CB1-E156-4016-A011-0140C24E7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12336-0037-4701-A918-D6313438E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792D9-81C3-400C-8356-F3E01ACA3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16608-88D5-4ACD-BE21-294E36EBA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24678-B940-4030-A00D-7BC1282F46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5A771-43DD-4B0C-87FC-F5FC046EB14F}"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
          <p:cNvGraphicFramePr/>
          <p:nvPr/>
        </p:nvGraphicFramePr>
        <p:xfrm>
          <a:off x="196920" y="123840"/>
          <a:ext cx="8748720" cy="6568920"/>
        </p:xfrm>
        <a:graphic>
          <a:graphicData uri="http://schemas.openxmlformats.org/drawingml/2006/table">
            <a:tbl>
              <a:tblPr/>
              <a:tblGrid>
                <a:gridCol w="1566720"/>
                <a:gridCol w="1728720"/>
                <a:gridCol w="792360"/>
                <a:gridCol w="1079280"/>
                <a:gridCol w="1944720"/>
                <a:gridCol w="1636920"/>
              </a:tblGrid>
              <a:tr h="51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Partne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claves</a:t>
                      </a:r>
                      <a:endParaRPr b="0" lang="en-US" sz="1400" spc="-1" strike="noStrike">
                        <a:solidFill>
                          <a:srgbClr val="000000"/>
                        </a:solidFill>
                        <a:latin typeface="Arial"/>
                      </a:endParaRPr>
                    </a:p>
                  </a:txBody>
                  <a:tcPr anchor="t" marL="90000" marR="90000">
                    <a:lnL w="18720">
                      <a:solidFill>
                        <a:srgbClr val="000000"/>
                      </a:solidFill>
                    </a:lnL>
                    <a:lnR w="5760">
                      <a:solidFill>
                        <a:srgbClr val="000000"/>
                      </a:solidFill>
                    </a:lnR>
                    <a:lnT w="18720">
                      <a:solidFill>
                        <a:srgbClr val="00000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Actividades clav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a:no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Propuest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de val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Relaciones c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los client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Segment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de clientes</a:t>
                      </a:r>
                      <a:endParaRPr b="0" lang="en-US" sz="1400" spc="-1" strike="noStrike">
                        <a:solidFill>
                          <a:srgbClr val="000000"/>
                        </a:solidFill>
                        <a:latin typeface="Arial"/>
                      </a:endParaRPr>
                    </a:p>
                  </a:txBody>
                  <a:tcPr anchor="t" marL="90000" marR="90000">
                    <a:lnL w="5760">
                      <a:solidFill>
                        <a:srgbClr val="000000"/>
                      </a:solidFill>
                    </a:lnL>
                    <a:lnR w="18720">
                      <a:solidFill>
                        <a:srgbClr val="000000"/>
                      </a:solidFill>
                    </a:lnR>
                    <a:lnT w="18720">
                      <a:solidFill>
                        <a:srgbClr val="000000"/>
                      </a:solidFill>
                    </a:lnT>
                    <a:lnB>
                      <a:noFill/>
                    </a:lnB>
                    <a:noFill/>
                  </a:tcPr>
                </a:tc>
              </a:tr>
              <a:tr h="2185920">
                <a:tc row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iénes son nuestros partners clav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iénes son nuestros proveedores clav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recursos claves adquirimos de los partner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uáles de las actividades claves son realizadas por los partner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92d050"/>
                          </a:solidFill>
                          <a:latin typeface="Arial"/>
                        </a:rPr>
                        <a:t>-detalla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872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actividades clave requiere nuestra propuesta de valo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anales de distribució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s relaciones con l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flujos de ingreso?</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ffc000"/>
                          </a:solidFill>
                          <a:latin typeface="Arial"/>
                        </a:rPr>
                        <a:t>- 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gridSpan="2" row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valor le entregamos al cliente?</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uál de los problemas del cliente le ayudamos a resolve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paquetes de productos o servicios le estamos ofreciendo a cada segmento de cliente?</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necesidades del consumidor estamos satisfaciendo?</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70c0"/>
                          </a:solidFill>
                          <a:latin typeface="Arial"/>
                        </a:rPr>
                        <a:t>- </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tipo de relacionamiento con cada segmento de cliente esperamos establecer y mantener?¿Cuáles hemos establecido?¿Cómo se integran con el resto del modelo de negocio?¿Cuán costosos so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ff000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ara quienes estamos creando valo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iénes son nuestros más importante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c00000"/>
                          </a:solidFill>
                          <a:latin typeface="Arial"/>
                        </a:rPr>
                        <a:t>- detalla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8720">
                      <a:solidFill>
                        <a:srgbClr val="000000"/>
                      </a:solidFill>
                    </a:lnR>
                    <a:lnT>
                      <a:noFill/>
                    </a:lnT>
                    <a:lnB w="5760">
                      <a:solidFill>
                        <a:srgbClr val="000000"/>
                      </a:solidFill>
                    </a:lnB>
                    <a:noFill/>
                  </a:tcPr>
                </a:tc>
              </a:tr>
              <a:tr h="2835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Recursos claves</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recursos claves requiere nuestra propuesta de valor? ¿Nuestros canales de distribució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s relaciones con l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flujos de ingreso?</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b0f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Canales</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A través de qué canales desean los clientes ser contactados?¿Cómo los estamos alcanzando ahora?¿Cómo se integran nuestros canales? ¿Cuáles trabajan mejor?¿Cuáles son más eficientes en costos? ¿Cuáles estamos integrando con las rutinas de l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b05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30320">
                <a:tc grid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Estructura de Costos</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uáles son los costos más importantes en relación a nuestro modelo de negocio? Cuáles recursos claves son más caros? ¿Cuáles actividades claves son más caras? </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a:t>
                      </a:r>
                      <a:r>
                        <a:rPr b="0" lang="es-CL" sz="900" spc="-1" strike="noStrike">
                          <a:solidFill>
                            <a:srgbClr val="002060"/>
                          </a:solidFill>
                          <a:latin typeface="Arial"/>
                        </a:rPr>
                        <a:t> Detallar</a:t>
                      </a:r>
                      <a:endParaRPr b="0" lang="en-US" sz="9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Flujos de ingreso</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or cuál valor están dispuestos a pagar nuestr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or cual valor pagan actualmente? ¿Cómo pagan actualmente?¿Cómo preferirían pagar? ¿Cómo cada flujo de ingreso contribuye al flujo de ingreso general?</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 </a:t>
                      </a:r>
                      <a:r>
                        <a:rPr b="0" lang="es-CL" sz="900" spc="-1" strike="noStrike">
                          <a:solidFill>
                            <a:srgbClr val="7030a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8:28:49Z</dcterms:created>
  <dc:creator>jaime.villarreal</dc:creator>
  <dc:description/>
  <dc:language>en-US</dc:language>
  <cp:lastModifiedBy>toshiba</cp:lastModifiedBy>
  <dcterms:modified xsi:type="dcterms:W3CDTF">2011-11-28T19:03:33Z</dcterms:modified>
  <cp:revision>16</cp:revision>
  <dc:subject/>
  <dc:title>Diapositiva 1</dc:title>
</cp:coreProperties>
</file>