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9592-28EB-46E0-8051-1834B1D7677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AB7C-BBC4-4A82-BF35-4A1F8A26723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9BB49-9825-4922-B98D-D634AD56E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E6432-4241-4087-B0A5-F11CE2BD1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FA672-A928-4012-A6BF-8E297A19F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9FC3A-603B-40D6-9683-28010B8B4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5953-0C95-42C1-84E5-8B93C5F6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ED77-5B68-4D90-A147-D278BF8D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966A3-87F9-4354-AD07-2B813AC47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8A80-BAAA-4F27-BFD4-3C4B9671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3DC7-31A2-4978-B5EB-53F632DB3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6F87E-8314-4B12-9070-1D3BD0B52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E18F-8810-419A-A3B2-22A99A245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F1B7-396F-412E-A7ED-BDC97991A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87BC-F669-407B-A4A4-A9B3C07921E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toshiba</cp:lastModifiedBy>
  <dcterms:modified xsi:type="dcterms:W3CDTF">2011-11-28T19:03:33Z</dcterms:modified>
  <cp:revision>16</cp:revision>
  <dc:subject/>
  <dc:title>Diapositiva 1</dc:title>
</cp:coreProperties>
</file>