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3542-AA82-4A5B-8AA4-DF47B4F1169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F058-7009-4A97-BE97-D3C3E284639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9527-F144-4E45-88DC-3DAFACD04BC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042D-62FF-4509-81D4-2B28CBA37F4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D334-783E-4C75-B7A9-23FA68E2FA8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8D7C4-2066-4062-A6FD-220DBF54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5EB81-4314-45EA-8A3E-8D631E79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8D02B-0697-48B8-92A0-AE799AE6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9B4DA-58EC-4F0F-B233-7073BD5E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29606-61CA-453A-8A39-A9EBF5EA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DE06D-3DBF-4605-8205-D88EF61B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930A2-FBE9-49F1-8AA6-BB93FD7C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C9E47-F950-4690-94DF-A4255112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26F3B-E1BB-47F6-8CD0-045C561F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E135E-0C72-4404-862E-92588A12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7C8C7-0F34-448F-8E1B-E835CFF6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FECE0-A855-42A4-BD95-3311E51D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0D4E-8430-47AC-8085-064F9F9C0D4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toshiba</cp:lastModifiedBy>
  <dcterms:modified xsi:type="dcterms:W3CDTF">2010-08-18T18:19:59Z</dcterms:modified>
  <cp:revision>9</cp:revision>
  <dc:subject/>
  <dc:title>Fuentes de Oportunidades</dc:title>
</cp:coreProperties>
</file>