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92010-202F-44D9-BB3B-0C7F940EA43D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40310-0A00-4F06-A788-5843CC0B5B5F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1D63B-2777-4711-BE94-9BB44968A7E9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FDC65-EE4E-4B57-9659-296FFC8EB194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89C8B-4538-4A0E-9FEC-60998803C930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41B82B-5152-49C3-9236-5608E3D83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2D6EEE-A0A0-443C-9789-D60A2CE00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062D6A-EC9C-435E-A6D0-226FFFEA4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F29BA1-284E-4A88-94E5-180E83D90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4984C8-E041-4DDA-AD64-A3384FE1B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1E154C-898B-4E5A-8654-25CDF0E6B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09703A-BAFA-4134-B7AC-B9D1A9040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450AB5-5407-4251-A55E-035A5079D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BAE262-E2A5-4165-B738-18AC829AF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1087E3-6D50-44B2-B023-FE5E4066D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BEF7E9-A377-48C8-BE74-0B040841E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5A5F51-09A8-4D7B-9E08-91E7574BB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11280" y="6244920"/>
            <a:ext cx="79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iseño y evaluación de Negocios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3"/>
          <a:stretch/>
        </p:blipFill>
        <p:spPr>
          <a:xfrm>
            <a:off x="6300720" y="6237360"/>
            <a:ext cx="226224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8" descr=""/>
          <p:cNvPicPr/>
          <p:nvPr/>
        </p:nvPicPr>
        <p:blipFill>
          <a:blip r:embed="rId3"/>
          <a:stretch/>
        </p:blipFill>
        <p:spPr>
          <a:xfrm>
            <a:off x="1979640" y="3573360"/>
            <a:ext cx="4638600" cy="1022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5E3C6-212A-403A-8A1D-3945A615C994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134720"/>
            <a:ext cx="79898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Fuentes de oportunidades de negocio</a:t>
            </a:r>
            <a:br>
              <a:rPr sz="3600"/>
            </a:b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y factores para evaluarl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3 Marcador de pie de página"/>
          <p:cNvSpPr/>
          <p:nvPr/>
        </p:nvSpPr>
        <p:spPr>
          <a:xfrm>
            <a:off x="611280" y="6245280"/>
            <a:ext cx="792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iseño y evaluación de Negocios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4920" y="549360"/>
            <a:ext cx="8001000" cy="73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Fuentes de ideas de negoc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777240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Quiebres o Necesida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Medios de Comunicación (ej. Diario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Entretenimiento (ocio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Redes (ej. Compañeros-Socializar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Ferias y viaj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Fondos de Fomento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Cambio de Paradigma (¿Qué no se puede hacer hoy pero si se hiciera cambiaría el mundo?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Agregar valor al client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Agregar valor a la empresa (+valor, -costo, mejor adm.  activos, mayor valor de la empresa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Hacer sudar los activ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Segmentos en crecimiento (ej: Grupo D, tercera edad, etc.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Arbitraje (dif. Costos mano obra, monedas, etc.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3 Marcador de pie de página"/>
          <p:cNvSpPr/>
          <p:nvPr/>
        </p:nvSpPr>
        <p:spPr>
          <a:xfrm>
            <a:off x="611280" y="6245280"/>
            <a:ext cx="792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iseño y evaluación de Negocios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índices de interés del negocio</a:t>
            </a:r>
            <a:br>
              <a:rPr sz="32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Dependientes de quien evalúa)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84360" y="1989000"/>
          <a:ext cx="7848360" cy="397080"/>
        </p:xfrm>
        <a:graphic>
          <a:graphicData uri="http://schemas.openxmlformats.org/drawingml/2006/table">
            <a:tbl>
              <a:tblPr/>
              <a:tblGrid>
                <a:gridCol w="2965320"/>
                <a:gridCol w="3154320"/>
                <a:gridCol w="358920"/>
                <a:gridCol w="136980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Fa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Val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Text Box 140"/>
          <p:cNvSpPr/>
          <p:nvPr/>
        </p:nvSpPr>
        <p:spPr>
          <a:xfrm>
            <a:off x="196920" y="2583000"/>
            <a:ext cx="7875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Mérito Innov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amaño del negocio (p*q) ho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otencial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iesgo tecn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iesgo de cultura/costumbre/paradig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iesgo comercial (competidores,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otencial de internacion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versión (monto, dificultad de obtención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apacidad del equipo emprende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valuación (económica, operaciona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3 Marcador de pie de página"/>
          <p:cNvSpPr/>
          <p:nvPr/>
        </p:nvSpPr>
        <p:spPr>
          <a:xfrm>
            <a:off x="611280" y="6245280"/>
            <a:ext cx="792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iseño y evaluación de Negocios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ipos y fuentes de Innovació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xt Box 140"/>
          <p:cNvSpPr/>
          <p:nvPr/>
        </p:nvSpPr>
        <p:spPr>
          <a:xfrm>
            <a:off x="357120" y="2000160"/>
            <a:ext cx="81025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Tecnológ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el Producto (bien o servici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Modelos de Nego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Procesos de Nego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Procesos Produ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Políti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La innovación (los cambios) genera negocios al crear valor para el cliente (stakeholders) y/o para la empres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0T00:32:30Z</dcterms:created>
  <dc:creator>Antonio Holgado</dc:creator>
  <dc:description/>
  <dc:language>en-US</dc:language>
  <cp:lastModifiedBy>toshiba</cp:lastModifiedBy>
  <dcterms:modified xsi:type="dcterms:W3CDTF">2010-08-18T18:19:59Z</dcterms:modified>
  <cp:revision>9</cp:revision>
  <dc:subject/>
  <dc:title>Fuentes de Oportunidades</dc:title>
</cp:coreProperties>
</file>