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F402-77CA-44FD-96BC-5EF1ECD557A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9F56-5685-4008-9FCD-B98821752A4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B1CE-E62D-4F50-98EB-E3B66FCAE29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973C-79B6-4393-BF79-8E385B132EF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CA4D-2999-4425-86DF-C11976F87EB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0C2F0-14C7-4CCB-9D4A-BBE0CDB8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B4EC9-92CA-44FE-9FAF-35F554E3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454AC-A5F0-415A-B1C9-E9991FD2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CD9D2-69D9-43FD-9550-7B140D50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B7615-F4E4-48EC-9B89-D77567B9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32D38-2A12-4E97-BFCB-C0E59A85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3A7F0-9927-46A7-BEAE-B18F1297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3013B-5E33-44ED-8F48-B4A766E0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36A1F-DB7A-40B0-ABE9-0E6DF3B4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D262B-BF4E-4543-A995-D0943A0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222A2-52AD-4E07-B904-26191351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01718-B180-4C6F-A06D-695D3A32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BA8A-0603-4D8C-BBF1-B680C55B4D6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toshiba</cp:lastModifiedBy>
  <dcterms:modified xsi:type="dcterms:W3CDTF">2010-08-18T18:19:59Z</dcterms:modified>
  <cp:revision>9</cp:revision>
  <dc:subject/>
  <dc:title>Fuentes de Oportunidades</dc:title>
</cp:coreProperties>
</file>