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AAD5-EFB0-4473-A800-50556BF60A5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8907-CF09-466E-A208-F7CCA67A19D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A9F3-178E-41B8-84CF-3DB8C28C816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8761-F961-4811-8458-5A077E85E1F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A25F-F9F1-471B-B7AF-C8655E943FE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39862-3A20-4C58-A2C8-802B734A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CFFBB-E5B4-418F-8268-1A0E6BAA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62DE4-263E-4B50-A116-3414F62E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F0891-318B-48F9-B769-3A0384B7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9CF2F-772E-47AF-A625-F51F9EDE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5A99C-D6B1-4ECF-BF8A-47D02F7B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36827-4019-4B77-9DDD-52C3B0B1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D6612-FCC2-484F-996C-549937D3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7E9E8-90B6-4D02-9851-AB94BB33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CA373-F2D1-49F0-9BEB-03A96C93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1AED7-645B-4BFB-841C-33E092DF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0BAE5-689A-4A92-8C42-C636EEDA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C298-4E72-4C6E-BAD6-6299F4D7D0D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toshiba</cp:lastModifiedBy>
  <dcterms:modified xsi:type="dcterms:W3CDTF">2010-08-18T18:19:59Z</dcterms:modified>
  <cp:revision>9</cp:revision>
  <dc:subject/>
  <dc:title>Fuentes de Oportunidades</dc:title>
</cp:coreProperties>
</file>