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2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3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220-8C1D-4326-A253-F053A062E3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4D29-D462-4398-BE66-DCA104C141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01A6-57AF-4B83-B1A0-32265C3863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DA33-ED42-4EBF-89EC-4BB166B5FC9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100-98CF-4D65-9BC0-B748929144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240-A6DE-4D2E-B04A-A747F07085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883-9ECE-4339-B74A-DD1BEFC826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3688-3304-4F53-9EA3-2F17E9C7B4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5AE-FF9F-4503-8FE9-8244F08643A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2F7-1FAD-4CBD-BE9F-6786CC859F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4F2-CFB1-4565-9082-89FB9ADFB4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622-2577-45D1-B329-EAC20106B36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5D94-D62C-4264-B6B0-461CDA319F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2E22-73D4-4DE0-88DD-268EE525D5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213-AA66-4D35-8497-948230B612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AF3-E6A7-4F63-8973-162457E9BB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AC1-7F32-4E2E-86E4-B0B15D1DEF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833-95EB-44D5-B1B4-AA14D14D92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B59-7F84-49B4-8772-FE8C64C259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050-5CED-481A-A778-A602BEB02F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12B5-A36D-4305-A14F-56ECEDEC49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E04-4352-4608-9D8C-A6237AD2BF4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D18-AC99-4953-A140-B253D22C6F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BA8-FECE-4989-9614-88FAF13479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61D-4E4E-455C-859B-E63872532B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9178-0FDB-48CA-9CD5-D73D3013E2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A85-CFBE-448D-95B5-2D990C69330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39D-E84F-486D-8413-F942DF9F6CA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F5CE-787D-47D4-BAC9-6A9121D94033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3AA3-4C00-42BF-BE16-8D62237D822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C11F-8EC9-47BE-8147-D4B6789A4E0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12C-8994-47C7-B121-E321DD02D46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704B-C2CD-43EF-B11D-CCE402DF33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5548-F566-426E-94AC-DB450DED0F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FED2-730B-43EE-A48F-02FB360F513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4484-7543-4FC0-BBE8-1DBF245762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E76-6099-41ED-97F2-7B7555C475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5A3-3B08-45EE-948E-7E2006BA104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5EEA-33DB-42A2-8364-F3A9C610A0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105-F4EB-45B8-B3A6-8A75E71E98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731E-814C-4FBD-B6F4-90F3CFB0D4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E219-F8D5-4276-9881-C0EEF51D857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B07-644D-4C26-B4AE-4BFF8B6FE8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2FB-0DB0-4350-B928-C6F719E4E5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829-ADB6-4833-8497-D8BD5AB5B6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F54-4DA0-4014-94F0-7313D5FCCD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7775-988E-42B9-87F3-416E736613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FA8-59BF-404D-8559-09EEEB9451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C73-8B8D-41B5-BD95-73444158DE9E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43B3-52D2-4BCC-9537-1C5358A8B9CE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8DC-D20E-4A52-9B54-907C08681921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2C6-A350-4CE4-89F0-E58B34C8FCB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02E-C6C6-4FA0-A6F5-89A9E3EBFFD8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E1DB-8E21-4FC0-B941-7E50E5AEFE1F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C79-1A01-414D-90A7-8140C848543E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8345-25EE-4D4C-AA82-AE43A4682E1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5AE-00FE-4752-8B6E-896D7B3FEF6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16E4-8A40-4467-B705-97D562FFB89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978-B8D3-43A4-9E7E-41CF59CBE48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4BA-5769-443B-8683-0B020709BE7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FDA-44AA-49B5-BCFE-C40040858D8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F9A-775B-46D8-B18A-94973376CF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D6D4-EE2F-4079-A05B-03B520032BD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0619-859E-4024-80D7-729688AADA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0F6-5D11-493C-B5DA-DEA149AFC4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0FB-0036-47B3-95A9-E7C8B54F02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F9F91-6787-41E8-B749-3D53EB63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DA1E5-B715-4B11-AC5A-26EE406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5DF6D-40F4-490A-AC7B-7866B490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2CD99-8379-490B-98A8-0C13DD26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354EA-1CF8-47A1-A8FF-80A4C457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7105B-BB9F-4CE0-87B7-7460CDC7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B76BB-EFFD-44A0-8C30-46CC9DF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24000-301B-49B6-984E-0127A24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A1AC8-A76D-4A49-99B9-A0F5258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AFA23-FCBC-4C30-B977-C9D2DE6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2D97-055B-475D-851F-4B76A942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28B06-FDF8-4BEF-9284-92420F5A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4044E-AC23-4C76-BCA1-0B860BFC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4EB93-0A5B-4376-A640-88F2835C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A00881-8F16-4023-9177-011D478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6321D-782D-4EC1-82F7-0E59AB5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326A2-5047-4231-BBDE-802AC38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F71FB-8A94-40F4-9884-FF80604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55D3F-38E6-412C-945A-040DB4C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7FB67-5C4D-47A9-9233-BEA6785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2055B-5E7B-4815-B46E-6A5A11F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C1CE7-F76A-4111-8C41-920E922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E2E00-8706-453C-9B4F-B501DCD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8184B-1E28-4F96-A9A7-7C55D769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95967-CC02-4298-99C8-881E51BC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3D296-3182-436C-AB33-1F060B2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BE1AA-381D-4A8A-834C-0EE99122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C881B-45BA-49F4-BAAC-C550BE83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C467E-6E9D-479C-8506-D79B857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585C1-DDE8-4A7F-986D-900950E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5716D-A8F0-4337-9512-27BAEB9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B2565-827F-40F4-84F5-ACD7BA5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D4A50-39A8-4BEC-A152-5BF7225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62697-B108-4CE1-B686-3F1BABA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C6ABE-CAF1-408F-B949-825824B2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24B60-AB97-4EA4-82FF-ECFFD541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615-1FEE-47F3-AFDA-446F4DA6F0DE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948-1CE1-4426-A498-91CB92ED5452}" type="slidenum"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302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1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342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4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5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56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8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diseñar y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77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92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AutoShape 8"/>
            <p:cNvSpPr/>
            <p:nvPr/>
          </p:nvSpPr>
          <p:spPr>
            <a:xfrm>
              <a:off x="3192480" y="1916280"/>
              <a:ext cx="30866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de negocios y crecimiento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  <p:sp>
        <p:nvSpPr>
          <p:cNvPr id="200" name="4 Flecha derecha"/>
          <p:cNvSpPr/>
          <p:nvPr/>
        </p:nvSpPr>
        <p:spPr>
          <a:xfrm>
            <a:off x="395280" y="2997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Resumen Ejecu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La Industria, la empresa y el entor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Análisis e Investigación de Mercar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Estrategia de negocios y de crecimi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es Operacion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CIÓN GEN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es Financieros para el horizonte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 (esper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 y factore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Aquí debe haber ingenie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FLUJO DE CAJA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undamentos Con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Juan Carlos 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áez 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IN 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  <a:ea typeface="MS PGothic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lujo de caja p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pital, financiamiento y tas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de fluj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“stock”: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aquellas que si bien sus niveles pueden cambiar en el tiempo se miden en su valor de estado: inventarios, acreencias, deudas, saldo de caja, depreci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acumulada, capital propio. $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de fluj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van al Estado de Resultados y al Flujo de Caja, pero tamb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ariables “stock”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e reflejan solo en los balances, a 8 columnas o clasifi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ado de 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MS PGothic"/>
              </a:rPr>
              <a:t>ás distinciones fundament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ast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 ES IGUAL 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gre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vers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gast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Depreciación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ga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rrección monetari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costo negativo o posi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ent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 IGU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 ingr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enta bruta = Venta neta + IVA y/o otros impues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ntas de export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son sin 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MS PGothic"/>
              </a:rPr>
              <a:t>ás distinciones fundament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Gasto </a:t>
            </a:r>
            <a:r>
              <a:rPr b="1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Gasto bruto = Gasto + IVA y/o otros impue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Sueldo bruto = sueldo neto + leyes sociales + impuesto a las perso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mpuesto al Valor Agreg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MS PGothic"/>
              </a:rPr>
              <a:t>é el Valor Agregado?: es el aumento del valor de los bienes o servicios resultante de la produ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3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é es la renta?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3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pital, financiamiento y ta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pital de trabajo y financi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AN, Tasa de descuento y 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10-29T19:01:27Z</dcterms:modified>
  <cp:revision>30</cp:revision>
  <dc:subject/>
  <dc:title>Modelo de Negocios</dc:title>
</cp:coreProperties>
</file>