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1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Img"/>
          </p:nvPr>
        </p:nvSpPr>
        <p:spPr>
          <a:xfrm>
            <a:off x="109224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2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 type="sldNum" idx="13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94B7-2A27-444E-B77A-D6498B36251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6DF0-71E8-498D-8354-23B2CC3DFDD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1E6F-B8A9-46BA-8942-5BE14D1083A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4646-E3C8-48AF-B6CA-D4F43F9B562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531E-6D86-4EE1-A4AC-220B5CFE040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85F7-C8FE-43F7-B318-8D62267754A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76A3-4D6B-4AF8-BF8E-0B180E56DAF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5F71-1CC3-4641-992C-C77C6FEEC1B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5F03-9456-4F97-9700-57EB6275509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7673-7EE5-4CD0-BAE5-E41D4362065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57D2-D8C7-469B-A98C-1A40CD8B1BD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B5FC-C272-461A-9A16-C7B3D068340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D180-9C0A-42D7-9D6A-C5078FFE81F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0CF6-FD18-44B5-B836-56144B6956E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FF28-BE8B-49F6-A113-C47BE16D0DC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2903-89B4-4D68-B702-D8CBE95D3BC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8280-B1F8-489D-A842-8DFBAF5B52D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8BD1-4FDC-4615-B0B7-12B138DC20D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1869-DD0A-431B-9DBE-4EB47CDCFF1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5CBE-0025-4465-A3D6-DCA846BFE55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5BCE-873D-4D2C-82FF-539E8F8247E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BF02-FAAE-4CC0-B268-DC044FFEFAC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B46F-14ED-45B1-B3E3-B84C9E9896B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45DF-6E69-4158-B09F-7713FC66DBD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B891-A564-416B-AE68-AD56D286DCC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26AB-2D92-4BBC-A5B1-F682653683C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1C35-CEAE-4211-8F5E-D17055A8528E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FE5E-E8E3-4F41-9FAB-AD30C3D41635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11D0-EF3E-437A-BC1A-18471AA9854B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B841-2603-4802-8895-4323BB7DCED8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8AB2-186F-4E2F-97D3-994D1652083A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8A7B-9EDC-4AF9-8FA0-00AAE9554EFF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E602-3096-4FB8-8735-9E86E3BA4AB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83EB-A153-409F-B8B3-1DDEDA1B0A5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1A51-A501-42E7-A506-96D518A21A4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FCB8-6517-459B-8DE0-0B27C7A4ECF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C444-6F09-4984-AF53-CDF46B70490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C6BB-FFDB-4C44-9F76-8B32B66CE6E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F030-89DF-449D-9DEC-E84E7AE9BE5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D632-C08E-48AA-8ED4-2BEEF6F7F85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52A9-4838-47C0-A31D-C8D15336B90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AA73-2EE5-4DD7-8941-105248F914F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0988-0DDF-4B71-84DA-127A194E608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8D35-9067-4F68-AEE8-21670FB65B7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FC5A-A40B-43D0-938A-763A3B6F6CD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7E19-FBF9-4BEC-B561-B585E6268E2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1D67-5C90-4934-A5A6-E5BA6C03DDA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06EF-A368-4BF7-9B27-2DD93B2E17A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A9B3-E9E5-469C-9FBB-FA943D9DD445}" type="slidenum">
              <a:rPr b="0" lang="es-ES_tradnl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0FC3-EFC2-42A0-B8BA-5AD240B7B3E2}" type="slidenum">
              <a:rPr b="0" lang="es-ES_tradnl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383E-C66D-4E0D-A225-14A8A4E21580}" type="slidenum">
              <a:rPr b="0" lang="es-ES_tradnl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5ACA-5709-4477-91C3-6E7776CD704A}" type="slidenum">
              <a:rPr b="0" lang="es-ES_tradnl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00FC-EACF-4357-818D-D1A0C4060BF7}" type="slidenum">
              <a:rPr b="0" lang="es-ES_tradnl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9B1B-CDEB-48A0-92B3-4489169F12BA}" type="slidenum">
              <a:rPr b="0" lang="es-ES_tradnl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65E9-075B-44E5-BD60-4ED74F385547}" type="slidenum">
              <a:rPr b="0" lang="es-ES_tradnl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945F-5145-4DE4-BBFE-6C1D8938DF3E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262A-E50F-4350-A615-DDF648B66C8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00BB-9A2B-4AC3-854D-75FB6A37D552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2BE5-B9E6-4126-8E94-F5041BE53D93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7E1E-0BBC-49E0-ACC4-0B87534CCEB2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A5B6-F8C8-432E-BB55-3617A579B48C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0696-3451-4654-925B-C4BC0C096DF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D737-0D01-4366-8E7D-AC802E22E3A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203B-6DF1-4D2E-9579-FCF49C4F48B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272E-30E6-4572-AFD1-D477D61AA15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C60F-D0E5-4980-BA1C-137BF7F954B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37B06-0A96-4586-A22E-28D656CB6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B4443-D357-44BF-92FA-2968B5C5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BD8822-6248-4922-9FCC-97A4DBF5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33039-A421-41CB-AACC-B2162CD9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89F76-642A-4255-A483-118AC4A4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4D737-066D-415A-9296-4232B645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5F228-191D-449F-AFC1-3E4439D2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069B8-540D-4EE2-8572-3C30B8E7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E4DCA-F53D-4ABD-9B77-F4DD3F6C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24071-187F-42F4-93B9-B1E17436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9E193-AAC7-43AA-A14E-94E0E02E0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F8F91-5DF7-46DC-9DE3-D8E7CC6B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7E28D2-E544-414F-A7DC-1DEF509F2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8751EF-D3C0-4A66-8007-96537E06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BB3104-E4B1-4B51-9961-E6584419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68008E-F03D-449E-8FB3-1701797E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521989-EDFE-46E9-A7A0-8940E8D3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33BB49-91B2-46D9-92F5-0647D2F6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4E8FEE-C7BA-44BC-A6C6-53AFCCA1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C410AF-8D7F-436A-8260-1D25E138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E340D7-9459-42F1-B99A-077E0A0A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98774F-75E7-4A13-9525-2325EA9F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943187-304F-4395-B531-B35402993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4FC4AF-1360-482B-96B9-8E4A373C7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B5D7B1-F5F8-43AC-8A7D-02768603C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2027E4-C9B0-4AB7-B40B-8B337F07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8A2C38-8D17-4274-A1D2-DFD14B5E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4292FC-7F1A-48D7-8A8F-710BBC8E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55FC14-4DCE-4B8A-ABAA-25AFF9B4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34ADBE-69AB-4A89-A46F-6061A945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496937-2AF9-419D-8A21-159635D0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33EE97-CAD7-46B2-8A8F-7D19B967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6EC4E5-3A5D-4C2C-ABF0-2AA796B8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D7260F-B386-4774-BF9E-87A22DC4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71E547-85A2-4BA0-BDB3-402CAFB4C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8D554A-6384-4ADF-8E03-912B396E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4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12" descr=""/>
          <p:cNvPicPr/>
          <p:nvPr/>
        </p:nvPicPr>
        <p:blipFill>
          <a:blip r:embed="rId3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4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CEA4-98A2-4FEA-9307-C8570329C5F3}" type="slidenum">
              <a:rPr b="0" lang="en-GB" sz="4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Picture 12" descr=""/>
          <p:cNvPicPr/>
          <p:nvPr/>
        </p:nvPicPr>
        <p:blipFill>
          <a:blip r:embed="rId3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8"/>
          </p:nvPr>
        </p:nvSpPr>
        <p:spPr>
          <a:xfrm>
            <a:off x="685800" y="6149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9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0"/>
          </p:nvPr>
        </p:nvSpPr>
        <p:spPr>
          <a:xfrm>
            <a:off x="6553080" y="6149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4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5885-A682-47AF-B101-A1E83C21E33F}" type="slidenum"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www.wharton.upenn.edu/research/webi.htm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Del Modelo de Negocios al Plan de Negoci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modelo plantea pregu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66640" y="1752480"/>
            <a:ext cx="8291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601"/>
              </a:spcBef>
              <a:buSzPct val="1285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Qué ………… producto serán mi fo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uál …………será el nicho de merc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Dónde ......lo vender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Quién ……..lo producir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Porqué….….nadie lo ha hech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ómo ………lo promover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uándo…….está dispuesto a pag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uánto…….necesito de invers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 …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....y erróneamente los ingenieros creemos que tenemos de antemano las respuestas (la verda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SzPct val="10289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producto y el cli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2214720" y="1500120"/>
            <a:ext cx="44290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Preguntas sobre produc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SzPct val="1285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quiebre/necesidad/dolor del cliente resuelve mi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Está claro totalmente para mi y para el cliente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Lo pidió él o se me ocurre que le interes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valor le agrega el producto al cli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Hay otros productos similares o sustitut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es son los productos competidor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 es la propuesta de valor del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eguntas sobre el cli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Quiénes son los stakeholder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rupos o individuos que razonablemente pueda esperarse que se vean afectados de forma significativa por las actividades, productos y/o servicios de una organ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on los interesados directos e indirectos de una empresa que teniendo algún tipo de interés en las operaciones empresarias, le brindan su apoyo y ante los cuales la organización es responsable, tales como los accionistas, proveedores, clientes, etc.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ntonces ¿Quiénes son los cliente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42600" y="16426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Todos quienes reciban valor agregado por el producto (bien o servicio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directos (que paga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indirectos (reciben los benefici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Hasta el cliente de mi cliente de mi cliente………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Si tengo contento al cliente de mi cliente, tengo contento a mi clien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¿Son todos los stakeholder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Otra visión de un 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2" name="Object 3"/>
          <p:cNvGraphicFramePr/>
          <p:nvPr/>
        </p:nvGraphicFramePr>
        <p:xfrm>
          <a:off x="533520" y="1509840"/>
          <a:ext cx="7772400" cy="45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09840"/>
                    <a:ext cx="7772400" cy="45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305560" cy="6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El modelo de negocios tiene una visión económica y técnica del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5" name="Object 3"/>
          <p:cNvGraphicFramePr/>
          <p:nvPr/>
        </p:nvGraphicFramePr>
        <p:xfrm>
          <a:off x="914400" y="1752480"/>
          <a:ext cx="717696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71769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La cadena de valor y la propuesta de val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3" descr="porter"/>
          <p:cNvPicPr/>
          <p:nvPr/>
        </p:nvPicPr>
        <p:blipFill>
          <a:blip r:embed="rId1"/>
          <a:stretch/>
        </p:blipFill>
        <p:spPr>
          <a:xfrm>
            <a:off x="838080" y="1905120"/>
            <a:ext cx="77439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lor agregado para el consumidor fi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0" name="Picture 3" descr="value"/>
          <p:cNvPicPr/>
          <p:nvPr/>
        </p:nvPicPr>
        <p:blipFill>
          <a:blip r:embed="rId1"/>
          <a:srcRect l="2884" t="14300" r="961" b="3463"/>
          <a:stretch/>
        </p:blipFill>
        <p:spPr>
          <a:xfrm>
            <a:off x="838080" y="24382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2"/>
          <p:cNvGrpSpPr/>
          <p:nvPr/>
        </p:nvGrpSpPr>
        <p:grpSpPr>
          <a:xfrm>
            <a:off x="227160" y="1523880"/>
            <a:ext cx="8916480" cy="4261320"/>
            <a:chOff x="227160" y="1523880"/>
            <a:chExt cx="8916480" cy="4261320"/>
          </a:xfrm>
        </p:grpSpPr>
        <p:sp>
          <p:nvSpPr>
            <p:cNvPr id="302" name="Line 3"/>
            <p:cNvSpPr/>
            <p:nvPr/>
          </p:nvSpPr>
          <p:spPr>
            <a:xfrm>
              <a:off x="980640" y="3761640"/>
              <a:ext cx="20926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Freeform 4"/>
            <p:cNvSpPr/>
            <p:nvPr/>
          </p:nvSpPr>
          <p:spPr>
            <a:xfrm>
              <a:off x="1391040" y="2524320"/>
              <a:ext cx="1682640" cy="272880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2728800"/>
                <a:gd name="textAreaBottom" fmla="*/ 2729160 h 2728800"/>
              </a:gdLst>
              <a:ahLst/>
              <a:rect l="textAreaLeft" t="textAreaTop" r="textAreaRight" b="textAreaBottom"/>
              <a:pathLst>
                <a:path w="1054" h="1740">
                  <a:moveTo>
                    <a:pt x="1054" y="0"/>
                  </a:moveTo>
                  <a:lnTo>
                    <a:pt x="0" y="0"/>
                  </a:lnTo>
                  <a:lnTo>
                    <a:pt x="0" y="1740"/>
                  </a:lnTo>
                  <a:lnTo>
                    <a:pt x="1054" y="1740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Freeform 5"/>
            <p:cNvSpPr/>
            <p:nvPr/>
          </p:nvSpPr>
          <p:spPr>
            <a:xfrm>
              <a:off x="3075120" y="35060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3075120" y="49586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Freeform 7"/>
            <p:cNvSpPr/>
            <p:nvPr/>
          </p:nvSpPr>
          <p:spPr>
            <a:xfrm>
              <a:off x="3075120" y="226872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>
              <a:off x="1590480" y="326772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1590480" y="200376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AutoShape 10"/>
            <p:cNvSpPr/>
            <p:nvPr/>
          </p:nvSpPr>
          <p:spPr>
            <a:xfrm>
              <a:off x="3255840" y="2064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AutoShape 11"/>
            <p:cNvSpPr/>
            <p:nvPr/>
          </p:nvSpPr>
          <p:spPr>
            <a:xfrm>
              <a:off x="3255840" y="25513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AutoShape 12"/>
            <p:cNvSpPr/>
            <p:nvPr/>
          </p:nvSpPr>
          <p:spPr>
            <a:xfrm>
              <a:off x="3255840" y="3306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AutoShape 13"/>
            <p:cNvSpPr/>
            <p:nvPr/>
          </p:nvSpPr>
          <p:spPr>
            <a:xfrm>
              <a:off x="3255840" y="38008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Rectangle 14"/>
            <p:cNvSpPr/>
            <p:nvPr/>
          </p:nvSpPr>
          <p:spPr>
            <a:xfrm>
              <a:off x="699840" y="1523880"/>
              <a:ext cx="3511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Niveles en la creación de valo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Rectangle 15"/>
            <p:cNvSpPr/>
            <p:nvPr/>
          </p:nvSpPr>
          <p:spPr>
            <a:xfrm>
              <a:off x="227160" y="3338280"/>
              <a:ext cx="846360" cy="8218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Creación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de Valo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(EVA</a:t>
              </a:r>
              <a:r>
                <a:rPr b="1" lang="es-ES" sz="1200" spc="-1" strike="noStrike" baseline="30000">
                  <a:solidFill>
                    <a:srgbClr val="dddddd"/>
                  </a:solidFill>
                  <a:latin typeface="Arial"/>
                </a:rPr>
                <a:t>®</a:t>
              </a: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Rectangle 16"/>
            <p:cNvSpPr/>
            <p:nvPr/>
          </p:nvSpPr>
          <p:spPr>
            <a:xfrm>
              <a:off x="3351600" y="2160720"/>
              <a:ext cx="1010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Arial"/>
                </a:rPr>
                <a:t>Volumen de Vent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" name="Rectangle 17"/>
            <p:cNvSpPr/>
            <p:nvPr/>
          </p:nvSpPr>
          <p:spPr>
            <a:xfrm>
              <a:off x="3598560" y="2615400"/>
              <a:ext cx="570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reci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Rectangle 18"/>
            <p:cNvSpPr/>
            <p:nvPr/>
          </p:nvSpPr>
          <p:spPr>
            <a:xfrm>
              <a:off x="3255480" y="3800880"/>
              <a:ext cx="1107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dminist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Rectangle 19"/>
            <p:cNvSpPr/>
            <p:nvPr/>
          </p:nvSpPr>
          <p:spPr>
            <a:xfrm>
              <a:off x="3288600" y="395316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y Venta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Rectangle 20"/>
            <p:cNvSpPr/>
            <p:nvPr/>
          </p:nvSpPr>
          <p:spPr>
            <a:xfrm>
              <a:off x="3366360" y="3391560"/>
              <a:ext cx="81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e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Rectangle 21"/>
            <p:cNvSpPr/>
            <p:nvPr/>
          </p:nvSpPr>
          <p:spPr>
            <a:xfrm>
              <a:off x="4647960" y="2025360"/>
              <a:ext cx="4430160" cy="991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Rectangle 22"/>
            <p:cNvSpPr/>
            <p:nvPr/>
          </p:nvSpPr>
          <p:spPr>
            <a:xfrm>
              <a:off x="4721400" y="2055240"/>
              <a:ext cx="20786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cceso a nuevos mercad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Nuevos produc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Rectangle 23"/>
            <p:cNvSpPr/>
            <p:nvPr/>
          </p:nvSpPr>
          <p:spPr>
            <a:xfrm>
              <a:off x="6996600" y="2055240"/>
              <a:ext cx="202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reación de nuevos productos /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Rectangle 24"/>
            <p:cNvSpPr/>
            <p:nvPr/>
          </p:nvSpPr>
          <p:spPr>
            <a:xfrm>
              <a:off x="4721040" y="2507040"/>
              <a:ext cx="1892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onstrucción de image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uadrar demanda-ofer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Rectangle 25"/>
            <p:cNvSpPr/>
            <p:nvPr/>
          </p:nvSpPr>
          <p:spPr>
            <a:xfrm>
              <a:off x="4726080" y="3297600"/>
              <a:ext cx="243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de costos operac.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es compr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Rectangle 26"/>
            <p:cNvSpPr/>
            <p:nvPr/>
          </p:nvSpPr>
          <p:spPr>
            <a:xfrm>
              <a:off x="4722120" y="3796200"/>
              <a:ext cx="2412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costos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es logísticas eficient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costos de transacció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Rectangle 27"/>
            <p:cNvSpPr/>
            <p:nvPr/>
          </p:nvSpPr>
          <p:spPr>
            <a:xfrm>
              <a:off x="6996600" y="3796200"/>
              <a:ext cx="2147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arketing efectiv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onitoreo de operacion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Rectangle 28"/>
            <p:cNvSpPr/>
            <p:nvPr/>
          </p:nvSpPr>
          <p:spPr>
            <a:xfrm>
              <a:off x="7001280" y="5185800"/>
              <a:ext cx="2134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de productividad de flo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Rectangle 29"/>
            <p:cNvSpPr/>
            <p:nvPr/>
          </p:nvSpPr>
          <p:spPr>
            <a:xfrm>
              <a:off x="4718160" y="5190480"/>
              <a:ext cx="2271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s de productividad de redes logístic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Rectangle 30"/>
            <p:cNvSpPr/>
            <p:nvPr/>
          </p:nvSpPr>
          <p:spPr>
            <a:xfrm>
              <a:off x="6996600" y="3297600"/>
              <a:ext cx="185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Fuentes de negociación de contra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Rectangle 31"/>
            <p:cNvSpPr/>
            <p:nvPr/>
          </p:nvSpPr>
          <p:spPr>
            <a:xfrm>
              <a:off x="4730760" y="4705920"/>
              <a:ext cx="2153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ptimización de Inventari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Time-to-market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1" name="Rectangle 32"/>
            <p:cNvSpPr/>
            <p:nvPr/>
          </p:nvSpPr>
          <p:spPr>
            <a:xfrm>
              <a:off x="5380200" y="1531440"/>
              <a:ext cx="2714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osibilidad de mejorar: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2" name="Rectangle 33"/>
            <p:cNvSpPr/>
            <p:nvPr/>
          </p:nvSpPr>
          <p:spPr>
            <a:xfrm>
              <a:off x="4641480" y="3278880"/>
              <a:ext cx="4430160" cy="11289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Rectangle 34"/>
            <p:cNvSpPr/>
            <p:nvPr/>
          </p:nvSpPr>
          <p:spPr>
            <a:xfrm>
              <a:off x="4635360" y="4660560"/>
              <a:ext cx="4430160" cy="10789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4" name="AutoShape 35"/>
            <p:cNvSpPr/>
            <p:nvPr/>
          </p:nvSpPr>
          <p:spPr>
            <a:xfrm>
              <a:off x="3246120" y="47530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5" name="AutoShape 36"/>
            <p:cNvSpPr/>
            <p:nvPr/>
          </p:nvSpPr>
          <p:spPr>
            <a:xfrm>
              <a:off x="3246120" y="52405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6" name="Rectangle 37"/>
            <p:cNvSpPr/>
            <p:nvPr/>
          </p:nvSpPr>
          <p:spPr>
            <a:xfrm>
              <a:off x="3255840" y="4753080"/>
              <a:ext cx="1080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Capital de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Rectangle 38"/>
            <p:cNvSpPr/>
            <p:nvPr/>
          </p:nvSpPr>
          <p:spPr>
            <a:xfrm>
              <a:off x="3366360" y="5284800"/>
              <a:ext cx="9730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i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ctivos Fij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8" name="Rectangle 39"/>
            <p:cNvSpPr/>
            <p:nvPr/>
          </p:nvSpPr>
          <p:spPr>
            <a:xfrm>
              <a:off x="7013880" y="2488320"/>
              <a:ext cx="2043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Segmentación efectiva de consumidor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9" name="Rectangle 40"/>
            <p:cNvSpPr/>
            <p:nvPr/>
          </p:nvSpPr>
          <p:spPr>
            <a:xfrm>
              <a:off x="6990120" y="4699800"/>
              <a:ext cx="2153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Pronósticos más precis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0" name="Rectangle 41"/>
            <p:cNvSpPr/>
            <p:nvPr/>
          </p:nvSpPr>
          <p:spPr>
            <a:xfrm>
              <a:off x="1662480" y="3324240"/>
              <a:ext cx="110772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e Costos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41" name="Group 42"/>
            <p:cNvGrpSpPr/>
            <p:nvPr/>
          </p:nvGrpSpPr>
          <p:grpSpPr>
            <a:xfrm>
              <a:off x="1809000" y="3768120"/>
              <a:ext cx="949680" cy="446040"/>
              <a:chOff x="1809000" y="3768120"/>
              <a:chExt cx="949680" cy="446040"/>
            </a:xfrm>
          </p:grpSpPr>
          <p:sp>
            <p:nvSpPr>
              <p:cNvPr id="342" name="Line 43"/>
              <p:cNvSpPr/>
              <p:nvPr/>
            </p:nvSpPr>
            <p:spPr>
              <a:xfrm>
                <a:off x="1809000" y="3768120"/>
                <a:ext cx="0" cy="4442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3" name="Line 44"/>
              <p:cNvSpPr/>
              <p:nvPr/>
            </p:nvSpPr>
            <p:spPr>
              <a:xfrm>
                <a:off x="1809000" y="4214160"/>
                <a:ext cx="9496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44" name="Arc 45"/>
            <p:cNvSpPr/>
            <p:nvPr/>
          </p:nvSpPr>
          <p:spPr>
            <a:xfrm>
              <a:off x="1854000" y="3716280"/>
              <a:ext cx="815400" cy="431280"/>
            </a:xfrm>
            <a:custGeom>
              <a:avLst/>
              <a:gdLst>
                <a:gd name="textAreaLeft" fmla="*/ 0 w 815400"/>
                <a:gd name="textAreaRight" fmla="*/ 815760 w 8154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fill="none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</a:path>
                <a:path stroke="0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  <a:lnTo>
                    <a:pt x="21600" y="689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Rectangle 46"/>
            <p:cNvSpPr/>
            <p:nvPr/>
          </p:nvSpPr>
          <p:spPr>
            <a:xfrm>
              <a:off x="1590480" y="4693320"/>
              <a:ext cx="1254600" cy="103824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Rectangle 47"/>
            <p:cNvSpPr/>
            <p:nvPr/>
          </p:nvSpPr>
          <p:spPr>
            <a:xfrm>
              <a:off x="1596960" y="4708800"/>
              <a:ext cx="124344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timización  del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uso de activ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Rectangle 48"/>
            <p:cNvSpPr/>
            <p:nvPr/>
          </p:nvSpPr>
          <p:spPr>
            <a:xfrm>
              <a:off x="1681560" y="5511960"/>
              <a:ext cx="109800" cy="1346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Rectangle 49"/>
            <p:cNvSpPr/>
            <p:nvPr/>
          </p:nvSpPr>
          <p:spPr>
            <a:xfrm>
              <a:off x="1833480" y="5511960"/>
              <a:ext cx="11124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Rectangle 50"/>
            <p:cNvSpPr/>
            <p:nvPr/>
          </p:nvSpPr>
          <p:spPr>
            <a:xfrm>
              <a:off x="1978560" y="5511960"/>
              <a:ext cx="109800" cy="134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Rectangle 51"/>
            <p:cNvSpPr/>
            <p:nvPr/>
          </p:nvSpPr>
          <p:spPr>
            <a:xfrm>
              <a:off x="1767960" y="5347080"/>
              <a:ext cx="111600" cy="134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Rectangle 52"/>
            <p:cNvSpPr/>
            <p:nvPr/>
          </p:nvSpPr>
          <p:spPr>
            <a:xfrm>
              <a:off x="1932120" y="5369400"/>
              <a:ext cx="109800" cy="13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Rectangle 53"/>
            <p:cNvSpPr/>
            <p:nvPr/>
          </p:nvSpPr>
          <p:spPr>
            <a:xfrm>
              <a:off x="1866600" y="5204520"/>
              <a:ext cx="11016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Rectangle 54"/>
            <p:cNvSpPr/>
            <p:nvPr/>
          </p:nvSpPr>
          <p:spPr>
            <a:xfrm>
              <a:off x="2527920" y="5482080"/>
              <a:ext cx="111600" cy="135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AutoShape 55"/>
            <p:cNvSpPr/>
            <p:nvPr/>
          </p:nvSpPr>
          <p:spPr>
            <a:xfrm>
              <a:off x="2266200" y="5339520"/>
              <a:ext cx="156240" cy="17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55" name="Group 56"/>
            <p:cNvGrpSpPr/>
            <p:nvPr/>
          </p:nvGrpSpPr>
          <p:grpSpPr>
            <a:xfrm>
              <a:off x="1801080" y="2477160"/>
              <a:ext cx="951480" cy="446400"/>
              <a:chOff x="1801080" y="2477160"/>
              <a:chExt cx="951480" cy="446400"/>
            </a:xfrm>
          </p:grpSpPr>
          <p:sp>
            <p:nvSpPr>
              <p:cNvPr id="356" name="Line 57"/>
              <p:cNvSpPr/>
              <p:nvPr/>
            </p:nvSpPr>
            <p:spPr>
              <a:xfrm>
                <a:off x="1801080" y="2477160"/>
                <a:ext cx="0" cy="44460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7" name="Line 58"/>
              <p:cNvSpPr/>
              <p:nvPr/>
            </p:nvSpPr>
            <p:spPr>
              <a:xfrm>
                <a:off x="1801080" y="2923560"/>
                <a:ext cx="9514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58" name="Arc 59"/>
            <p:cNvSpPr/>
            <p:nvPr/>
          </p:nvSpPr>
          <p:spPr>
            <a:xfrm flipV="1">
              <a:off x="1833480" y="2525760"/>
              <a:ext cx="816840" cy="343440"/>
            </a:xfrm>
            <a:custGeom>
              <a:avLst/>
              <a:gdLst>
                <a:gd name="textAreaLeft" fmla="*/ 0 w 816840"/>
                <a:gd name="textAreaRight" fmla="*/ 817200 w 816840"/>
                <a:gd name="textAreaTop" fmla="*/ 360 h 343440"/>
                <a:gd name="textAreaBottom" fmla="*/ 344160 h 3434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9" name="Rectangle 60"/>
            <p:cNvSpPr/>
            <p:nvPr/>
          </p:nvSpPr>
          <p:spPr>
            <a:xfrm>
              <a:off x="1648080" y="2022840"/>
              <a:ext cx="1139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Mejoramient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Ingres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0" name="Line 61"/>
            <p:cNvSpPr/>
            <p:nvPr/>
          </p:nvSpPr>
          <p:spPr>
            <a:xfrm>
              <a:off x="4647960" y="249156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Line 62"/>
            <p:cNvSpPr/>
            <p:nvPr/>
          </p:nvSpPr>
          <p:spPr>
            <a:xfrm>
              <a:off x="4638600" y="3764880"/>
              <a:ext cx="44330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Line 63"/>
            <p:cNvSpPr/>
            <p:nvPr/>
          </p:nvSpPr>
          <p:spPr>
            <a:xfrm>
              <a:off x="4628880" y="516240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reación de valor para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Line 65"/>
          <p:cNvSpPr/>
          <p:nvPr/>
        </p:nvSpPr>
        <p:spPr>
          <a:xfrm>
            <a:off x="13716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Line 66"/>
          <p:cNvSpPr/>
          <p:nvPr/>
        </p:nvSpPr>
        <p:spPr>
          <a:xfrm>
            <a:off x="13716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Text Box 67"/>
          <p:cNvSpPr/>
          <p:nvPr/>
        </p:nvSpPr>
        <p:spPr>
          <a:xfrm>
            <a:off x="1719360" y="5899320"/>
            <a:ext cx="536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mento de valor de las acciones, del capital humano y/o del activo nomin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Rectangle 68"/>
          <p:cNvSpPr/>
          <p:nvPr/>
        </p:nvSpPr>
        <p:spPr>
          <a:xfrm>
            <a:off x="7086600" y="6019920"/>
            <a:ext cx="76320" cy="75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Rectangle 69"/>
          <p:cNvSpPr/>
          <p:nvPr/>
        </p:nvSpPr>
        <p:spPr>
          <a:xfrm>
            <a:off x="1752480" y="5867280"/>
            <a:ext cx="5410440" cy="3049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Roadmap para diseñar y evaluar un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3 Marcador de contenido" descr=""/>
          <p:cNvPicPr/>
          <p:nvPr/>
        </p:nvPicPr>
        <p:blipFill>
          <a:blip r:embed="rId1"/>
          <a:stretch/>
        </p:blipFill>
        <p:spPr>
          <a:xfrm>
            <a:off x="554040" y="1852560"/>
            <a:ext cx="803592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adena de valor 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(activ. Primaria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1428840" y="1560600"/>
            <a:ext cx="60166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Matriz de valor agreg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1143000" y="1571760"/>
            <a:ext cx="67975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Valor agregado por actividad/cli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347840" y="1500120"/>
            <a:ext cx="60976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1320" y="49968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j: Matriz de agregación de val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3 Marcador de contenido" descr=""/>
          <p:cNvPicPr/>
          <p:nvPr/>
        </p:nvPicPr>
        <p:blipFill>
          <a:blip r:embed="rId1"/>
          <a:stretch/>
        </p:blipFill>
        <p:spPr>
          <a:xfrm>
            <a:off x="1471680" y="1762200"/>
            <a:ext cx="6191280" cy="4248000"/>
          </a:xfrm>
          <a:prstGeom prst="rect">
            <a:avLst/>
          </a:prstGeom>
          <a:ln w="0">
            <a:noFill/>
          </a:ln>
        </p:spPr>
      </p:pic>
      <p:sp>
        <p:nvSpPr>
          <p:cNvPr id="377" name="4 CuadroTexto"/>
          <p:cNvSpPr/>
          <p:nvPr/>
        </p:nvSpPr>
        <p:spPr>
          <a:xfrm rot="16200000">
            <a:off x="555480" y="350028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takehold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Cadena de valor negocio postal certific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1982880" y="1428840"/>
            <a:ext cx="65898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Cadena de valor negocio impresión variab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2238480" y="1752480"/>
            <a:ext cx="4657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99680" y="1714680"/>
            <a:ext cx="80010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2640" indent="-422640">
              <a:spcBef>
                <a:spcPts val="499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Valor= Beneficios-Costo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(incluye riesg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s un análisis y revisión cuantitativos de los beneficios, costos y valor que una organización puede darle 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l clien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soc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emplea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aliados estratégic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provee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otr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Otro ejemplo de la matriz agregación de valor en la cadena de los stakehol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4" descr=""/>
          <p:cNvPicPr/>
          <p:nvPr/>
        </p:nvPicPr>
        <p:blipFill>
          <a:blip r:embed="rId1"/>
          <a:stretch/>
        </p:blipFill>
        <p:spPr>
          <a:xfrm>
            <a:off x="1366920" y="1924200"/>
            <a:ext cx="640080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j.: Índice de interés del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1" descr=""/>
          <p:cNvPicPr/>
          <p:nvPr/>
        </p:nvPicPr>
        <p:blipFill>
          <a:blip r:embed="rId1"/>
          <a:stretch/>
        </p:blipFill>
        <p:spPr>
          <a:xfrm>
            <a:off x="1052640" y="2157480"/>
            <a:ext cx="7029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onteni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7f7f7f"/>
                </a:solidFill>
                <a:latin typeface="Verdana"/>
              </a:rPr>
              <a:t>Generando un modelo de nego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Definiendo una estrategia de negocios y crecimi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7f7f7f"/>
                </a:solidFill>
                <a:latin typeface="Verdana"/>
              </a:rPr>
              <a:t>Construyendo un plan de nego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onteni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Generando un modelo de nego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7f7f7f"/>
                </a:solidFill>
                <a:latin typeface="Verdana"/>
              </a:rPr>
              <a:t>Definiendo una estrategia de negocios y crecimi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7f7f7f"/>
                </a:solidFill>
                <a:latin typeface="Verdana"/>
              </a:rPr>
              <a:t>Construyendo un plan de nego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0000"/>
                </a:solidFill>
                <a:latin typeface="Verdana"/>
              </a:rPr>
              <a:t>Definiendo una estrateg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1" name="Group 3"/>
          <p:cNvGrpSpPr/>
          <p:nvPr/>
        </p:nvGrpSpPr>
        <p:grpSpPr>
          <a:xfrm>
            <a:off x="755640" y="1916280"/>
            <a:ext cx="6624720" cy="3312720"/>
            <a:chOff x="755640" y="1916280"/>
            <a:chExt cx="6624720" cy="3312720"/>
          </a:xfrm>
        </p:grpSpPr>
        <p:sp>
          <p:nvSpPr>
            <p:cNvPr id="392" name="Line 4"/>
            <p:cNvSpPr/>
            <p:nvPr/>
          </p:nvSpPr>
          <p:spPr>
            <a:xfrm>
              <a:off x="755640" y="522432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Line 5"/>
            <p:cNvSpPr/>
            <p:nvPr/>
          </p:nvSpPr>
          <p:spPr>
            <a:xfrm>
              <a:off x="755640" y="313740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Line 6"/>
            <p:cNvSpPr/>
            <p:nvPr/>
          </p:nvSpPr>
          <p:spPr>
            <a:xfrm>
              <a:off x="755640" y="418104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AutoShape 7"/>
            <p:cNvSpPr/>
            <p:nvPr/>
          </p:nvSpPr>
          <p:spPr>
            <a:xfrm>
              <a:off x="2481480" y="1928880"/>
              <a:ext cx="4524480" cy="3300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99ff"/>
                </a:gs>
              </a:gsLst>
              <a:lin ang="27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es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AutoShape 8"/>
            <p:cNvSpPr/>
            <p:nvPr/>
          </p:nvSpPr>
          <p:spPr>
            <a:xfrm>
              <a:off x="3192480" y="1916280"/>
              <a:ext cx="3086640" cy="2260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0e5ea"/>
                </a:gs>
                <a:gs pos="100000">
                  <a:srgbClr val="a3b2c1"/>
                </a:gs>
              </a:gsLst>
              <a:lin ang="27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odel and Business Plan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AutoShape 9"/>
            <p:cNvSpPr/>
            <p:nvPr/>
          </p:nvSpPr>
          <p:spPr>
            <a:xfrm>
              <a:off x="3902760" y="1916280"/>
              <a:ext cx="1675080" cy="1221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eedd"/>
                </a:gs>
                <a:gs pos="100000">
                  <a:srgbClr val="ffcc99"/>
                </a:gs>
              </a:gsLst>
              <a:lin ang="27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Text Box 10"/>
            <p:cNvSpPr/>
            <p:nvPr/>
          </p:nvSpPr>
          <p:spPr>
            <a:xfrm>
              <a:off x="1064520" y="2526840"/>
              <a:ext cx="159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nning leve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Text Box 11"/>
            <p:cNvSpPr/>
            <p:nvPr/>
          </p:nvSpPr>
          <p:spPr>
            <a:xfrm>
              <a:off x="1060200" y="3366360"/>
              <a:ext cx="168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chitectural leve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Text Box 12"/>
            <p:cNvSpPr/>
            <p:nvPr/>
          </p:nvSpPr>
          <p:spPr>
            <a:xfrm>
              <a:off x="1063440" y="4282560"/>
              <a:ext cx="173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ve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Line 13"/>
            <p:cNvSpPr/>
            <p:nvPr/>
          </p:nvSpPr>
          <p:spPr>
            <a:xfrm>
              <a:off x="1060200" y="2323440"/>
              <a:ext cx="0" cy="290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101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efiniendo una Estrategia de Negocio (business strateg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5" name="Picture 6" descr="C:\Documents and Settings\cmfkw\Desktop\ppt\bs3.gif"/>
          <p:cNvPicPr/>
          <p:nvPr/>
        </p:nvPicPr>
        <p:blipFill>
          <a:blip r:embed="rId1"/>
          <a:stretch/>
        </p:blipFill>
        <p:spPr>
          <a:xfrm>
            <a:off x="798480" y="1670040"/>
            <a:ext cx="765972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SzPct val="1101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Competitive Advantag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something which gives the organisation some advantage over its riv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101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Cost advantag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A strategy to seek out and secure a cost advantag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f some kind - lower average costs, lower labour costs, et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Market Dominanc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chieved through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nal grow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cquisitions – mergers and takeov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New product development:</a:t>
            </a:r>
            <a:r>
              <a:rPr b="1" lang="en-GB" sz="3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 keep ahead of rivals and set the 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Contraction/Expansion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cus on what you are good at (core competencies) or seek to expand into a range of market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SzPct val="1101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Price Leadership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through dominating the industry – others follow your price le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101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Global</a:t>
            </a: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– seeking to expand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lobal ope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101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Reengineering</a:t>
            </a: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– thinking outside the box – looking at news ways of doing things to leverage the organisation’s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ternal business level strategies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101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Downsizing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selling off unwanted parts of the business – similar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o cont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101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Delayering</a:t>
            </a:r>
            <a:r>
              <a:rPr b="1" lang="en-GB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– flattening the management structure, removing bureaucracy, speed up decision mak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101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Restructuring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complete re-think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f the way the business is organi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SzPct val="1101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ta from sales, profit, etc. used to evaluate the progress and success of the strategy and to inform of changes to the strategy in the light of that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6" name="Picture 13" descr="http://www.sxc.hu/pic/m/m/ma/mad7986/108543_8247.jpg"/>
          <p:cNvPicPr/>
          <p:nvPr/>
        </p:nvPicPr>
        <p:blipFill>
          <a:blip r:embed="rId2"/>
          <a:stretch/>
        </p:blipFill>
        <p:spPr>
          <a:xfrm>
            <a:off x="4724280" y="2057400"/>
            <a:ext cx="3810240" cy="284940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14"/>
          <p:cNvSpPr/>
          <p:nvPr/>
        </p:nvSpPr>
        <p:spPr>
          <a:xfrm>
            <a:off x="4724280" y="4952880"/>
            <a:ext cx="381024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Information from a wide variety of source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an help to measure and inform the impact and direction of the strateg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opyright: Mad7986, http://www.sxc.hu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onteni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7f7f7f"/>
                </a:solidFill>
                <a:latin typeface="Verdana"/>
              </a:rPr>
              <a:t>Generando un modelo de nego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7f7f7f"/>
                </a:solidFill>
                <a:latin typeface="Verdana"/>
              </a:rPr>
              <a:t>Definiendo una estrategia de negocios y crecimi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Construyendo un plan de nego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Que es el Plan de Negocio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definición detallada de cómo el Modelo de Negocios se llevara a cabo de acuerdo a una estrategia de negocios y crecimiento en un determinado horizo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xpresión cuantitativa de cómo se llevará a cabo el modelo de negocios siguiendo una estrateg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ónde situar los modelos de negocios en la arquitectura de negocio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1428840" y="1714680"/>
            <a:ext cx="6565680" cy="4714560"/>
          </a:xfrm>
          <a:prstGeom prst="rect">
            <a:avLst/>
          </a:prstGeom>
          <a:ln w="0">
            <a:noFill/>
          </a:ln>
        </p:spPr>
      </p:pic>
      <p:sp>
        <p:nvSpPr>
          <p:cNvPr id="200" name="4 Flecha derecha"/>
          <p:cNvSpPr/>
          <p:nvPr/>
        </p:nvSpPr>
        <p:spPr>
          <a:xfrm>
            <a:off x="395280" y="299736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ntenido del Plan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08600" indent="-408600" algn="just">
              <a:lnSpc>
                <a:spcPct val="90000"/>
              </a:lnSpc>
              <a:spcBef>
                <a:spcPts val="349"/>
              </a:spcBef>
              <a:buSzPct val="22035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f7f7f"/>
                </a:solidFill>
                <a:latin typeface="Arial"/>
                <a:ea typeface="Arial"/>
              </a:rPr>
              <a:t>Resumen Ejecutiv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 algn="just">
              <a:lnSpc>
                <a:spcPct val="90000"/>
              </a:lnSpc>
              <a:spcBef>
                <a:spcPts val="349"/>
              </a:spcBef>
              <a:buSzPct val="2203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f7f7f"/>
                </a:solidFill>
                <a:latin typeface="Arial"/>
                <a:ea typeface="Arial"/>
              </a:rPr>
              <a:t>La Industria, la empresa y el entorn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 algn="just">
              <a:lnSpc>
                <a:spcPct val="90000"/>
              </a:lnSpc>
              <a:spcBef>
                <a:spcPts val="349"/>
              </a:spcBef>
              <a:buSzPct val="22035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f7f7f"/>
                </a:solidFill>
                <a:latin typeface="Arial"/>
                <a:ea typeface="Arial"/>
              </a:rPr>
              <a:t>Modelo de Negoci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 algn="just">
              <a:lnSpc>
                <a:spcPct val="90000"/>
              </a:lnSpc>
              <a:spcBef>
                <a:spcPts val="349"/>
              </a:spcBef>
              <a:buSzPct val="22035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f7f7f"/>
                </a:solidFill>
                <a:latin typeface="Arial"/>
                <a:ea typeface="Arial"/>
              </a:rPr>
              <a:t>Análisis e Investigación de Mercard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 algn="just">
              <a:lnSpc>
                <a:spcPct val="90000"/>
              </a:lnSpc>
              <a:spcBef>
                <a:spcPts val="349"/>
              </a:spcBef>
              <a:buSzPct val="22035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f7f7f"/>
                </a:solidFill>
                <a:latin typeface="Arial"/>
                <a:ea typeface="Arial"/>
              </a:rPr>
              <a:t>Estrategia de negocios y de crecimient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lanes Operaciona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89840" indent="-379440" algn="just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PLAN DE MARKET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89840" indent="-379440" algn="just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PLAN DE VENT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89840" indent="-379440" algn="just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PLAN DE DISEÑO Y IMPLEMENTACIÓ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89840" indent="-379440" algn="just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PLAN DE OPERACIÓ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89840" indent="-379440" algn="just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EQUIPO DE GESTIÓN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89840" indent="-379440" algn="just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ACIÓN GENER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lanes Financieros para el horizonte del proyec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89840" indent="-379440" algn="just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FLUJO DE CAJA PROFORMA (esperado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89840" indent="-379440" algn="just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ESTADOS DE RESULTADO PROFORM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89840" indent="-379440" algn="just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BALANCE PROFORM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iesgos  y factores críticos, problemas y supues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ropuesta de financiamie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nex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Descripción del concepto de negocio y los negocios de la empre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oportunidad y la estrategia de nego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l mercado objetivo y proyec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s ventajas competitiv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l equip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propues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La Industria, la Empresa, sus Productos y el Entorn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indust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empresa y su concep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ductos y Serv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s de penetración y crecimiento de mercado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nálisis e Investigación de Merca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lien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amaño y tendencias de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mpetencia y competitiv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rción de mercado y ven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a estrategia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del negocio y crecimi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spectos Económicos del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gresos y márgenes operacion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Utilidades y horizonte del produc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stos fijos y variab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dicadores de puntos de quiebre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Market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 global de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e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ácticas de ven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líticas de servicios y garantí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moción y Public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Distribució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Ve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ánto vamos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ándo vamos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ómo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ónde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Quién va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Que incentivos vamos a dar a vendedores y cliente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Diseño e Implantación del produc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Hitos y tare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Riesgos y dificulta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Mejoras de producto y nuevos produc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Oper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iclo de ope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oc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fraestructura e optimiz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lanes y estrategi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 y regulatorio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000000"/>
                </a:solidFill>
                <a:latin typeface="Verdana"/>
              </a:rPr>
              <a:t>Aquí debe haber ingenierí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quipo de Gest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rgan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Personal cla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mpens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invers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Gratific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Directorio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shareholders, derechos y restri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nsultores y otros servicios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 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modelo de negocios es la arquitectura de la configuración de componentes de las transacciones diseñadas para explotar oportunidades de negocios (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hace cargo de la oportun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dica como y porqué las transacciones con clientes (y los beneficios) ocurrir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cribe la interacción de la organización con otras entidades d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*)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affi Amit, co-director of the Wharton</a:t>
            </a:r>
            <a:r>
              <a:rPr b="0" lang="es-ES" sz="18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-Business Initiative (W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gramación Glob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xplicitar como se programarán las actividades asociadas a los programas de inversión y de oper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Financier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57120" y="1642680"/>
            <a:ext cx="8501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ados de Resultado y Balances actu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Flujo de Caja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ados de Resultado Proforma (esperado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Balance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dicadores de evaluación (Van, TIR, Payback, et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nálisis de sensibilidad y puntos de quieb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ntrol de Costo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Hechos esenciale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FLUJO DE CAJA</a:t>
            </a: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undamentos Cont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Juan Carlos 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áez 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IN 69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  <a:ea typeface="MS PGothic"/>
              </a:rPr>
              <a:t>Índi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istinciones fundament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mpuestos directos que afectan a las empres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Flujo de caja pur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apital, financiamiento y tas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istinciones fundamental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SzPct val="1101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Variables de flujo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aquellas que se relacionan con el tiempo: ingresos, egresos, gastos. $/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101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Variables “stock”: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aquellas que si bien sus niveles pueden cambiar en el tiempo se miden en su valor de estado: inventarios, acreencias, deudas, saldo de caja, depreci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ón acumulada, capital propio. $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istinciones fundamental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SzPct val="1101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s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variables de flujo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van al Estado de Resultados y al Flujo de Caja, pero tamb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én se reflejan en el Balance a 8 columnas o tributario. No se reflejan directamente en el Balance Clasificad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101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Las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variables “stock”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se reflejan solo en los balances, a 8 columnas o clasificad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stado de Resultad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55" name="Object 6"/>
          <p:cNvGraphicFramePr/>
          <p:nvPr/>
        </p:nvGraphicFramePr>
        <p:xfrm>
          <a:off x="2813040" y="1600200"/>
          <a:ext cx="3516480" cy="500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3040" y="1600200"/>
                    <a:ext cx="351648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Object 10"/>
          <p:cNvGraphicFramePr/>
          <p:nvPr/>
        </p:nvGraphicFramePr>
        <p:xfrm>
          <a:off x="304920" y="291960"/>
          <a:ext cx="8534160" cy="627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91960"/>
                    <a:ext cx="8534160" cy="627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  <a:ea typeface="MS PGothic"/>
              </a:rPr>
              <a:t>ás distinciones fundamenta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SzPct val="1101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Gast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O ES IGUAL 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greso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101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vers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ón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NO 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gasto per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egre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101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Depreciación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NO 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egreso per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gas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101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Corrección monetaria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NO 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egreso per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costo negativo o positiv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101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Ventas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NO ES IGUAL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 ingre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101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Venta bruta = Venta neta + IVA y/o otros impuest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101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Ventas de export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ón son sin I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  <a:ea typeface="MS PGothic"/>
              </a:rPr>
              <a:t>ás distinciones fundamenta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  <a:ea typeface="MS PGothic"/>
              </a:rPr>
              <a:t>Gasto </a:t>
            </a:r>
            <a:r>
              <a:rPr b="1" lang="es-ES_tradnl" sz="3000" spc="-1" strike="noStrike">
                <a:solidFill>
                  <a:srgbClr val="000000"/>
                </a:solidFill>
                <a:latin typeface="Verdana"/>
                <a:ea typeface="MS PGothic"/>
              </a:rPr>
              <a:t>NO ES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  <a:ea typeface="MS PGothic"/>
              </a:rPr>
              <a:t> cos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  <a:ea typeface="MS PGothic"/>
              </a:rPr>
              <a:t>Gasto bruto = Gasto + IVA y/o otros impue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  <a:ea typeface="MS PGothic"/>
              </a:rPr>
              <a:t>Sueldo bruto = sueldo neto + leyes sociales + impuesto a las person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co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strategia central de una organización que define su lugar en el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scribe la oportunidad y como la organización generará los benef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sponde a los “porqué” la organización exis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Impuestos directos que afectan a las empresa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601"/>
              </a:spcBef>
              <a:buSzPct val="1285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mpuesto al Valor Agreg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SzPct val="1285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Qu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MS PGothic"/>
              </a:rPr>
              <a:t>é el Valor Agregado?: es el aumento del valor de los bienes o servicios resultante de la produc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5" name="Picture 5" descr=""/>
          <p:cNvPicPr/>
          <p:nvPr/>
        </p:nvPicPr>
        <p:blipFill>
          <a:blip r:embed="rId3"/>
          <a:stretch/>
        </p:blipFill>
        <p:spPr>
          <a:xfrm>
            <a:off x="685800" y="3675240"/>
            <a:ext cx="7772400" cy="18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Impuestos directos que afectan a las empresa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SzPct val="1101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mpuesto a la ren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101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Qu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MS PGothic"/>
              </a:rPr>
              <a:t>é es la renta?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Picture 5" descr=""/>
          <p:cNvPicPr/>
          <p:nvPr/>
        </p:nvPicPr>
        <p:blipFill>
          <a:blip r:embed="rId3"/>
          <a:stretch/>
        </p:blipFill>
        <p:spPr>
          <a:xfrm>
            <a:off x="1195560" y="3429000"/>
            <a:ext cx="67514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9" name="Object 7"/>
          <p:cNvGraphicFramePr/>
          <p:nvPr/>
        </p:nvGraphicFramePr>
        <p:xfrm>
          <a:off x="2093760" y="152280"/>
          <a:ext cx="4956480" cy="655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3760" y="152280"/>
                    <a:ext cx="4956480" cy="655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apital, financiamiento y tas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apital de trabajo y financiami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VAN, Tasa de descuento y TI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7332840" y="195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puesta para financiami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Financiamiento dese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Ofer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apit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Uso de los fon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Retorno para los inversionis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iesgos, problemas y supuestos críti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los riesgos, problemas y otras contingencias que puedan ocurrir y como administrarlos (que hacer para mitigar esos riesgos antes que se produzcan o cuando se produzcan- planificación por contingencia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Oval 4"/>
          <p:cNvSpPr/>
          <p:nvPr/>
        </p:nvSpPr>
        <p:spPr>
          <a:xfrm>
            <a:off x="3041640" y="297180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1746360" y="2438280"/>
            <a:ext cx="1600200" cy="838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Line 6"/>
          <p:cNvSpPr/>
          <p:nvPr/>
        </p:nvSpPr>
        <p:spPr>
          <a:xfrm flipV="1">
            <a:off x="1822320" y="434304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Line 7"/>
          <p:cNvSpPr/>
          <p:nvPr/>
        </p:nvSpPr>
        <p:spPr>
          <a:xfrm flipH="1">
            <a:off x="4946760" y="281952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Line 8"/>
          <p:cNvSpPr/>
          <p:nvPr/>
        </p:nvSpPr>
        <p:spPr>
          <a:xfrm flipH="1" flipV="1">
            <a:off x="5022360" y="419112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3489120" y="335268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6327360" y="24890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6329880" y="45720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Oval 4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5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Line 6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Line 7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8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Line 31"/>
          <p:cNvSpPr/>
          <p:nvPr/>
        </p:nvSpPr>
        <p:spPr>
          <a:xfrm>
            <a:off x="434340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ext Box 32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Oval 33"/>
          <p:cNvSpPr/>
          <p:nvPr/>
        </p:nvSpPr>
        <p:spPr>
          <a:xfrm>
            <a:off x="0" y="1197000"/>
            <a:ext cx="8964720" cy="5111640"/>
          </a:xfrm>
          <a:prstGeom prst="ellipse">
            <a:avLst/>
          </a:prstGeom>
          <a:solidFill>
            <a:srgbClr val="edf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Line 5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Line 6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Line 7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Line 8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Text Box 17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31"/>
          <p:cNvSpPr/>
          <p:nvPr/>
        </p:nvSpPr>
        <p:spPr>
          <a:xfrm>
            <a:off x="4343400" y="259092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ext Box 32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Text Box 34"/>
          <p:cNvSpPr/>
          <p:nvPr/>
        </p:nvSpPr>
        <p:spPr>
          <a:xfrm rot="20437200">
            <a:off x="7237440" y="3859920"/>
            <a:ext cx="16207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NTOR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Paí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Cult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4:44:41Z</dcterms:created>
  <dc:creator>toshiba</dc:creator>
  <dc:description/>
  <dc:language>en-US</dc:language>
  <cp:lastModifiedBy>dii</cp:lastModifiedBy>
  <dcterms:modified xsi:type="dcterms:W3CDTF">2010-10-29T19:01:27Z</dcterms:modified>
  <cp:revision>30</cp:revision>
  <dc:subject/>
  <dc:title>Modelo de Negocios</dc:title>
</cp:coreProperties>
</file>