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C188-195C-4F61-93CA-D26003E5101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5CE4-5713-41FA-8DA6-79BB7CC8418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4436-0DB9-4AC0-90E8-2BB51657FCD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D2C4-A33F-44E0-89D8-0B988BDC264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752A-9F3B-459B-902B-B161BF872B5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4BEAF-C154-49C5-AB51-0AF5362F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858B9-122B-4E2D-B58C-70AB586F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C51BC-8873-4813-860C-C6944D8C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A8322-EAC7-4EFC-86AE-CBF748A0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2823C-2005-4BC5-9C62-98CD6561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0B235-F5F1-49F1-84C9-7F6837DB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AA4FA-FD8D-44C6-BF38-0A69E9F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2FB83-B5A8-4CB0-A4C2-C1C5342F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85D79-F02E-491F-90AB-C6EA3B21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B6BEC-8C13-4759-B44D-258C8893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50378-00AD-41EA-8159-6987E1E6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B1973-AFFE-4285-AD86-B5C04A0E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4073-C6CC-44AB-9FFA-F113844437D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............</cp:lastModifiedBy>
  <dcterms:modified xsi:type="dcterms:W3CDTF">2012-03-19T14:33:58Z</dcterms:modified>
  <cp:revision>9</cp:revision>
  <dc:subject/>
  <dc:title>Fuentes de Oportunidades</dc:title>
</cp:coreProperties>
</file>