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A5C-BE43-4B79-8EF0-1C981B8E187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B4F3-88FD-44B4-B56D-13FB8F67ED8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814D-ED7C-4F21-A37E-A33D3B34CD5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2F6A-186C-4EAA-BB39-4DBA0F68D9C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C68F-B53D-4D16-BCD9-CEA667C34E3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2F88-C964-4936-9C53-0126EA8F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DDA7F-DB07-4E06-8A68-F67096FF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47EE3-AA4A-49DC-B9ED-83723FE4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582F7-EDBD-4046-AB89-500E7D38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4633B-B0EE-47CC-986B-676C4F3E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3CA1F-5322-40BD-B202-0E7BF7F3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1CFEB-1610-439E-9FBC-FBCFAB68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77B89-0449-4799-836A-5421D731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44914-2F88-4383-B8BD-15278654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AF6A4-0B80-419F-8664-D94FF369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C2511-2973-471C-A516-E62088EA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5E6BC-A94C-4F47-9444-CDC6637A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7AC-685D-48D9-9D9E-DE83AA537A7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............</cp:lastModifiedBy>
  <dcterms:modified xsi:type="dcterms:W3CDTF">2012-03-19T14:33:58Z</dcterms:modified>
  <cp:revision>9</cp:revision>
  <dc:subject/>
  <dc:title>Fuentes de Oportunidades</dc:title>
</cp:coreProperties>
</file>