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DED5-07BF-4EC3-9BBB-274A5338A1D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ldImg"/>
          </p:nvPr>
        </p:nvSpPr>
        <p:spPr>
          <a:xfrm>
            <a:off x="1143000" y="685800"/>
            <a:ext cx="4572000" cy="3429000"/>
          </a:xfrm>
          <a:prstGeom prst="rect">
            <a:avLst/>
          </a:prstGeom>
          <a:ln w="0">
            <a:noFill/>
          </a:ln>
        </p:spPr>
      </p:sp>
      <p:sp>
        <p:nvSpPr>
          <p:cNvPr id="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FDD02-7887-4B25-BC7F-7CCAEEA258B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EA716-F9A6-4537-AF46-152694919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B76C0-0AB6-4399-8E8B-21B843CA8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B6088-82DA-41EF-AC6C-46633E22C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E7BCE-675C-47B7-B04E-E031B9669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350C5-CD70-4AA0-9B6D-C5EF67F90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D3C5E-A18F-48D0-9D15-9E4006AE1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509E9-6EC1-462A-AAF6-4A71CEB84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D4DDE-D969-43B1-9DEB-1F3DCB74F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BBC28-0291-4173-80A8-0BF05717E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32B06-ED72-4FAF-AA0F-2831AA308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D7440-DBE1-4062-A1FF-AA08B0C47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4A2CD-7A86-4CFC-A662-C7BAA8EB6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0E435-AAB5-45C0-ABD3-FA1AD76BC00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196920" y="123840"/>
          <a:ext cx="8748720" cy="6568920"/>
        </p:xfrm>
        <a:graphic>
          <a:graphicData uri="http://schemas.openxmlformats.org/drawingml/2006/table">
            <a:tbl>
              <a:tblPr/>
              <a:tblGrid>
                <a:gridCol w="1566720"/>
                <a:gridCol w="1728720"/>
                <a:gridCol w="792360"/>
                <a:gridCol w="1079280"/>
                <a:gridCol w="1944720"/>
                <a:gridCol w="1636920"/>
              </a:tblGrid>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artn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laves</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Actividades clav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ropuest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de val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Relaciones c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los clien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Segment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de clientes</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a:noFill/>
                    </a:lnB>
                    <a:noFill/>
                  </a:tcPr>
                </a:tc>
              </a:tr>
              <a:tr h="2185920">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partners clav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proveedores clav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recursos claves adquirimos de los partner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es de las actividades claves son realizadas por los partner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92d050"/>
                          </a:solidFill>
                          <a:latin typeface="Arial"/>
                        </a:rPr>
                        <a:t>-detalla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872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actividades clave requiere nuestra propuesta de valo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anales de distribució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s relaciones con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flujos de ingres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ffc000"/>
                          </a:solidFill>
                          <a:latin typeface="Arial"/>
                        </a:rPr>
                        <a:t>- 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gridSpan="2"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valor le entregamos al client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 de los problemas del cliente le ayudamos a resolve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paquetes de productos o servicios le estamos ofreciendo a cada segmento de client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necesidades del consumidor estamos satisfaciend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70c0"/>
                          </a:solidFill>
                          <a:latin typeface="Arial"/>
                        </a:rPr>
                        <a:t>-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tipo de relacionamiento con cada segmento de cliente esperamos establecer y mantener?¿Cuáles hemos establecido?¿Cómo se integran con el resto del modelo de negocio?¿Cuán costosos s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ff000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ara quienes estamos creando valo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más importante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c00000"/>
                          </a:solidFill>
                          <a:latin typeface="Arial"/>
                        </a:rPr>
                        <a:t>- detalla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8720">
                      <a:solidFill>
                        <a:srgbClr val="000000"/>
                      </a:solidFill>
                    </a:lnR>
                    <a:lnT>
                      <a:noFill/>
                    </a:lnT>
                    <a:lnB w="5760">
                      <a:solidFill>
                        <a:srgbClr val="000000"/>
                      </a:solidFill>
                    </a:lnB>
                    <a:noFill/>
                  </a:tcPr>
                </a:tc>
              </a:tr>
              <a:tr h="283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Recursos clave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recursos claves requiere nuestra propuesta de valor? ¿Nuestros canales de distribució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s relaciones con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flujos de ingres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b0f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anale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 través de qué canales desean los clientes ser contactados?¿Cómo los estamos alcanzando ahora?¿Cómo se integran nuestros canales? ¿Cuáles trabajan mejor?¿Cuáles son más eficientes en costos? ¿Cuáles estamos integrando con las rutinas de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b05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0320">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Estructura de Costo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es son los costos más importantes en relación a nuestro modelo de negocio? Cuáles recursos claves son más caros? ¿Cuáles actividades claves son más caras?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t>
                      </a:r>
                      <a:r>
                        <a:rPr b="0" lang="es-CL" sz="900" spc="-1" strike="noStrike">
                          <a:solidFill>
                            <a:srgbClr val="002060"/>
                          </a:solidFill>
                          <a:latin typeface="Arial"/>
                        </a:rPr>
                        <a:t> Detallar</a:t>
                      </a:r>
                      <a:endParaRPr b="0" lang="en-US" sz="9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Flujos de ingreso</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or cuál valor están dispuestos a pagar nuestr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or cual valor pagan actualmente? ¿Cómo pagan actualmente?¿Cómo preferirían pagar? ¿Cómo cada flujo de ingreso contribuye al flujo de ingreso gener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 </a:t>
                      </a:r>
                      <a:r>
                        <a:rPr b="0" lang="es-CL" sz="900" spc="-1" strike="noStrike">
                          <a:solidFill>
                            <a:srgbClr val="7030a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8:28:49Z</dcterms:created>
  <dc:creator>jaime.villarreal</dc:creator>
  <dc:description/>
  <dc:language>en-US</dc:language>
  <cp:lastModifiedBy>............</cp:lastModifiedBy>
  <dcterms:modified xsi:type="dcterms:W3CDTF">2012-03-19T14:32:17Z</dcterms:modified>
  <cp:revision>16</cp:revision>
  <dc:subject/>
  <dc:title>Diapositiva 1</dc:title>
</cp:coreProperties>
</file>