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8F10-7391-49D6-B730-0FD9CCD001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EAD7-EDB1-44F8-B539-09CC2272ED2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0296-932F-4EA6-955D-27BC0C93758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6F14-916B-4032-B5F6-E7290B60B14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EB97-9CD8-4C77-B021-3DDCCCAE7A6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BA85-213F-4191-A1AD-DB2CAF1AF3D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DA79-955B-4CF0-A28B-EF3615788A0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D192-0C75-483C-AEC7-C473DBABB47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3653-D44E-4515-944B-709836C7576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DF97-5CE1-4B02-BD25-E69791FD189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67AB-43E0-4B60-962C-E1BCA008550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14F6-2DAD-49EC-9C6A-43EE22F5A62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70C7-57DA-42CA-9F59-6A50FC8E75CA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542B-F7D0-4AD2-A340-132624BBC62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FC23-9867-4E00-B7E7-798DB80759F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F35F-CD6D-44C2-B28C-66993C48B2A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92D9-BCA9-4FF7-890F-25C48F0430C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968C-1D84-4625-AC2E-D786CED3089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5223-2DBD-4219-B030-D561C1239090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3D61-9CD3-4527-A000-C78289D41C1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D33E-4DDD-44E6-9E68-E5BE776152E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7254-224D-47E7-8196-B63651227EC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F8FF-126D-4A92-A543-EB30FB2DFD6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0099-2522-4D26-8F48-8FB7CB29D22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C26B-C089-453B-BDE6-27DB7E687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B42D-4A8B-4F4E-9915-5644AD26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1694-42B4-4103-8DFB-CC57EECE2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BFED-6898-4342-B88D-5B65DF41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1CA2-56F3-434C-930B-B1D9A23F1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6E16-F228-467A-AA61-E82DE189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7089-4824-4088-8FC3-806D83DE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0173-DE81-4727-8CB3-633A289B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83E9-F406-4745-B95B-05A22064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EEE6-9C08-4CBB-9C14-5937D9F0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473E-8538-4EC8-BA43-47C4C4F7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1CDE-AACB-4A55-9267-73EECE6D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B3C3-9E7D-4212-A915-B459D32A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6742-0634-4830-94D4-49D8E20A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D195-FB39-4026-A61D-916C9BE1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F7C0-607F-4293-8250-DCBFB524C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250C-DBEA-4739-B005-A056ECE7E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6D0A96-18E2-4102-9B35-897465DBB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BB7584-7009-461F-ADE9-7F570408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AC7C40-7F33-468F-AC2F-97233009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EA3489-60F7-42DF-802D-76DEAD38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F18432-FBFC-40F3-B13E-1028316C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8192-0357-4A17-8C06-FE7A83AD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D1DB8A-F31A-4582-BE1B-B21C60ED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A4855E-D733-4CAF-8468-1C7ED2B5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687349-3DAC-49E0-BD56-578BEF2A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6CE457-A91B-4BC1-A1EA-3D18AF60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0FBD28-417C-436B-B618-A9A9DFEA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1857D3-9E92-4783-91E0-ED2E2BF9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33EF0B-A2F0-48D3-BA97-D4B64C408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78E65-DD04-4B46-968F-AA16F5DF5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9B2C5-B7E2-429E-ACF4-4C5E5A9A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BE08D-0D57-464B-89A3-50FB80AC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6B43-6270-454B-8D56-47AA87AC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176AC-984A-43C5-B742-A8D99E9A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6A8B5-90D5-4AC2-93F3-997CAEBA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FF0D3-E6D9-42B2-AEB2-68DEC7CA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7CF5F-E012-4E92-A1E7-B99D608B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0CD0E-BDCF-4C8A-88B7-C52750DD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A90C3-8C51-4094-8927-00DB0175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8DAA1-402B-4D2C-BEB3-11A3C924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3829D-1F31-4091-BFCB-C378C8FDC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D92C1-9C41-4F3B-BB96-AFBCCB1AE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4F55D5-BFE3-450F-9976-10D9284E6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7273-C5F7-4B5C-AF63-9A358F28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1D5D9B-FA3E-422D-A6B8-323F8368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A36B2A-336A-410D-B0C1-15ACA28C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C8D79E-50E8-4D42-B38E-A3C9FE5A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F56EBB-2E86-4C16-A974-06B43703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DE349D-C37F-45F9-B766-9B3841BD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292DCA-05DC-43C5-BB3B-719420E8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59877E-93D2-471D-8F38-E05F242E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B399EC-4E4D-4316-912F-83CBFEC5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B86CD0-670D-48B3-82F0-AF14D72E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746C50-EE02-4B8E-A26D-26EF3E191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5FED-0D3C-4564-BE77-0340D8C5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65F7E0-B71E-4C9E-BDA2-ABFC64FC7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8B1E3B-42EB-4CC7-9ADA-FDE47C690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7B068F-7A06-4F29-A93F-D74DFD26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5606EF-6ED9-4B91-8EB2-6BD44938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194773-CE61-4030-8BB2-4997AE25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B921D2-1D32-40B1-9CA4-F01EA8EE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790F7D-AB87-431B-AC2C-50E0ADCB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C28657-55BC-4EAD-AE72-543F9AD9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ECE6BA-D398-4D70-8C4B-63C4F3E5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8F41B6-F749-44CB-9B0A-A09C8268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DF18-DE93-4780-9375-6573E1DB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EC385C-56CE-45B4-9FEF-645D77CD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B4E87E-F9F5-43D9-8443-383AD7B2E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C88759-F077-4AD7-83DD-CAE24058C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DF4590-0969-4B39-B5AC-EC065F684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B47B40-2838-43DF-BBD5-A3BA706E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DF17D6-475C-4C9D-B48A-A2A9D617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594822-90FB-4B9B-A2DB-34D3FA54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9F0C25-EBFA-4AD7-948C-10C32EFB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5F1403-0708-4789-8073-827AE110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0B7E7D-3CF4-48BD-9BDD-2D6022DF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E561-16CA-40DB-BC9D-DC7CC970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C25814-E2F4-4DD4-B9B1-AC82F375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1A3656-16B2-4A74-ACBB-AA461A63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2B72B2-56C2-4F2D-BE9D-9DABEB24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BDDFC4-3473-4FBD-97BA-2E7C55E67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BE680C-CAEC-48B0-BD64-22698DB3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9FD7-3D30-407F-B250-801D1BAC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65A8-36A5-41FA-9FCF-54DD29A8AFF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98AA-2005-4F95-9BDD-D963C6491D9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0C04-650B-4915-AB00-8A91F84AC6E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6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7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8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9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10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11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12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1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1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1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1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18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1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20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23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24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6ecf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1BDC-46F4-4CC4-B5C8-99F09FE0736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6C3C-A503-4AA0-8DB4-82F250C0B31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6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7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8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9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10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11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12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35A7-4A62-4E6A-AA79-592345F4E13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6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7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11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2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6CEC-E6F1-45B5-936C-3F10FF2B7C9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0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17 Rectángulo" descr=""/>
          <p:cNvPicPr/>
          <p:nvPr/>
        </p:nvPicPr>
        <p:blipFill>
          <a:blip r:embed="rId1"/>
          <a:stretch/>
        </p:blipFill>
        <p:spPr>
          <a:xfrm>
            <a:off x="2382840" y="1951200"/>
            <a:ext cx="2854440" cy="110304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7"/>
          <p:cNvSpPr/>
          <p:nvPr/>
        </p:nvSpPr>
        <p:spPr>
          <a:xfrm>
            <a:off x="815760" y="214200"/>
            <a:ext cx="420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Modelo de Negoc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usando Canv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581640" y="357120"/>
            <a:ext cx="167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Ca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6500880" y="4786200"/>
            <a:ext cx="21826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2521440" y="357120"/>
            <a:ext cx="525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4. Relación con los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2357280" y="1857240"/>
            <a:ext cx="4838760" cy="2772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"/>
          <p:cNvPicPr/>
          <p:nvPr/>
        </p:nvPicPr>
        <p:blipFill>
          <a:blip r:embed="rId2"/>
          <a:stretch/>
        </p:blipFill>
        <p:spPr>
          <a:xfrm>
            <a:off x="3286080" y="1643040"/>
            <a:ext cx="26002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7143840" y="5072040"/>
            <a:ext cx="1311120" cy="141912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7"/>
          <p:cNvSpPr/>
          <p:nvPr/>
        </p:nvSpPr>
        <p:spPr>
          <a:xfrm>
            <a:off x="2644200" y="357120"/>
            <a:ext cx="481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Relación con los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"/>
          <p:cNvPicPr/>
          <p:nvPr/>
        </p:nvPicPr>
        <p:blipFill>
          <a:blip r:embed="rId1"/>
          <a:stretch/>
        </p:blipFill>
        <p:spPr>
          <a:xfrm>
            <a:off x="3643200" y="4214880"/>
            <a:ext cx="4410360" cy="173340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7"/>
          <p:cNvSpPr/>
          <p:nvPr/>
        </p:nvSpPr>
        <p:spPr>
          <a:xfrm>
            <a:off x="2772360" y="428760"/>
            <a:ext cx="39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5. Flujo de Ingr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2"/>
          <a:stretch/>
        </p:blipFill>
        <p:spPr>
          <a:xfrm>
            <a:off x="3143160" y="1285920"/>
            <a:ext cx="482940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2681640" y="357120"/>
            <a:ext cx="346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Flujo de Ingr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7429680" y="3786120"/>
            <a:ext cx="146664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" descr=""/>
          <p:cNvPicPr/>
          <p:nvPr/>
        </p:nvPicPr>
        <p:blipFill>
          <a:blip r:embed="rId1"/>
          <a:stretch/>
        </p:blipFill>
        <p:spPr>
          <a:xfrm>
            <a:off x="2214720" y="2857680"/>
            <a:ext cx="1742760" cy="165708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7"/>
          <p:cNvSpPr/>
          <p:nvPr/>
        </p:nvSpPr>
        <p:spPr>
          <a:xfrm>
            <a:off x="2698920" y="285840"/>
            <a:ext cx="34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6. Recurso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2" descr=""/>
          <p:cNvPicPr/>
          <p:nvPr/>
        </p:nvPicPr>
        <p:blipFill>
          <a:blip r:embed="rId2"/>
          <a:stretch/>
        </p:blipFill>
        <p:spPr>
          <a:xfrm>
            <a:off x="3905280" y="1643040"/>
            <a:ext cx="5238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2964960" y="357120"/>
            <a:ext cx="304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Recurso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175716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3" descr=""/>
          <p:cNvPicPr/>
          <p:nvPr/>
        </p:nvPicPr>
        <p:blipFill>
          <a:blip r:embed="rId1"/>
          <a:stretch/>
        </p:blipFill>
        <p:spPr>
          <a:xfrm>
            <a:off x="2500200" y="1643040"/>
            <a:ext cx="1447920" cy="12002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"/>
          <p:cNvPicPr/>
          <p:nvPr/>
        </p:nvPicPr>
        <p:blipFill>
          <a:blip r:embed="rId2"/>
          <a:stretch/>
        </p:blipFill>
        <p:spPr>
          <a:xfrm>
            <a:off x="2143080" y="2857680"/>
            <a:ext cx="1714680" cy="159048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7"/>
          <p:cNvSpPr/>
          <p:nvPr/>
        </p:nvSpPr>
        <p:spPr>
          <a:xfrm>
            <a:off x="2744640" y="428760"/>
            <a:ext cx="393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7. Actividade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3"/>
          <a:stretch/>
        </p:blipFill>
        <p:spPr>
          <a:xfrm>
            <a:off x="3905280" y="1428840"/>
            <a:ext cx="5238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2670120" y="428760"/>
            <a:ext cx="34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Actividade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7429680" y="5072040"/>
            <a:ext cx="114300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2517840" y="285840"/>
            <a:ext cx="42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8. Asociacione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6" descr=""/>
          <p:cNvPicPr/>
          <p:nvPr/>
        </p:nvPicPr>
        <p:blipFill>
          <a:blip r:embed="rId1"/>
          <a:stretch/>
        </p:blipFill>
        <p:spPr>
          <a:xfrm>
            <a:off x="0" y="1428840"/>
            <a:ext cx="2523960" cy="26384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"/>
          <p:cNvPicPr/>
          <p:nvPr/>
        </p:nvPicPr>
        <p:blipFill>
          <a:blip r:embed="rId2"/>
          <a:stretch/>
        </p:blipFill>
        <p:spPr>
          <a:xfrm>
            <a:off x="2071800" y="1428840"/>
            <a:ext cx="1476360" cy="12096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"/>
          <p:cNvPicPr/>
          <p:nvPr/>
        </p:nvPicPr>
        <p:blipFill>
          <a:blip r:embed="rId3"/>
          <a:stretch/>
        </p:blipFill>
        <p:spPr>
          <a:xfrm>
            <a:off x="1643040" y="2500200"/>
            <a:ext cx="1714680" cy="1590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"/>
          <p:cNvPicPr/>
          <p:nvPr/>
        </p:nvPicPr>
        <p:blipFill>
          <a:blip r:embed="rId4"/>
          <a:stretch/>
        </p:blipFill>
        <p:spPr>
          <a:xfrm>
            <a:off x="3429000" y="1143000"/>
            <a:ext cx="5238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789840" y="285840"/>
            <a:ext cx="219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El Nego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2443320" y="357120"/>
            <a:ext cx="376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Asociacione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6808680" y="4786200"/>
            <a:ext cx="179712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2618280" y="285840"/>
            <a:ext cx="458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9. Estructura de Co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357120" y="1071720"/>
            <a:ext cx="8325000" cy="40384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"/>
          <p:cNvPicPr/>
          <p:nvPr/>
        </p:nvPicPr>
        <p:blipFill>
          <a:blip r:embed="rId2"/>
          <a:stretch/>
        </p:blipFill>
        <p:spPr>
          <a:xfrm>
            <a:off x="214200" y="3643200"/>
            <a:ext cx="43052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0" y="115920"/>
            <a:ext cx="1695600" cy="141912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7"/>
          <p:cNvSpPr/>
          <p:nvPr/>
        </p:nvSpPr>
        <p:spPr>
          <a:xfrm>
            <a:off x="2527920" y="285840"/>
            <a:ext cx="413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Estructura de Co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8501040" cy="39528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4"/>
          <p:cNvSpPr/>
          <p:nvPr/>
        </p:nvSpPr>
        <p:spPr>
          <a:xfrm>
            <a:off x="2176560" y="214200"/>
            <a:ext cx="41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Modelo de negoc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2214720" y="2643120"/>
            <a:ext cx="1257120" cy="16765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2"/>
          <a:stretch/>
        </p:blipFill>
        <p:spPr>
          <a:xfrm>
            <a:off x="2786040" y="4429080"/>
            <a:ext cx="1282680" cy="15368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"/>
          <p:cNvPicPr/>
          <p:nvPr/>
        </p:nvPicPr>
        <p:blipFill>
          <a:blip r:embed="rId3"/>
          <a:stretch/>
        </p:blipFill>
        <p:spPr>
          <a:xfrm>
            <a:off x="6286680" y="2357280"/>
            <a:ext cx="1168200" cy="12448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"/>
          <p:cNvPicPr/>
          <p:nvPr/>
        </p:nvPicPr>
        <p:blipFill>
          <a:blip r:embed="rId4"/>
          <a:stretch/>
        </p:blipFill>
        <p:spPr>
          <a:xfrm>
            <a:off x="1857240" y="1143000"/>
            <a:ext cx="1447920" cy="11174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"/>
          <p:cNvPicPr/>
          <p:nvPr/>
        </p:nvPicPr>
        <p:blipFill>
          <a:blip r:embed="rId5"/>
          <a:stretch/>
        </p:blipFill>
        <p:spPr>
          <a:xfrm>
            <a:off x="4929120" y="5000760"/>
            <a:ext cx="1612800" cy="13586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"/>
          <p:cNvPicPr/>
          <p:nvPr/>
        </p:nvPicPr>
        <p:blipFill>
          <a:blip r:embed="rId6"/>
          <a:stretch/>
        </p:blipFill>
        <p:spPr>
          <a:xfrm>
            <a:off x="4786200" y="1285920"/>
            <a:ext cx="1041480" cy="13208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8" descr=""/>
          <p:cNvPicPr/>
          <p:nvPr/>
        </p:nvPicPr>
        <p:blipFill>
          <a:blip r:embed="rId7"/>
          <a:stretch/>
        </p:blipFill>
        <p:spPr>
          <a:xfrm>
            <a:off x="7343640" y="988920"/>
            <a:ext cx="1409760" cy="12700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"/>
          <p:cNvPicPr/>
          <p:nvPr/>
        </p:nvPicPr>
        <p:blipFill>
          <a:blip r:embed="rId8"/>
          <a:stretch/>
        </p:blipFill>
        <p:spPr>
          <a:xfrm>
            <a:off x="4214880" y="3214800"/>
            <a:ext cx="1612800" cy="12571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0" descr=""/>
          <p:cNvPicPr/>
          <p:nvPr/>
        </p:nvPicPr>
        <p:blipFill>
          <a:blip r:embed="rId9"/>
          <a:stretch/>
        </p:blipFill>
        <p:spPr>
          <a:xfrm>
            <a:off x="7500960" y="3929040"/>
            <a:ext cx="965160" cy="100332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4"/>
          <p:cNvSpPr/>
          <p:nvPr/>
        </p:nvSpPr>
        <p:spPr>
          <a:xfrm>
            <a:off x="1685880" y="285840"/>
            <a:ext cx="581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Modelo de negocios: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11" descr=""/>
          <p:cNvPicPr/>
          <p:nvPr/>
        </p:nvPicPr>
        <p:blipFill>
          <a:blip r:embed="rId1"/>
          <a:stretch/>
        </p:blipFill>
        <p:spPr>
          <a:xfrm>
            <a:off x="428760" y="1643040"/>
            <a:ext cx="8523000" cy="378612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7"/>
          <p:cNvSpPr/>
          <p:nvPr/>
        </p:nvSpPr>
        <p:spPr>
          <a:xfrm>
            <a:off x="2314080" y="285840"/>
            <a:ext cx="358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MODELO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6 Rectángulo"/>
          <p:cNvSpPr/>
          <p:nvPr/>
        </p:nvSpPr>
        <p:spPr>
          <a:xfrm>
            <a:off x="6300720" y="126828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Segmentos de 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1" name="10 Conector recto de flecha"/>
          <p:cNvCxnSpPr/>
          <p:nvPr/>
        </p:nvCxnSpPr>
        <p:spPr>
          <a:xfrm flipV="1">
            <a:off x="7450560" y="1557000"/>
            <a:ext cx="73800" cy="41328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sp>
        <p:nvSpPr>
          <p:cNvPr id="342" name="11 Rectángulo"/>
          <p:cNvSpPr/>
          <p:nvPr/>
        </p:nvSpPr>
        <p:spPr>
          <a:xfrm>
            <a:off x="214200" y="142884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Asociaciones C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12 Rectángulo"/>
          <p:cNvSpPr/>
          <p:nvPr/>
        </p:nvSpPr>
        <p:spPr>
          <a:xfrm>
            <a:off x="6286680" y="6143760"/>
            <a:ext cx="192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Ingreso de Fluj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13 Rectángulo"/>
          <p:cNvSpPr/>
          <p:nvPr/>
        </p:nvSpPr>
        <p:spPr>
          <a:xfrm>
            <a:off x="2357280" y="92880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Acciones C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14 Rectángulo"/>
          <p:cNvSpPr/>
          <p:nvPr/>
        </p:nvSpPr>
        <p:spPr>
          <a:xfrm>
            <a:off x="4643280" y="83664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Relación con los 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15 Rectángulo"/>
          <p:cNvSpPr/>
          <p:nvPr/>
        </p:nvSpPr>
        <p:spPr>
          <a:xfrm>
            <a:off x="2143080" y="614376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Estructura de Co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" name="19 Conector recto de flecha"/>
          <p:cNvCxnSpPr>
            <a:endCxn id="344" idx="2"/>
          </p:cNvCxnSpPr>
          <p:nvPr/>
        </p:nvCxnSpPr>
        <p:spPr>
          <a:xfrm flipH="1" flipV="1">
            <a:off x="3357360" y="1297800"/>
            <a:ext cx="72000" cy="70236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48" name="22 Conector recto de flecha"/>
          <p:cNvCxnSpPr/>
          <p:nvPr/>
        </p:nvCxnSpPr>
        <p:spPr>
          <a:xfrm flipH="1" flipV="1">
            <a:off x="1428480" y="1785240"/>
            <a:ext cx="357840" cy="78660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49" name="26 Conector recto de flecha"/>
          <p:cNvCxnSpPr>
            <a:endCxn id="345" idx="2"/>
          </p:cNvCxnSpPr>
          <p:nvPr/>
        </p:nvCxnSpPr>
        <p:spPr>
          <a:xfrm flipV="1">
            <a:off x="6000840" y="1206000"/>
            <a:ext cx="72000" cy="50904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50" name="29 Conector recto de flecha"/>
          <p:cNvCxnSpPr>
            <a:endCxn id="343" idx="0"/>
          </p:cNvCxnSpPr>
          <p:nvPr/>
        </p:nvCxnSpPr>
        <p:spPr>
          <a:xfrm>
            <a:off x="6999840" y="5143680"/>
            <a:ext cx="251640" cy="100080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51" name="33 Conector recto de flecha"/>
          <p:cNvCxnSpPr>
            <a:endCxn id="346" idx="0"/>
          </p:cNvCxnSpPr>
          <p:nvPr/>
        </p:nvCxnSpPr>
        <p:spPr>
          <a:xfrm>
            <a:off x="2642040" y="5071680"/>
            <a:ext cx="678600" cy="107244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sp>
        <p:nvSpPr>
          <p:cNvPr id="352" name="42 Rectángulo"/>
          <p:cNvSpPr/>
          <p:nvPr/>
        </p:nvSpPr>
        <p:spPr>
          <a:xfrm>
            <a:off x="5572080" y="5572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44 Conector recto de flecha"/>
          <p:cNvCxnSpPr>
            <a:endCxn id="352" idx="0"/>
          </p:cNvCxnSpPr>
          <p:nvPr/>
        </p:nvCxnSpPr>
        <p:spPr>
          <a:xfrm>
            <a:off x="5929200" y="4000320"/>
            <a:ext cx="215280" cy="157212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sp>
        <p:nvSpPr>
          <p:cNvPr id="354" name="46 Rectángulo"/>
          <p:cNvSpPr/>
          <p:nvPr/>
        </p:nvSpPr>
        <p:spPr>
          <a:xfrm>
            <a:off x="3286080" y="557208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Propuesta de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5" name="51 Conector recto de flecha"/>
          <p:cNvCxnSpPr>
            <a:endCxn id="354" idx="0"/>
          </p:cNvCxnSpPr>
          <p:nvPr/>
        </p:nvCxnSpPr>
        <p:spPr>
          <a:xfrm flipH="1">
            <a:off x="4463640" y="3286080"/>
            <a:ext cx="37440" cy="228672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sp>
        <p:nvSpPr>
          <p:cNvPr id="356" name="53 Rectángulo"/>
          <p:cNvSpPr/>
          <p:nvPr/>
        </p:nvSpPr>
        <p:spPr>
          <a:xfrm>
            <a:off x="0" y="314316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Recursos C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7" name="55 Conector recto de flecha"/>
          <p:cNvCxnSpPr>
            <a:endCxn id="356" idx="2"/>
          </p:cNvCxnSpPr>
          <p:nvPr/>
        </p:nvCxnSpPr>
        <p:spPr>
          <a:xfrm flipH="1">
            <a:off x="999720" y="3359160"/>
            <a:ext cx="2286720" cy="15480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27 CuadroTexto"/>
          <p:cNvSpPr/>
          <p:nvPr/>
        </p:nvSpPr>
        <p:spPr>
          <a:xfrm>
            <a:off x="2428920" y="1928880"/>
            <a:ext cx="5143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3643200" y="1714680"/>
            <a:ext cx="2266920" cy="268596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7"/>
          <p:cNvSpPr/>
          <p:nvPr/>
        </p:nvSpPr>
        <p:spPr>
          <a:xfrm>
            <a:off x="2627640" y="285840"/>
            <a:ext cx="499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1. Segmentos de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2552760" y="285840"/>
            <a:ext cx="465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 </a:t>
            </a: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Segmentos de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7215120" y="4630680"/>
            <a:ext cx="1424160" cy="1816200"/>
          </a:xfrm>
          <a:prstGeom prst="rect">
            <a:avLst/>
          </a:prstGeom>
          <a:ln w="0">
            <a:noFill/>
          </a:ln>
        </p:spPr>
      </p:pic>
      <p:sp>
        <p:nvSpPr>
          <p:cNvPr id="363" name="27 CuadroTexto"/>
          <p:cNvSpPr/>
          <p:nvPr/>
        </p:nvSpPr>
        <p:spPr>
          <a:xfrm>
            <a:off x="2428920" y="1928880"/>
            <a:ext cx="5143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27 CuadroTexto"/>
          <p:cNvSpPr/>
          <p:nvPr/>
        </p:nvSpPr>
        <p:spPr>
          <a:xfrm>
            <a:off x="2428920" y="1928880"/>
            <a:ext cx="5143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4" descr=""/>
          <p:cNvPicPr/>
          <p:nvPr/>
        </p:nvPicPr>
        <p:blipFill>
          <a:blip r:embed="rId1"/>
          <a:stretch/>
        </p:blipFill>
        <p:spPr>
          <a:xfrm>
            <a:off x="3286080" y="2571840"/>
            <a:ext cx="1676520" cy="26193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"/>
          <p:cNvPicPr/>
          <p:nvPr/>
        </p:nvPicPr>
        <p:blipFill>
          <a:blip r:embed="rId2"/>
          <a:stretch/>
        </p:blipFill>
        <p:spPr>
          <a:xfrm>
            <a:off x="5357880" y="2500200"/>
            <a:ext cx="2257200" cy="260028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7"/>
          <p:cNvSpPr/>
          <p:nvPr/>
        </p:nvSpPr>
        <p:spPr>
          <a:xfrm>
            <a:off x="2740320" y="571680"/>
            <a:ext cx="427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2. Propuesta de Va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2736360" y="428760"/>
            <a:ext cx="393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 </a:t>
            </a: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Propuesta de Va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6861240" y="3214800"/>
            <a:ext cx="228276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744000" y="428760"/>
            <a:ext cx="21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3. Ca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5" descr=""/>
          <p:cNvPicPr/>
          <p:nvPr/>
        </p:nvPicPr>
        <p:blipFill>
          <a:blip r:embed="rId1"/>
          <a:stretch/>
        </p:blipFill>
        <p:spPr>
          <a:xfrm>
            <a:off x="2714760" y="2071800"/>
            <a:ext cx="1638000" cy="27432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"/>
          <p:cNvPicPr/>
          <p:nvPr/>
        </p:nvPicPr>
        <p:blipFill>
          <a:blip r:embed="rId2"/>
          <a:stretch/>
        </p:blipFill>
        <p:spPr>
          <a:xfrm>
            <a:off x="5500800" y="2000160"/>
            <a:ext cx="2257200" cy="2600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"/>
          <p:cNvPicPr/>
          <p:nvPr/>
        </p:nvPicPr>
        <p:blipFill>
          <a:blip r:embed="rId3"/>
          <a:stretch/>
        </p:blipFill>
        <p:spPr>
          <a:xfrm>
            <a:off x="3643200" y="3286080"/>
            <a:ext cx="3214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5:08:44Z</dcterms:created>
  <dc:creator>...</dc:creator>
  <dc:description/>
  <dc:language>en-US</dc:language>
  <cp:lastModifiedBy>............</cp:lastModifiedBy>
  <dcterms:modified xsi:type="dcterms:W3CDTF">2012-03-19T14:32:03Z</dcterms:modified>
  <cp:revision>171</cp:revision>
  <dc:subject/>
  <dc:title>Diapositiva 1</dc:title>
</cp:coreProperties>
</file>