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A9FC-CB19-4885-9B90-BECDC533667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1DEC-4873-44BA-A143-F30F14CECCC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B2996-603C-41C8-A15A-2F29ADFCB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ACF43-C649-42C0-A522-6097E01A5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48F4E-9296-403E-97B0-F6FB487E0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F8527-FD00-4CE4-B329-64274D69D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BB99C-9342-46C2-A379-DFE12A03E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67EFC-1E44-4591-A8C1-EB420645E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ADF81-B40F-4EF5-97C1-A4FE27480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F5794-FA7B-46E4-9931-147EC3AE6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0C4F-8A4D-437A-8362-CD10AF45C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6BD02-6875-44DD-BA20-E8CF1AED7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38E92-B7B0-41B6-A8D7-31B927375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BED91-C854-4C7E-9F44-60F0E5DED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CB77-B772-428D-BD4B-B14613AA103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cp:lastModifiedBy>
  <dcterms:modified xsi:type="dcterms:W3CDTF">2012-03-19T14:32:17Z</dcterms:modified>
  <cp:revision>16</cp:revision>
  <dc:subject/>
  <dc:title>Diapositiva 1</dc:title>
</cp:coreProperties>
</file>