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763D-2A22-4EDE-B547-AFEE8E0A134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D7FB-F779-4673-9641-82BA98FDDA6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E38C-8564-4F0C-84B7-A7243E96EA3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D80A-7CAD-4FCD-890D-066EA25707B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8908-213D-4D59-A57A-EB873C66208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BBDD7-EFDB-47F4-826A-68A4B939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35F2C-A965-4C30-B878-783D52F6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FC9B0-3626-4537-A819-8C6B4008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FF833-EBD1-4E34-BD75-C31818F8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D87F0-A12C-4939-AFC7-4A853A86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83B60-3CA6-4493-B6A6-D6150F16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EED46-CDB8-4E03-ACB5-5534E6B6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84453-409C-4C93-A27E-22D69CD2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04D81-C8CA-4C52-8B42-12ED3ABC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A2B3A-E4C2-436F-B009-F313D799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DE3A3-1CFA-4FF1-AF64-EE10FB65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E8FB5-7925-4769-A8B9-5A1562D0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A589-C2D6-4106-AF96-53077175B66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............</cp:lastModifiedBy>
  <dcterms:modified xsi:type="dcterms:W3CDTF">2012-03-19T14:33:58Z</dcterms:modified>
  <cp:revision>9</cp:revision>
  <dc:subject/>
  <dc:title>Fuentes de Oportunidades</dc:title>
</cp:coreProperties>
</file>