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E2FF-720C-46C8-A40A-4D8EE7A6BF4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ABDC-53EE-4048-B087-355A525D483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1B2B-2FBF-49A3-A42C-044DE59B687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6F33-3606-4BCF-9E5E-3763E33726A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764A-DF05-46AF-A4A4-BD5AC8346C0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65BEF-D45B-477D-8D56-F520F49D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EF888-6916-470A-B6F8-015DDCA0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120BF-080D-4B36-9F16-6551850B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6B594-BF12-44D7-AD06-612B0565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3D66D-C76F-4FD6-BBD2-D91E948F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DB3ED-DFDD-4DEA-BB43-0F5F95E6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1449E-DFAB-4CBE-866C-EBA62FB1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86BB4-E793-4918-A66B-5776EFD6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F457B-7CC9-458F-B37C-56065F89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AB1E2-B822-437C-B49A-4D5F6AF5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C45D0-5CAD-446B-B157-F1F2101F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39BF6-D95A-4FA8-BA9E-E494ADCF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E7EF-AC90-4E67-9481-93DB88AAA00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............</cp:lastModifiedBy>
  <dcterms:modified xsi:type="dcterms:W3CDTF">2012-03-19T14:33:58Z</dcterms:modified>
  <cp:revision>9</cp:revision>
  <dc:subject/>
  <dc:title>Fuentes de Oportunidades</dc:title>
</cp:coreProperties>
</file>