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4806C-5D00-43AD-9491-ED99EA436632}"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sldImg"/>
          </p:nvPr>
        </p:nvSpPr>
        <p:spPr>
          <a:xfrm>
            <a:off x="1143000" y="685800"/>
            <a:ext cx="4572000" cy="3429000"/>
          </a:xfrm>
          <a:prstGeom prst="rect">
            <a:avLst/>
          </a:prstGeom>
          <a:ln w="0">
            <a:noFill/>
          </a:ln>
        </p:spPr>
      </p:sp>
      <p:sp>
        <p:nvSpPr>
          <p:cNvPr id="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5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4E88F-8790-42E1-9C41-477D5123B3DE}"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007087-B186-4450-8D29-1A575841A5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FCA62B-0296-4662-AE33-7E3E1BC0E0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D531C5-E530-44E0-8DF3-FF5C5FE1B9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E967FA-664E-4067-8FD3-7E948AA3BA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A78060-3799-4BDB-8953-BFF4DC7620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6570B6-6301-4493-9DE9-64B239C7F9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5BA3EE-91DD-4277-9CB8-BC1E35B61D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68E799-AEF9-4507-A886-4BFE414DCE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9C1FB4-3CBA-411B-A99D-2DDDABA641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32FF05-618A-48A2-BACE-25E21EDDE3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889D12-272E-49C6-87FF-0A973B2F69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2245C3-6761-4B17-9EBC-9EB4E8EA64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D8030-EEC4-4C6E-9F45-5EE9C6616C22}"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8" name=""/>
          <p:cNvGraphicFramePr/>
          <p:nvPr/>
        </p:nvGraphicFramePr>
        <p:xfrm>
          <a:off x="196920" y="123840"/>
          <a:ext cx="8748720" cy="6568920"/>
        </p:xfrm>
        <a:graphic>
          <a:graphicData uri="http://schemas.openxmlformats.org/drawingml/2006/table">
            <a:tbl>
              <a:tblPr/>
              <a:tblGrid>
                <a:gridCol w="1566720"/>
                <a:gridCol w="1728720"/>
                <a:gridCol w="792360"/>
                <a:gridCol w="1079280"/>
                <a:gridCol w="1944720"/>
                <a:gridCol w="1636920"/>
              </a:tblGrid>
              <a:tr h="517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Arial"/>
                        </a:rPr>
                        <a:t>Partner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Arial"/>
                        </a:rPr>
                        <a:t>claves</a:t>
                      </a:r>
                      <a:endParaRPr b="0" lang="en-US" sz="1400" spc="-1" strike="noStrike">
                        <a:solidFill>
                          <a:srgbClr val="000000"/>
                        </a:solidFill>
                        <a:latin typeface="Arial"/>
                      </a:endParaRPr>
                    </a:p>
                  </a:txBody>
                  <a:tcPr anchor="t" marL="90000" marR="90000">
                    <a:lnL w="18720">
                      <a:solidFill>
                        <a:srgbClr val="000000"/>
                      </a:solidFill>
                    </a:lnL>
                    <a:lnR w="5760">
                      <a:solidFill>
                        <a:srgbClr val="000000"/>
                      </a:solidFill>
                    </a:lnR>
                    <a:lnT w="18720">
                      <a:solidFill>
                        <a:srgbClr val="000000"/>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Arial"/>
                        </a:rPr>
                        <a:t>Actividades clav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8720">
                      <a:solidFill>
                        <a:srgbClr val="000000"/>
                      </a:solidFill>
                    </a:lnT>
                    <a:lnB>
                      <a:noFill/>
                    </a:lnB>
                    <a:noFill/>
                  </a:tcPr>
                </a:tc>
                <a:tc grid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Arial"/>
                        </a:rPr>
                        <a:t>Propuesta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Arial"/>
                        </a:rPr>
                        <a:t>de valo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872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Arial"/>
                        </a:rPr>
                        <a:t>Relaciones co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Arial"/>
                        </a:rPr>
                        <a:t>los client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8720">
                      <a:solidFill>
                        <a:srgbClr val="000000"/>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Arial"/>
                        </a:rPr>
                        <a:t>Segmento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Arial"/>
                        </a:rPr>
                        <a:t>de clientes</a:t>
                      </a:r>
                      <a:endParaRPr b="0" lang="en-US" sz="1400" spc="-1" strike="noStrike">
                        <a:solidFill>
                          <a:srgbClr val="000000"/>
                        </a:solidFill>
                        <a:latin typeface="Arial"/>
                      </a:endParaRPr>
                    </a:p>
                  </a:txBody>
                  <a:tcPr anchor="t" marL="90000" marR="90000">
                    <a:lnL w="5760">
                      <a:solidFill>
                        <a:srgbClr val="000000"/>
                      </a:solidFill>
                    </a:lnL>
                    <a:lnR w="18720">
                      <a:solidFill>
                        <a:srgbClr val="000000"/>
                      </a:solidFill>
                    </a:lnR>
                    <a:lnT w="18720">
                      <a:solidFill>
                        <a:srgbClr val="000000"/>
                      </a:solidFill>
                    </a:lnT>
                    <a:lnB>
                      <a:noFill/>
                    </a:lnB>
                    <a:noFill/>
                  </a:tcPr>
                </a:tc>
              </a:tr>
              <a:tr h="2185920">
                <a:tc rowSpan="2">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Quiénes son nuestros partners claves?</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Quiénes son nuestros proveedores claves?</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Qué recursos claves adquirimos de los partners?</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Cuáles de las actividades claves son realizadas por los partners?</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92d050"/>
                          </a:solidFill>
                          <a:latin typeface="Arial"/>
                        </a:rPr>
                        <a:t>-detallar</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t" marL="90000" marR="90000">
                    <a:lnL w="1872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Qué actividades clave requiere nuestra propuesta de valor?</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canales de distribución?</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Las relaciones con los clientes?</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Los flujos de ingreso?</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ffc000"/>
                          </a:solidFill>
                          <a:latin typeface="Arial"/>
                        </a:rPr>
                        <a:t>- detallar</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gridSpan="2" rowSpan="2">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Qué valor le entregamos al cliente?</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Cuál de los problemas del cliente le ayudamos a resolver?</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Qué paquetes de productos o servicios le estamos ofreciendo a cada segmento de cliente?</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Qué necesidades del consumidor estamos satisfaciendo?</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70c0"/>
                          </a:solidFill>
                          <a:latin typeface="Arial"/>
                        </a:rPr>
                        <a:t>- </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Qué tipo de relacionamiento con cada segmento de cliente esperamos establecer y mantener?¿Cuáles hemos establecido?¿Cómo se integran con el resto del modelo de negocio?¿Cuán costosos son?</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ff0000"/>
                          </a:solidFill>
                          <a:latin typeface="Arial"/>
                        </a:rPr>
                        <a:t>-detallar</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a:noFill/>
                    </a:lnT>
                    <a:lnB w="5760">
                      <a:solidFill>
                        <a:srgbClr val="000000"/>
                      </a:solidFill>
                    </a:lnB>
                    <a:noFill/>
                  </a:tcPr>
                </a:tc>
                <a:tc rowSpan="2">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Para quienes estamos creando valor?</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Quiénes son nuestros más importantes clientes?</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c00000"/>
                          </a:solidFill>
                          <a:latin typeface="Arial"/>
                        </a:rPr>
                        <a:t>- detallar</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t" marL="90000" marR="90000">
                    <a:lnL w="5760">
                      <a:solidFill>
                        <a:srgbClr val="000000"/>
                      </a:solidFill>
                    </a:lnL>
                    <a:lnR w="18720">
                      <a:solidFill>
                        <a:srgbClr val="000000"/>
                      </a:solidFill>
                    </a:lnR>
                    <a:lnT>
                      <a:noFill/>
                    </a:lnT>
                    <a:lnB w="5760">
                      <a:solidFill>
                        <a:srgbClr val="000000"/>
                      </a:solidFill>
                    </a:lnB>
                    <a:noFill/>
                  </a:tcPr>
                </a:tc>
              </a:tr>
              <a:tr h="2835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Arial"/>
                        </a:rPr>
                        <a:t>Recursos claves</a:t>
                      </a:r>
                      <a:endParaRPr b="0" lang="en-US" sz="14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Qué recursos claves requiere nuestra propuesta de valor? ¿Nuestros canales de distribución?</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Las relaciones con los clientes?</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Los flujos de ingreso?</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b0f0"/>
                          </a:solidFill>
                          <a:latin typeface="Arial"/>
                        </a:rPr>
                        <a:t>-detallar</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Arial"/>
                        </a:rPr>
                        <a:t>Canales</a:t>
                      </a:r>
                      <a:endParaRPr b="0" lang="en-US" sz="14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A través de qué canales desean los clientes ser contactados?¿Cómo los estamos alcanzando ahora?¿Cómo se integran nuestros canales? ¿Cuáles trabajan mejor?¿Cuáles son más eficientes en costos? ¿Cuáles estamos integrando con las rutinas de los clientes?</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b050"/>
                          </a:solidFill>
                          <a:latin typeface="Arial"/>
                        </a:rPr>
                        <a:t>-detallar</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030320">
                <a:tc gridSpan="3">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Arial"/>
                        </a:rPr>
                        <a:t>Estructura de Costos</a:t>
                      </a:r>
                      <a:endParaRPr b="0" lang="en-US" sz="14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Cuáles son los costos más importantes en relación a nuestro modelo de negocio? Cuáles recursos claves son más caros? ¿Cuáles actividades claves son más caras? </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a:t>
                      </a:r>
                      <a:r>
                        <a:rPr b="0" lang="es-CL" sz="900" spc="-1" strike="noStrike">
                          <a:solidFill>
                            <a:srgbClr val="002060"/>
                          </a:solidFill>
                          <a:latin typeface="Arial"/>
                        </a:rPr>
                        <a:t> Detallar</a:t>
                      </a:r>
                      <a:endParaRPr b="0" lang="en-US" sz="900" spc="-1" strike="noStrike">
                        <a:solidFill>
                          <a:srgbClr val="000000"/>
                        </a:solidFill>
                        <a:latin typeface="Arial"/>
                      </a:endParaRPr>
                    </a:p>
                  </a:txBody>
                  <a:tcPr anchor="t" marL="90000" marR="90000">
                    <a:lnL w="18720">
                      <a:solidFill>
                        <a:srgbClr val="000000"/>
                      </a:solidFill>
                    </a:lnL>
                    <a:lnR w="5760">
                      <a:solidFill>
                        <a:srgbClr val="000000"/>
                      </a:solidFill>
                    </a:lnR>
                    <a:lnT w="5760">
                      <a:solidFill>
                        <a:srgbClr val="000000"/>
                      </a:solidFill>
                    </a:lnT>
                    <a:lnB w="1872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Arial"/>
                        </a:rPr>
                        <a:t>Flujos de ingreso</a:t>
                      </a:r>
                      <a:endParaRPr b="0" lang="en-US" sz="14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Por cuál valor están dispuestos a pagar nuestros clientes?</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Por cual valor pagan actualmente? ¿Cómo pagan actualmente?¿Cómo preferirían pagar? ¿Cómo cada flujo de ingreso contribuye al flujo de ingreso general?</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Arial"/>
                        </a:rPr>
                        <a:t>- </a:t>
                      </a:r>
                      <a:r>
                        <a:rPr b="0" lang="es-CL" sz="900" spc="-1" strike="noStrike">
                          <a:solidFill>
                            <a:srgbClr val="7030a0"/>
                          </a:solidFill>
                          <a:latin typeface="Arial"/>
                        </a:rPr>
                        <a:t>detallar</a:t>
                      </a:r>
                      <a:endParaRPr b="0" lang="en-US" sz="900" spc="-1" strike="noStrike">
                        <a:solidFill>
                          <a:srgbClr val="000000"/>
                        </a:solidFill>
                        <a:latin typeface="Arial"/>
                      </a:endParaRPr>
                    </a:p>
                  </a:txBody>
                  <a:tcPr anchor="t" marL="90000" marR="90000">
                    <a:lnL w="5760">
                      <a:solidFill>
                        <a:srgbClr val="000000"/>
                      </a:solidFill>
                    </a:lnL>
                    <a:lnR w="18720">
                      <a:solidFill>
                        <a:srgbClr val="000000"/>
                      </a:solidFill>
                    </a:lnR>
                    <a:lnT w="5760">
                      <a:solidFill>
                        <a:srgbClr val="000000"/>
                      </a:solidFill>
                    </a:lnT>
                    <a:lnB w="1872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7T18:28:49Z</dcterms:created>
  <dc:creator>jaime.villarreal</dc:creator>
  <dc:description/>
  <dc:language>en-US</dc:language>
  <cp:lastModifiedBy>............</cp:lastModifiedBy>
  <dcterms:modified xsi:type="dcterms:W3CDTF">2012-03-19T14:32:17Z</dcterms:modified>
  <cp:revision>16</cp:revision>
  <dc:subject/>
  <dc:title>Diapositiva 1</dc:title>
</cp:coreProperties>
</file>