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CD93-EAFE-4B13-830B-A3C8539EFD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03D1-86A4-4D98-902D-1050EF177A9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2447-E550-49C2-A80B-10B881BBEDD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5BC7-D90E-4757-BB5E-FC88E077EBE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EF55-DC4D-4CC5-99FB-766FE308923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7A54-A74A-496B-9536-DEF8DF4093F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94EF-3733-45A5-AF98-40B5A36D486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D7EE-9705-4AE1-9C2E-C84164D458E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7E20-18EF-4BBA-9E26-928FE7886FC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3659-75B9-4323-8687-700C51ED4C7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DF56-031F-475B-9AF9-6B858BFA88C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F911-72D1-44FC-A3D9-8BC01EF2A2E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0F81-693D-42A9-AD1E-3C7F100824C4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0B72-398A-4794-979F-C9B9C36D677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4AEA-911D-48B4-9B6B-1DF3B8382D1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8F03-92B0-483E-91EA-36B80009BC1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E815-46CE-4ABD-AA3E-93477A75D47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0B16-4D0C-4A2F-A4CC-53C35663267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BC93-2F72-41A5-89A1-BF30E1D2E8A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2EB4-0CD0-4118-A1F2-3FF93FC16A2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6BDE-3B9A-46A4-8247-C6F32E3C775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FBD4-40D6-4248-BC66-1D3F37DF87D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2761-6512-43F5-B0D3-72546FC5B7A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F943-A5C5-4CA7-9987-A973FC31876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1D7E-F397-44BC-B903-5C11A81E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6527-88A0-458C-B43F-05F8BACF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09DF-8CB0-4D7A-8834-F8220477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8F5-2EFF-4FFB-ABD1-88D72612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555A-36F5-4F34-AF6F-0C16E55A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5E93-4DF7-4C63-B247-7FD34AFF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0A438-984D-444B-9B48-807F0011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D586-2158-42E3-B3FE-1F30C0E4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28F0-36A1-408B-B4B6-0FFF02AB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CA33-5AD7-4617-BEA7-A0C11365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5BB7-7778-407E-AD1E-353B3243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BCCF-DDD3-4396-BEE3-41713DA9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8E40-F36A-4100-9D56-0BD86654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C4B4-F7E7-4C66-B07B-D2F13C18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D5A0-B936-4EB4-81E6-253D15F9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5FC6-270F-4665-8D86-D2ED2AE7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B8A3-395B-4CF0-BA0F-5BF112CE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27C817-A390-40B0-A19A-5E3B1A66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9F47DD-D146-4A3D-9E64-A4D30984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408944-88FD-494D-9DB3-FD75126F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D2995-6B32-4318-A447-0F11AD2B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8659C-6C77-424B-9C9C-256A9D9C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C440-715E-49EB-BBD7-C0C11432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2D145-BBE5-46FD-B1C7-0BE6D920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E1A58-32CB-45D4-857C-94392227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48C11-F667-4130-B661-812A7BE2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63FAD-73C5-4DD5-A27B-95975BB5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1881B-DDC7-465A-A5F7-F9629918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9478F-D1A4-4AB3-9290-483973D12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434562-F6C5-45E3-AC6C-3A3E46604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7BC3D-1CFD-4B7F-A2DC-C5FE3B8E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A3FA6-5F62-414A-8BDB-F30540BC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C4A70-7D82-4B27-A71B-86057C3B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68E1-3626-4FBE-94C4-900AAA11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91C49-C4A9-444C-9189-96450337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80951-443C-4976-9CEF-DB9BE6DA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972FB-0301-412B-BBB3-708305CD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957E2-BF28-4067-94E4-8398C8E1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B270E-869A-463A-867E-9F5BCEA1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6795A-52B5-4FD3-A3C7-0F968363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993DB-5059-4768-8790-CF6590D0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67FEB-7CE6-4527-8E03-040AB0D2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793B6-A0EE-465D-829F-D61B65A70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B3C013-9BD4-49B3-A5E2-5F850DAF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B2F-7DDC-4BDE-8DE7-4F6007B8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59BF17-6E5D-4106-B07F-4AC711EF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D64863-0193-4355-B0C2-6AA4998A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CB96B9-24E6-4326-99F0-80049D5C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DDDDB-76E9-40DE-9B99-B4A13660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01F504-180C-4793-9D73-D4240F1C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9BBC4A-47C7-49D0-AF3A-89E9C03A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9CC8A1-B71A-49C4-9D0F-549F176E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AD2106-1990-4AB3-98F8-AD2CA696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C7F403-4C03-4C0F-9B1C-285F0A95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E419FB-F407-4176-A4E3-C55BA50B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8DB7-B0E6-44FB-86B7-74FE8FC3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5A574D-4A59-4256-9ACD-D3F835FC4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69A5A9-E04D-4B87-83AC-F3F861CA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AC7706-EBD1-422F-B21B-55F41E91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76DCA8-FB79-4314-97BA-B6933F82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5AB774-D659-498A-AA51-295D8060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53CEE-2427-4334-A81B-C3E9402A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E3F10D-A2A7-472B-B983-AA8C9750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90C05C-71F8-4F02-8F0F-A87F39B8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803E92-1C19-42A2-A2AF-DB727100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858E1B-1309-4A3E-B11F-A6ACCDD9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180-8668-48EC-A418-13522B71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D095BB-5D67-4C89-8C99-D9413A84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735356-9762-46F9-B2CE-B2B7177C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1A8A2A-C826-4A6B-9824-8F83B62C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AB9951-E657-41FA-A88B-92908801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CDF63C-B1DD-44B9-950E-96E48269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30C9BE-DB4E-42E5-922B-E6E8F183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E4D393-8FB7-494F-86FF-31E2A7EB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9B53E2-C0D9-4B17-BB67-8FFB0A73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9073AB-451B-492A-8E9F-05CFC5FE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D3F764-0815-472C-A6DF-6D16B4CF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3C2D-5060-4477-86D2-D27B9B5D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031154-5178-4860-B2EC-982109B2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EEC9EA-564E-46E7-B74D-DA41F35E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4CDE52-86E8-48C7-A59A-45382D8C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197720" y="21384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919097-59D6-4B07-8546-9CDB46D73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-10404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421000" y="-233208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-262908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-10404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2421000" y="21384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F90C81-0772-4910-AFF6-D73BC0BF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262908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97720" y="-2332080"/>
            <a:ext cx="36442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2629080" y="213840"/>
            <a:ext cx="74678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ABC2-08DD-4577-BDCD-E1BBFD04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40C7-A81D-43D8-A256-E8F8D5B2B2A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D532-000D-469D-BBA7-4E68295ED39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492D-2414-45E2-9494-9A3B0ED2530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5b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11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12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1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1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1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2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3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24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6ecf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6ecff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6ecf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6068-585C-4B2E-BF1B-2AA96B94EAD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7EB5-17D5-4CF4-BADF-720928F3355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7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8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9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0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11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2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98B2-3AFB-4824-BA48-FF7638BD0FB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7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1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2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-2629080" y="-233208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FB1A-77E0-4D57-9A68-B2FEDB73FE7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0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17 Rectángulo" descr=""/>
          <p:cNvPicPr/>
          <p:nvPr/>
        </p:nvPicPr>
        <p:blipFill>
          <a:blip r:embed="rId1"/>
          <a:stretch/>
        </p:blipFill>
        <p:spPr>
          <a:xfrm>
            <a:off x="2382840" y="1951200"/>
            <a:ext cx="2854440" cy="110304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7"/>
          <p:cNvSpPr/>
          <p:nvPr/>
        </p:nvSpPr>
        <p:spPr>
          <a:xfrm>
            <a:off x="815760" y="214200"/>
            <a:ext cx="420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usando Can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581640" y="357120"/>
            <a:ext cx="16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Ca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6500880" y="4786200"/>
            <a:ext cx="21826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2521440" y="357120"/>
            <a:ext cx="525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4. Relación con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2357280" y="1857240"/>
            <a:ext cx="4838760" cy="27720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3286080" y="1643040"/>
            <a:ext cx="26002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7143840" y="5072040"/>
            <a:ext cx="1311120" cy="14191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7"/>
          <p:cNvSpPr/>
          <p:nvPr/>
        </p:nvSpPr>
        <p:spPr>
          <a:xfrm>
            <a:off x="2644200" y="357120"/>
            <a:ext cx="481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Relación con los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3643200" y="4214880"/>
            <a:ext cx="4410360" cy="17334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7"/>
          <p:cNvSpPr/>
          <p:nvPr/>
        </p:nvSpPr>
        <p:spPr>
          <a:xfrm>
            <a:off x="2772360" y="428760"/>
            <a:ext cx="39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5. Flujo de 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2"/>
          <a:stretch/>
        </p:blipFill>
        <p:spPr>
          <a:xfrm>
            <a:off x="3143160" y="1285920"/>
            <a:ext cx="48294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2681640" y="357120"/>
            <a:ext cx="34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Flujo de 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7429680" y="3786120"/>
            <a:ext cx="146664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2214720" y="2857680"/>
            <a:ext cx="1742760" cy="16570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7"/>
          <p:cNvSpPr/>
          <p:nvPr/>
        </p:nvSpPr>
        <p:spPr>
          <a:xfrm>
            <a:off x="2698920" y="285840"/>
            <a:ext cx="34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6. Recurs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2"/>
          <a:stretch/>
        </p:blipFill>
        <p:spPr>
          <a:xfrm>
            <a:off x="3905280" y="164304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2964960" y="357120"/>
            <a:ext cx="304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Recurso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175716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2500200" y="1643040"/>
            <a:ext cx="1447920" cy="12002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2143080" y="2857680"/>
            <a:ext cx="1714680" cy="159048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7"/>
          <p:cNvSpPr/>
          <p:nvPr/>
        </p:nvSpPr>
        <p:spPr>
          <a:xfrm>
            <a:off x="2744640" y="428760"/>
            <a:ext cx="39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7. Actividad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3"/>
          <a:stretch/>
        </p:blipFill>
        <p:spPr>
          <a:xfrm>
            <a:off x="3905280" y="142884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2670120" y="428760"/>
            <a:ext cx="34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Actividad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7429680" y="5072040"/>
            <a:ext cx="1143000" cy="12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2517840" y="285840"/>
            <a:ext cx="42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8. Asociacion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6" descr=""/>
          <p:cNvPicPr/>
          <p:nvPr/>
        </p:nvPicPr>
        <p:blipFill>
          <a:blip r:embed="rId1"/>
          <a:stretch/>
        </p:blipFill>
        <p:spPr>
          <a:xfrm>
            <a:off x="0" y="1428840"/>
            <a:ext cx="2523960" cy="26384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"/>
          <p:cNvPicPr/>
          <p:nvPr/>
        </p:nvPicPr>
        <p:blipFill>
          <a:blip r:embed="rId2"/>
          <a:stretch/>
        </p:blipFill>
        <p:spPr>
          <a:xfrm>
            <a:off x="2071800" y="1428840"/>
            <a:ext cx="1476360" cy="12096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"/>
          <p:cNvPicPr/>
          <p:nvPr/>
        </p:nvPicPr>
        <p:blipFill>
          <a:blip r:embed="rId3"/>
          <a:stretch/>
        </p:blipFill>
        <p:spPr>
          <a:xfrm>
            <a:off x="1643040" y="2500200"/>
            <a:ext cx="1714680" cy="1590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4"/>
          <a:stretch/>
        </p:blipFill>
        <p:spPr>
          <a:xfrm>
            <a:off x="3429000" y="1143000"/>
            <a:ext cx="523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789840" y="285840"/>
            <a:ext cx="219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2443320" y="357120"/>
            <a:ext cx="37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Asociaciones C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6808680" y="4786200"/>
            <a:ext cx="179712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2618280" y="285840"/>
            <a:ext cx="458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9. Estructura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1"/>
          <a:stretch/>
        </p:blipFill>
        <p:spPr>
          <a:xfrm>
            <a:off x="357120" y="1071720"/>
            <a:ext cx="8325000" cy="4038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214200" y="3643200"/>
            <a:ext cx="43052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0" y="115920"/>
            <a:ext cx="1695600" cy="141912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7"/>
          <p:cNvSpPr/>
          <p:nvPr/>
        </p:nvSpPr>
        <p:spPr>
          <a:xfrm>
            <a:off x="2527920" y="285840"/>
            <a:ext cx="413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Estructura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8501040" cy="39528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4"/>
          <p:cNvSpPr/>
          <p:nvPr/>
        </p:nvSpPr>
        <p:spPr>
          <a:xfrm>
            <a:off x="2176560" y="214200"/>
            <a:ext cx="414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2214720" y="2643120"/>
            <a:ext cx="1257120" cy="1676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2786040" y="4429080"/>
            <a:ext cx="1282680" cy="15368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4" descr=""/>
          <p:cNvPicPr/>
          <p:nvPr/>
        </p:nvPicPr>
        <p:blipFill>
          <a:blip r:embed="rId3"/>
          <a:stretch/>
        </p:blipFill>
        <p:spPr>
          <a:xfrm>
            <a:off x="6286680" y="2357280"/>
            <a:ext cx="1168200" cy="12448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5" descr=""/>
          <p:cNvPicPr/>
          <p:nvPr/>
        </p:nvPicPr>
        <p:blipFill>
          <a:blip r:embed="rId4"/>
          <a:stretch/>
        </p:blipFill>
        <p:spPr>
          <a:xfrm>
            <a:off x="1857240" y="1143000"/>
            <a:ext cx="1447920" cy="1117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"/>
          <p:cNvPicPr/>
          <p:nvPr/>
        </p:nvPicPr>
        <p:blipFill>
          <a:blip r:embed="rId5"/>
          <a:stretch/>
        </p:blipFill>
        <p:spPr>
          <a:xfrm>
            <a:off x="4929120" y="5000760"/>
            <a:ext cx="1612800" cy="1358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"/>
          <p:cNvPicPr/>
          <p:nvPr/>
        </p:nvPicPr>
        <p:blipFill>
          <a:blip r:embed="rId6"/>
          <a:stretch/>
        </p:blipFill>
        <p:spPr>
          <a:xfrm>
            <a:off x="4786200" y="1285920"/>
            <a:ext cx="1041480" cy="1320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"/>
          <p:cNvPicPr/>
          <p:nvPr/>
        </p:nvPicPr>
        <p:blipFill>
          <a:blip r:embed="rId7"/>
          <a:stretch/>
        </p:blipFill>
        <p:spPr>
          <a:xfrm>
            <a:off x="7343640" y="988920"/>
            <a:ext cx="1409760" cy="1270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"/>
          <p:cNvPicPr/>
          <p:nvPr/>
        </p:nvPicPr>
        <p:blipFill>
          <a:blip r:embed="rId8"/>
          <a:stretch/>
        </p:blipFill>
        <p:spPr>
          <a:xfrm>
            <a:off x="4214880" y="3214800"/>
            <a:ext cx="1612800" cy="12571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"/>
          <p:cNvPicPr/>
          <p:nvPr/>
        </p:nvPicPr>
        <p:blipFill>
          <a:blip r:embed="rId9"/>
          <a:stretch/>
        </p:blipFill>
        <p:spPr>
          <a:xfrm>
            <a:off x="7500960" y="3929040"/>
            <a:ext cx="965160" cy="100332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4"/>
          <p:cNvSpPr/>
          <p:nvPr/>
        </p:nvSpPr>
        <p:spPr>
          <a:xfrm>
            <a:off x="1685880" y="285840"/>
            <a:ext cx="58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de negocios: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11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523000" cy="378612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7"/>
          <p:cNvSpPr/>
          <p:nvPr/>
        </p:nvSpPr>
        <p:spPr>
          <a:xfrm>
            <a:off x="2314080" y="285840"/>
            <a:ext cx="35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MODELO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6 Rectángulo"/>
          <p:cNvSpPr/>
          <p:nvPr/>
        </p:nvSpPr>
        <p:spPr>
          <a:xfrm>
            <a:off x="6300720" y="126828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Segmentos de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1" name="10 Conector recto de flecha"/>
          <p:cNvCxnSpPr/>
          <p:nvPr/>
        </p:nvCxnSpPr>
        <p:spPr>
          <a:xfrm flipV="1">
            <a:off x="7450560" y="1557000"/>
            <a:ext cx="73800" cy="41328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42" name="11 Rectángulo"/>
          <p:cNvSpPr/>
          <p:nvPr/>
        </p:nvSpPr>
        <p:spPr>
          <a:xfrm>
            <a:off x="214200" y="142884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Asociacione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12 Rectángulo"/>
          <p:cNvSpPr/>
          <p:nvPr/>
        </p:nvSpPr>
        <p:spPr>
          <a:xfrm>
            <a:off x="6286680" y="6143760"/>
            <a:ext cx="192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Ingreso de Flu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13 Rectángulo"/>
          <p:cNvSpPr/>
          <p:nvPr/>
        </p:nvSpPr>
        <p:spPr>
          <a:xfrm>
            <a:off x="2357280" y="92880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Accione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14 Rectángulo"/>
          <p:cNvSpPr/>
          <p:nvPr/>
        </p:nvSpPr>
        <p:spPr>
          <a:xfrm>
            <a:off x="4643280" y="8366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Relación con l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15 Rectángulo"/>
          <p:cNvSpPr/>
          <p:nvPr/>
        </p:nvSpPr>
        <p:spPr>
          <a:xfrm>
            <a:off x="2143080" y="614376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Estructura de Co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19 Conector recto de flecha"/>
          <p:cNvCxnSpPr>
            <a:endCxn id="344" idx="2"/>
          </p:cNvCxnSpPr>
          <p:nvPr/>
        </p:nvCxnSpPr>
        <p:spPr>
          <a:xfrm flipH="1" flipV="1">
            <a:off x="3357360" y="1297800"/>
            <a:ext cx="72000" cy="70236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48" name="22 Conector recto de flecha"/>
          <p:cNvCxnSpPr/>
          <p:nvPr/>
        </p:nvCxnSpPr>
        <p:spPr>
          <a:xfrm flipH="1" flipV="1">
            <a:off x="1428480" y="1785240"/>
            <a:ext cx="357840" cy="7866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49" name="26 Conector recto de flecha"/>
          <p:cNvCxnSpPr>
            <a:endCxn id="345" idx="2"/>
          </p:cNvCxnSpPr>
          <p:nvPr/>
        </p:nvCxnSpPr>
        <p:spPr>
          <a:xfrm flipV="1">
            <a:off x="6000840" y="1206000"/>
            <a:ext cx="72000" cy="5090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50" name="29 Conector recto de flecha"/>
          <p:cNvCxnSpPr>
            <a:endCxn id="343" idx="0"/>
          </p:cNvCxnSpPr>
          <p:nvPr/>
        </p:nvCxnSpPr>
        <p:spPr>
          <a:xfrm>
            <a:off x="6999840" y="5143680"/>
            <a:ext cx="251640" cy="1000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cxnSp>
        <p:nvCxnSpPr>
          <p:cNvPr id="351" name="33 Conector recto de flecha"/>
          <p:cNvCxnSpPr>
            <a:endCxn id="346" idx="0"/>
          </p:cNvCxnSpPr>
          <p:nvPr/>
        </p:nvCxnSpPr>
        <p:spPr>
          <a:xfrm>
            <a:off x="2642040" y="5071680"/>
            <a:ext cx="678600" cy="107244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2" name="42 Rectángulo"/>
          <p:cNvSpPr/>
          <p:nvPr/>
        </p:nvSpPr>
        <p:spPr>
          <a:xfrm>
            <a:off x="5572080" y="5572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Ca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44 Conector recto de flecha"/>
          <p:cNvCxnSpPr>
            <a:endCxn id="352" idx="0"/>
          </p:cNvCxnSpPr>
          <p:nvPr/>
        </p:nvCxnSpPr>
        <p:spPr>
          <a:xfrm>
            <a:off x="5929200" y="4000320"/>
            <a:ext cx="215280" cy="15721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4" name="46 Rectángulo"/>
          <p:cNvSpPr/>
          <p:nvPr/>
        </p:nvSpPr>
        <p:spPr>
          <a:xfrm>
            <a:off x="3286080" y="557208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Propuesta de 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51 Conector recto de flecha"/>
          <p:cNvCxnSpPr>
            <a:endCxn id="354" idx="0"/>
          </p:cNvCxnSpPr>
          <p:nvPr/>
        </p:nvCxnSpPr>
        <p:spPr>
          <a:xfrm flipH="1">
            <a:off x="4463640" y="3286080"/>
            <a:ext cx="37440" cy="228672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  <p:sp>
        <p:nvSpPr>
          <p:cNvPr id="356" name="53 Rectángulo"/>
          <p:cNvSpPr/>
          <p:nvPr/>
        </p:nvSpPr>
        <p:spPr>
          <a:xfrm>
            <a:off x="0" y="31431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663300"/>
                </a:solidFill>
                <a:latin typeface="Bauhaus 93"/>
                <a:ea typeface="BatangChe"/>
              </a:rPr>
              <a:t>Recursos Cl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55 Conector recto de flecha"/>
          <p:cNvCxnSpPr>
            <a:endCxn id="356" idx="2"/>
          </p:cNvCxnSpPr>
          <p:nvPr/>
        </p:nvCxnSpPr>
        <p:spPr>
          <a:xfrm flipH="1">
            <a:off x="999720" y="3359160"/>
            <a:ext cx="2286720" cy="154800"/>
          </a:xfrm>
          <a:prstGeom prst="straightConnector1">
            <a:avLst/>
          </a:prstGeom>
          <a:ln w="12600">
            <a:solidFill>
              <a:srgbClr val="69d311"/>
            </a:solidFill>
            <a:miter/>
            <a:tailEnd len="med" type="arrow" w="med"/>
          </a:ln>
        </p:spPr>
      </p:cxn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3643200" y="1714680"/>
            <a:ext cx="2266920" cy="268596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7"/>
          <p:cNvSpPr/>
          <p:nvPr/>
        </p:nvSpPr>
        <p:spPr>
          <a:xfrm>
            <a:off x="2627640" y="285840"/>
            <a:ext cx="499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1. Segmentos de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2552760" y="285840"/>
            <a:ext cx="46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 </a:t>
            </a: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Segmentos de Cl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7215120" y="4630680"/>
            <a:ext cx="1424160" cy="1816200"/>
          </a:xfrm>
          <a:prstGeom prst="rect">
            <a:avLst/>
          </a:prstGeom>
          <a:ln w="0">
            <a:noFill/>
          </a:ln>
        </p:spPr>
      </p:pic>
      <p:sp>
        <p:nvSpPr>
          <p:cNvPr id="363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27 CuadroTexto"/>
          <p:cNvSpPr/>
          <p:nvPr/>
        </p:nvSpPr>
        <p:spPr>
          <a:xfrm>
            <a:off x="2428920" y="1928880"/>
            <a:ext cx="5143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3286080" y="2571840"/>
            <a:ext cx="1676520" cy="26193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5357880" y="2500200"/>
            <a:ext cx="2257200" cy="260028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7"/>
          <p:cNvSpPr/>
          <p:nvPr/>
        </p:nvSpPr>
        <p:spPr>
          <a:xfrm>
            <a:off x="2740320" y="571680"/>
            <a:ext cx="427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2. 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2736360" y="428760"/>
            <a:ext cx="393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 </a:t>
            </a: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Propuesta de Va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1"/>
          <a:stretch/>
        </p:blipFill>
        <p:spPr>
          <a:xfrm>
            <a:off x="6861240" y="3214800"/>
            <a:ext cx="228276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744000" y="428760"/>
            <a:ext cx="21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c000"/>
                </a:solidFill>
                <a:latin typeface="Gill Sans Ultra Bold"/>
              </a:rPr>
              <a:t>3. Ca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2714760" y="2071800"/>
            <a:ext cx="1638000" cy="27432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5500800" y="2000160"/>
            <a:ext cx="2257200" cy="2600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3"/>
          <a:stretch/>
        </p:blipFill>
        <p:spPr>
          <a:xfrm>
            <a:off x="3643200" y="3286080"/>
            <a:ext cx="3214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5:08:44Z</dcterms:created>
  <dc:creator>...</dc:creator>
  <dc:description/>
  <dc:language>en-US</dc:language>
  <cp:lastModifiedBy>............</cp:lastModifiedBy>
  <dcterms:modified xsi:type="dcterms:W3CDTF">2012-03-19T14:32:03Z</dcterms:modified>
  <cp:revision>171</cp:revision>
  <dc:subject/>
  <dc:title>Diapositiva 1</dc:title>
</cp:coreProperties>
</file>