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04E2-3BA0-4808-9976-D70C97022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B353-37EA-4C49-9CDC-CAEBE292865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5D4F-06C0-4396-8842-E72F1C74AED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AA3D-085B-4D12-B8C1-D6D04F16471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0F6D-3F1E-4755-96C2-5026EAB6CCA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20E2-1B7E-4273-896F-C29028B67F0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BB62-3FD6-4AF5-89FC-61AB893B139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9F01-6678-45A9-9519-3E26F8E295B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404D-6688-453B-983D-F7FA17C4D96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6ED1-8F0B-48B3-8997-A65B00661BD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3EDC-B0B3-4998-A134-96039204ADF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61BE-B451-411C-9BD5-CAC60CDD5C1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7AC4-F3DD-4479-901B-D5586DFC52D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B9B2-408C-41D3-BA17-3C151A1F59E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0255-46F1-4FB2-BC95-386F23E92B7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FAF2-DDFF-4B65-9F16-72CDA9DD6BA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D60F-A615-4D2B-91E0-F1C8F564449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69C7-35B8-48DE-8701-2342081929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067A-0EE5-4D98-AEEC-4F751F8D1A9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28A2-B766-4604-877D-02A6C3B48FD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A86F-AE52-4D27-9BBC-52AFB228DEE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EA0F-172E-4527-ACA9-B868AF947F6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4748-FC92-4907-9D62-292061701D0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53FA-813A-4978-BB30-EA7BD54B7FF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2BC-4FCE-4143-9B02-D709EB2F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110-DC19-48F3-8D6E-27C64AE2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482-1065-4493-A8DC-2AABE923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041-B958-4B7B-A6D4-0F0404ED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1988-61EE-4BBC-88FD-57BB3804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B6B7-4946-4C13-B2F4-837394B7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CF2E-59B7-47AD-8363-E096522C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079B-347C-4585-90F4-CD2CFCAB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DA2D-79B3-4EAB-A2B2-BA789B7C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2160-B011-4061-A478-B4704618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7494-D94B-494C-B7EE-A56DBC42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63C-8DFD-4394-A6E4-ED2EA7A8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591A-17F3-4C27-9661-30F6985B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31EF-8D7D-4A20-AECD-E7341055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18C7-3ACA-4261-ADB0-D3C83084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E110-C6CF-473D-97CC-B9C8D152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96BC-CD66-48FC-922F-70F08938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A77ED-BDF8-4DE3-B629-FE7B4553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B80CC-EB40-4FC5-BFC6-E79ED48D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E1D3D-4E2F-4250-BE4E-DD7F20CD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476D0-5672-4C12-AA90-CD774017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F1F5B-2E6C-4638-86CF-F3229FBB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BF3-6F37-4183-9FBB-E709526B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F846C-BE60-4567-9DAC-344A8781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D1F59-C682-4041-90D2-3E459574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FA0E7-976B-41CC-8A1E-656249FB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3DF60-2F60-409E-9DD5-6C16AC2A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CD9C9-5790-4552-B982-4596AD77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27F14-5D04-4A0A-8FB4-D40BB037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C7F0C-D494-43E6-A79E-A965589C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A0E5B-0EF7-4AFA-872C-554FBC71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4DC32-8F03-4574-A958-88BE0F73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B9A6F-4F24-4EBC-B19C-BC7C68B9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C44-9977-4452-B785-0CD220F6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9127A-C49A-4C73-9EA9-FEA3DEBB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B51B4-D699-4F0F-80B5-737FC679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EC9D7-C75B-4F03-9A3E-7D15974E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D2AA2-2FA2-403C-A019-CB843280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B2C45-BA28-436F-B726-A31D723E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2F789-7CB8-4C45-87EB-A58851E7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A05F1-2D73-42C2-ACCA-A480B6A3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0C225-25E6-4650-A6EA-FF6DA834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17E01-CED6-4D23-8E46-2524EADB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3358E-7CF9-47FC-A9BC-B338D0AB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C3C-314F-42BA-9FA1-37EF2BAD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A35C2-D5BD-4789-BD96-0907BB8B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E6FF44-429F-4EFC-9C8A-4181B7D7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86079-B3D8-4CB0-9C34-1A0C55E6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BD35D-4E7C-4FB4-B5B5-49EADD33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66723-B264-40EF-BF81-31F9E37D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DC32F-3E83-4190-A802-54122A17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D7E35-2E6E-480D-9DFA-C5025F0B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FDA5A-2431-4CAF-B2C3-ECBB0B43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4CF047-961B-4255-B32F-95FE7981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77A39-1103-4FE0-8F6D-EEB5CC82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055-4745-4B1F-93BB-3EE773D3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5DDD0-DE85-447D-AA32-812F12C7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32452-8924-452D-96DD-6E33D523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168DC1-6E63-404B-A41F-89E6DFE0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F57F6-525A-4FC4-9750-1A4E9A4D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04F00-0254-48AB-B4F4-E0535B3D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3F79C1-E088-4D03-81BC-67516C3D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AB66B-187E-4ACE-99DD-9415BDE1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CCD4B-6651-4F3D-B8CF-0E928FFE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00D82-5111-4F1D-9B8F-DBB1D649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A9EF2A-AD02-4F9D-BACD-08DE45E7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900-8E4D-4056-B71F-03F21D85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A7147-DFF8-4A44-8A4F-9353F130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054E3-4964-4847-B760-A9797BF4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5D3FDC-2A85-4D0D-B72E-4099E60C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6BD94-63BB-4B16-8CBD-41695D75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17A481-B0F9-4397-AF67-B2CCE657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B45CE-09AF-480E-BEAA-3E99DA6E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AE187F-D336-41BB-938D-6F33FF73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D678F-698C-436E-9BC3-AC12DDBD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13C540-A4E6-4B2D-9274-F238F51B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C5EAE-413F-4B9C-A95B-9E82004C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A5F6-C767-43F9-A591-6A559BCD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32600-2CDF-465E-90ED-D890C597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6CF655-CF28-4E10-86D7-AC7E2731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157CD3-6F92-42B8-B515-37614BC1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575FBF-F4DC-4B07-9C17-BB991444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30278-B68A-441B-A0C0-3922709F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504-8AC3-4A89-BD02-C206AEC5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4468-E157-48C2-BB92-478C1F3A1D3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7016-ADA4-4558-92E1-EA1E1B846F3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8CC8-04B9-4887-88F1-FCF80C3EA47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1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2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3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4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8275-120D-4052-A667-BAAF0D69F61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A5A8-5356-49F6-BCE4-7791F0110B7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7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8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9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0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1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2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D01B-C34A-40D3-9834-D4C2F1FBB51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7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1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2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2E7B-B9E9-4AD6-A40B-E9A38151E10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17 Rectángulo" descr=""/>
          <p:cNvPicPr/>
          <p:nvPr/>
        </p:nvPicPr>
        <p:blipFill>
          <a:blip r:embed="rId1"/>
          <a:stretch/>
        </p:blipFill>
        <p:spPr>
          <a:xfrm>
            <a:off x="2382840" y="1951200"/>
            <a:ext cx="2854440" cy="11030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7"/>
          <p:cNvSpPr/>
          <p:nvPr/>
        </p:nvSpPr>
        <p:spPr>
          <a:xfrm>
            <a:off x="815760" y="214200"/>
            <a:ext cx="42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usando Can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581640" y="35712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500880" y="4786200"/>
            <a:ext cx="21826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2521440" y="35712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4. 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2357280" y="1857240"/>
            <a:ext cx="4838760" cy="277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3286080" y="1643040"/>
            <a:ext cx="2600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7143840" y="5072040"/>
            <a:ext cx="1311120" cy="1419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7"/>
          <p:cNvSpPr/>
          <p:nvPr/>
        </p:nvSpPr>
        <p:spPr>
          <a:xfrm>
            <a:off x="2644200" y="357120"/>
            <a:ext cx="48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3643200" y="4214880"/>
            <a:ext cx="4410360" cy="17334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7"/>
          <p:cNvSpPr/>
          <p:nvPr/>
        </p:nvSpPr>
        <p:spPr>
          <a:xfrm>
            <a:off x="2772360" y="428760"/>
            <a:ext cx="39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5. 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3143160" y="1285920"/>
            <a:ext cx="48294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2681640" y="35712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7429680" y="3786120"/>
            <a:ext cx="14666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2214720" y="2857680"/>
            <a:ext cx="1742760" cy="1657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7"/>
          <p:cNvSpPr/>
          <p:nvPr/>
        </p:nvSpPr>
        <p:spPr>
          <a:xfrm>
            <a:off x="2698920" y="285840"/>
            <a:ext cx="34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6. 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3905280" y="16430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2964960" y="357120"/>
            <a:ext cx="30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7571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2500200" y="1643040"/>
            <a:ext cx="1447920" cy="1200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2143080" y="2857680"/>
            <a:ext cx="1714680" cy="1590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"/>
          <p:cNvSpPr/>
          <p:nvPr/>
        </p:nvSpPr>
        <p:spPr>
          <a:xfrm>
            <a:off x="2744640" y="428760"/>
            <a:ext cx="39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7. 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3"/>
          <a:stretch/>
        </p:blipFill>
        <p:spPr>
          <a:xfrm>
            <a:off x="3905280" y="14288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2670120" y="42876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7429680" y="5072040"/>
            <a:ext cx="11430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2517840" y="28584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8. 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0" y="1428840"/>
            <a:ext cx="2523960" cy="2638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2071800" y="1428840"/>
            <a:ext cx="1476360" cy="1209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3"/>
          <a:stretch/>
        </p:blipFill>
        <p:spPr>
          <a:xfrm>
            <a:off x="1643040" y="2500200"/>
            <a:ext cx="1714680" cy="1590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4"/>
          <a:stretch/>
        </p:blipFill>
        <p:spPr>
          <a:xfrm>
            <a:off x="3429000" y="114300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789840" y="2858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2443320" y="35712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6808680" y="4786200"/>
            <a:ext cx="179712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2618280" y="28584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9. 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325000" cy="4038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3052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0" y="115920"/>
            <a:ext cx="1695600" cy="14191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2527920" y="285840"/>
            <a:ext cx="41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501040" cy="39528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2176560" y="21420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214720" y="2643120"/>
            <a:ext cx="1257120" cy="1676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2786040" y="4429080"/>
            <a:ext cx="1282680" cy="1536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3"/>
          <a:stretch/>
        </p:blipFill>
        <p:spPr>
          <a:xfrm>
            <a:off x="6286680" y="2357280"/>
            <a:ext cx="1168200" cy="1244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4"/>
          <a:stretch/>
        </p:blipFill>
        <p:spPr>
          <a:xfrm>
            <a:off x="1857240" y="1143000"/>
            <a:ext cx="1447920" cy="1117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5"/>
          <a:stretch/>
        </p:blipFill>
        <p:spPr>
          <a:xfrm>
            <a:off x="4929120" y="5000760"/>
            <a:ext cx="1612800" cy="1358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6"/>
          <a:stretch/>
        </p:blipFill>
        <p:spPr>
          <a:xfrm>
            <a:off x="4786200" y="1285920"/>
            <a:ext cx="1041480" cy="1320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7"/>
          <a:stretch/>
        </p:blipFill>
        <p:spPr>
          <a:xfrm>
            <a:off x="7343640" y="988920"/>
            <a:ext cx="1409760" cy="1270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8"/>
          <a:stretch/>
        </p:blipFill>
        <p:spPr>
          <a:xfrm>
            <a:off x="4214880" y="3214800"/>
            <a:ext cx="1612800" cy="1257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"/>
          <p:cNvPicPr/>
          <p:nvPr/>
        </p:nvPicPr>
        <p:blipFill>
          <a:blip r:embed="rId9"/>
          <a:stretch/>
        </p:blipFill>
        <p:spPr>
          <a:xfrm>
            <a:off x="7500960" y="3929040"/>
            <a:ext cx="965160" cy="100332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1685880" y="28584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: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1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523000" cy="37861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7"/>
          <p:cNvSpPr/>
          <p:nvPr/>
        </p:nvSpPr>
        <p:spPr>
          <a:xfrm>
            <a:off x="2314080" y="285840"/>
            <a:ext cx="35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6 Rectángulo"/>
          <p:cNvSpPr/>
          <p:nvPr/>
        </p:nvSpPr>
        <p:spPr>
          <a:xfrm>
            <a:off x="6300720" y="126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Segmentos de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10 Conector recto de flecha"/>
          <p:cNvCxnSpPr/>
          <p:nvPr/>
        </p:nvCxnSpPr>
        <p:spPr>
          <a:xfrm flipV="1">
            <a:off x="7450560" y="1557000"/>
            <a:ext cx="73800" cy="4132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42" name="11 Rectángulo"/>
          <p:cNvSpPr/>
          <p:nvPr/>
        </p:nvSpPr>
        <p:spPr>
          <a:xfrm>
            <a:off x="214200" y="14288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socia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2 Rectángulo"/>
          <p:cNvSpPr/>
          <p:nvPr/>
        </p:nvSpPr>
        <p:spPr>
          <a:xfrm>
            <a:off x="6286680" y="614376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Ingreso de Flu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3 Rectángulo"/>
          <p:cNvSpPr/>
          <p:nvPr/>
        </p:nvSpPr>
        <p:spPr>
          <a:xfrm>
            <a:off x="2357280" y="9288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c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4 Rectángulo"/>
          <p:cNvSpPr/>
          <p:nvPr/>
        </p:nvSpPr>
        <p:spPr>
          <a:xfrm>
            <a:off x="4643280" y="8366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lación con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15 Rectángulo"/>
          <p:cNvSpPr/>
          <p:nvPr/>
        </p:nvSpPr>
        <p:spPr>
          <a:xfrm>
            <a:off x="2143080" y="6143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Estructura de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19 Conector recto de flecha"/>
          <p:cNvCxnSpPr>
            <a:endCxn id="344" idx="2"/>
          </p:cNvCxnSpPr>
          <p:nvPr/>
        </p:nvCxnSpPr>
        <p:spPr>
          <a:xfrm flipH="1" flipV="1">
            <a:off x="3357360" y="1297800"/>
            <a:ext cx="72000" cy="70236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8" name="22 Conector recto de flecha"/>
          <p:cNvCxnSpPr/>
          <p:nvPr/>
        </p:nvCxnSpPr>
        <p:spPr>
          <a:xfrm flipH="1" flipV="1">
            <a:off x="1428480" y="1785240"/>
            <a:ext cx="357840" cy="7866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9" name="26 Conector recto de flecha"/>
          <p:cNvCxnSpPr>
            <a:endCxn id="345" idx="2"/>
          </p:cNvCxnSpPr>
          <p:nvPr/>
        </p:nvCxnSpPr>
        <p:spPr>
          <a:xfrm flipV="1">
            <a:off x="6000840" y="1206000"/>
            <a:ext cx="72000" cy="5090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0" name="29 Conector recto de flecha"/>
          <p:cNvCxnSpPr>
            <a:endCxn id="343" idx="0"/>
          </p:cNvCxnSpPr>
          <p:nvPr/>
        </p:nvCxnSpPr>
        <p:spPr>
          <a:xfrm>
            <a:off x="6999840" y="5143680"/>
            <a:ext cx="251640" cy="1000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1" name="33 Conector recto de flecha"/>
          <p:cNvCxnSpPr>
            <a:endCxn id="346" idx="0"/>
          </p:cNvCxnSpPr>
          <p:nvPr/>
        </p:nvCxnSpPr>
        <p:spPr>
          <a:xfrm>
            <a:off x="2642040" y="5071680"/>
            <a:ext cx="678600" cy="10724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2" name="42 Rectángulo"/>
          <p:cNvSpPr/>
          <p:nvPr/>
        </p:nvSpPr>
        <p:spPr>
          <a:xfrm>
            <a:off x="5572080" y="5572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44 Conector recto de flecha"/>
          <p:cNvCxnSpPr>
            <a:endCxn id="352" idx="0"/>
          </p:cNvCxnSpPr>
          <p:nvPr/>
        </p:nvCxnSpPr>
        <p:spPr>
          <a:xfrm>
            <a:off x="5929200" y="4000320"/>
            <a:ext cx="215280" cy="15721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4" name="46 Rectángulo"/>
          <p:cNvSpPr/>
          <p:nvPr/>
        </p:nvSpPr>
        <p:spPr>
          <a:xfrm>
            <a:off x="3286080" y="55720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Propuesta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51 Conector recto de flecha"/>
          <p:cNvCxnSpPr>
            <a:endCxn id="354" idx="0"/>
          </p:cNvCxnSpPr>
          <p:nvPr/>
        </p:nvCxnSpPr>
        <p:spPr>
          <a:xfrm flipH="1">
            <a:off x="4463640" y="3286080"/>
            <a:ext cx="37440" cy="22867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6" name="53 Rectángulo"/>
          <p:cNvSpPr/>
          <p:nvPr/>
        </p:nvSpPr>
        <p:spPr>
          <a:xfrm>
            <a:off x="0" y="31431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curso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55 Conector recto de flecha"/>
          <p:cNvCxnSpPr>
            <a:endCxn id="356" idx="2"/>
          </p:cNvCxnSpPr>
          <p:nvPr/>
        </p:nvCxnSpPr>
        <p:spPr>
          <a:xfrm flipH="1">
            <a:off x="999720" y="3359160"/>
            <a:ext cx="2286720" cy="154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3643200" y="1714680"/>
            <a:ext cx="2266920" cy="26859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7"/>
          <p:cNvSpPr/>
          <p:nvPr/>
        </p:nvSpPr>
        <p:spPr>
          <a:xfrm>
            <a:off x="2627640" y="285840"/>
            <a:ext cx="49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1. 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2552760" y="285840"/>
            <a:ext cx="46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7215120" y="4630680"/>
            <a:ext cx="1424160" cy="1816200"/>
          </a:xfrm>
          <a:prstGeom prst="rect">
            <a:avLst/>
          </a:prstGeom>
          <a:ln w="0">
            <a:noFill/>
          </a:ln>
        </p:spPr>
      </p:pic>
      <p:sp>
        <p:nvSpPr>
          <p:cNvPr id="363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3286080" y="2571840"/>
            <a:ext cx="1676520" cy="2619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5357880" y="2500200"/>
            <a:ext cx="2257200" cy="26002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7"/>
          <p:cNvSpPr/>
          <p:nvPr/>
        </p:nvSpPr>
        <p:spPr>
          <a:xfrm>
            <a:off x="2740320" y="571680"/>
            <a:ext cx="42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2. 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2736360" y="42876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6861240" y="3214800"/>
            <a:ext cx="228276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744000" y="42876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3. 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2714760" y="2071800"/>
            <a:ext cx="1638000" cy="2743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5500800" y="2000160"/>
            <a:ext cx="2257200" cy="2600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3"/>
          <a:stretch/>
        </p:blipFill>
        <p:spPr>
          <a:xfrm>
            <a:off x="3643200" y="3286080"/>
            <a:ext cx="3214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5:08:44Z</dcterms:created>
  <dc:creator>...</dc:creator>
  <dc:description/>
  <dc:language>en-US</dc:language>
  <cp:lastModifiedBy>............</cp:lastModifiedBy>
  <dcterms:modified xsi:type="dcterms:W3CDTF">2012-03-19T14:32:03Z</dcterms:modified>
  <cp:revision>171</cp:revision>
  <dc:subject/>
  <dc:title>Diapositiva 1</dc:title>
</cp:coreProperties>
</file>