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9094-8A24-43F8-98CB-8408FD176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32B8-6FF9-46DF-A4D5-53322E21DCD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4234-0D3D-479F-9AB7-5E97BD5C68C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4BE9-8CC7-4F7C-98EA-FC7A3919F36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ABFA-D25A-4E38-B6A5-D23A0DE9ED9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FFBA-DF0C-4C7F-A050-77CC8FC1BCF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7709-2D00-4B09-BBDF-FE248FB93CF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1DAB-84B9-4F1A-BFA4-0A8740EF2B4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2465-76AC-4B3A-8841-0853298A34D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C8FE-8AAD-48D3-84E4-546A3533ACD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1606-6B3B-4E23-9DBE-DDB863B4609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0D15-13DA-49D1-8C7B-B5A270CA1E1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18B1-E80D-4413-BD2F-BBB3660F1F4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9895-0873-4AE8-A732-97B80DD1319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17FA-9FED-489B-B8DC-4244E1A56F5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1E81-9673-4172-ABC3-FE8B4A5CAB3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F485-059B-4E3A-AB4F-AB6D28D4868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B940-C826-4CFA-ACC1-477C8C29A62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167B-995F-485A-BC55-57619BBA366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5F22-980B-40D0-892F-4EA421C7CC8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7051-5725-4EDA-BE07-93C50F68C31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363D-01B3-479F-9601-3D1512D3725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F294-5556-49F7-8343-C235E653B78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EA20-1B8C-4C61-8FAC-2787C9E7EC0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EDD1-B92B-4231-91BD-706E3EDE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DDD1-878F-4DE5-8B4F-0C48D313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1FA-A417-4C29-8598-8F01C136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4867-435D-4DCF-8A51-D9C605BD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2667-0D6F-4C2C-9A9B-FE5D6E1A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EF43-2B73-4940-B036-0CAA1AD6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7307-BD58-4ECC-93CB-A40FFA96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D945-D490-4CFE-92E8-9EB0000F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BD84-7909-40D8-A03A-F1FB3A03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5C5E-CA5A-4C64-8BBC-72040E0B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A632-44B6-4CB5-A4B2-C016FBDB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D18C-DD09-4A47-8211-0774D8DF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3D36-AE3E-4C04-AB94-45F2A5CF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50CB-377F-4AD9-B721-50DAF6C8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E5A4-8BF0-4DEA-9D41-F8ED6F2B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93C4-F924-4684-A687-EAADB78A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2AC3-A86D-420D-9218-4D35775E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5D484-8EAD-4E0D-A0D4-5A166CBF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7377D-D276-4CA1-85E4-92EC7247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465F9-25D6-4E0F-A565-09DB421C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CE459-B819-4088-AA27-348C906F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60F69-4BFB-4B97-B404-4B472576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39B6-7121-401E-80AC-666A79B2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DE4F7-EC9A-4580-8C0F-4B19FB58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DFA69-52CA-4DA2-B55A-472D56F1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3D9FFA-7628-416A-A56E-3837F6F0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A6978-C075-482B-AE5F-46C7B42A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0EC2B-34AF-4ED0-B899-457A1305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265E7-8E36-47D6-A7F3-76F3A3B2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3A6A8-777D-4C4E-89A0-7D47FB74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19B0A-80DA-42CA-983F-9AEC21F6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AB099-90A9-4232-A7F0-567733D2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2F140-576E-41A9-80B1-5E78FE82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803-2B84-4D15-AAFB-29134E71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A172D-9159-4952-BD57-E722E663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4B1DB-B083-49B5-8FFD-1BEDCE9B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56A11-3008-468A-B79F-4BF3C566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AFF7C-03CB-4E1A-860D-1B0AD7DC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B6BF6-3EE9-4AE6-807F-85CE5EF2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37DB0-FB73-4F64-A3D8-E1DDDF84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9BAB8-9007-4CBA-A204-D530FA74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BB820-A8FD-4130-9A12-A3F0A4BE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50835-331E-4AA4-87B1-587A804D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EA20C3-99D4-4113-8B7F-84558855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4830-FBF6-47B1-BDF7-5E60E9A3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7025A0-8BD1-490A-9488-A8267623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EA27A1-C2F8-4881-8969-75850A9E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E330A2-35DC-4572-8D18-ABE87298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B76082-1065-4DAE-9BCB-F6DA2C80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B05FD-3EDF-4D20-88B4-7BB40BC9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8F151-3DB3-4CE3-B71C-8DC17AEF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E9C919-9244-4B2A-BE05-D4AE3E1B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A236FE-34D5-4FAB-AD5E-D5164BDC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E1B742-E0EA-4071-9F70-E1F300F7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97E40B-04C2-4273-93A8-7780FE99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0B5-912C-4E6E-A12F-64EAFF8F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7D8C7-9D50-445B-AD6E-D3D71C64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31A0DA-FA4A-41EA-B2C2-4305D332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A43596-785D-418D-B170-65CD657C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37997-0100-45C6-B203-20B5338F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0E9B63-8B66-4D1A-B7FC-73413D2B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03E90-FC19-48DE-8551-177B18AE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C43A89-C074-4D0E-B5DF-AB9CE9F4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F26B0-DEB2-4026-AEF1-3457D5A4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A4E104-A612-40FF-8BC0-21FE3DEF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EAA5DE-6D44-48FE-B7A8-4D971906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98D7-BF17-4A16-AC72-8CD6CF31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9D27F7-3E56-40E2-8CEB-76487173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C2A82F-A4D4-4F98-A0B2-F11A6F75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2D4E30-8BA5-4D00-B755-B17FF333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A39901-3AEB-4BE1-A7A0-A380E069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3F2D9D-C908-45B0-9F96-1E5948C3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12949F-D110-4945-AF32-A3543F44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43BF17-DA9C-4751-A6EA-A93E5919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7F4C7F-FECD-49A2-B768-42A15E5E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BE0DFF-DBD7-4F57-8654-4FACF525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410544-AF9B-4769-AC3F-E6D47952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A6B-248E-4013-9BFB-1F8310C4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AECFD9-AD13-4C8D-BA53-695C31EF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4E4498-71D4-4691-937F-B843A4B2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07D48B-253A-4550-B58B-99E00E06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9B400B-5576-4890-B15A-27A7CF7B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2AC095-9D04-4DD5-AE41-E7E47C3C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97FC-0FC2-42CB-A6BC-0FBC185C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E784-F1B1-40B9-A5C8-00F53147296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7FE9-5825-4D79-96E2-76D9E1309BF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B401-1723-4D20-A319-25552CCB8B6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1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2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2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3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4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6ecf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9BFE-3782-472D-BD11-3739A6785AF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83A2-9D7A-437E-8108-F9421743666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7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8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9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0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1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2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2D92-AB0D-4477-8F90-B0B32DC28A0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7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1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2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CEA0-0929-4069-ABA9-A6D00E6B3E6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0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17 Rectángulo" descr=""/>
          <p:cNvPicPr/>
          <p:nvPr/>
        </p:nvPicPr>
        <p:blipFill>
          <a:blip r:embed="rId1"/>
          <a:stretch/>
        </p:blipFill>
        <p:spPr>
          <a:xfrm>
            <a:off x="2382840" y="1951200"/>
            <a:ext cx="2854440" cy="110304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7"/>
          <p:cNvSpPr/>
          <p:nvPr/>
        </p:nvSpPr>
        <p:spPr>
          <a:xfrm>
            <a:off x="815760" y="214200"/>
            <a:ext cx="420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usando Can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581640" y="357120"/>
            <a:ext cx="16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Ca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6500880" y="4786200"/>
            <a:ext cx="21826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2521440" y="357120"/>
            <a:ext cx="52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4. Relación con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2357280" y="1857240"/>
            <a:ext cx="4838760" cy="2772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3286080" y="1643040"/>
            <a:ext cx="2600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7143840" y="5072040"/>
            <a:ext cx="1311120" cy="14191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7"/>
          <p:cNvSpPr/>
          <p:nvPr/>
        </p:nvSpPr>
        <p:spPr>
          <a:xfrm>
            <a:off x="2644200" y="357120"/>
            <a:ext cx="481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Relación con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3643200" y="4214880"/>
            <a:ext cx="4410360" cy="17334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7"/>
          <p:cNvSpPr/>
          <p:nvPr/>
        </p:nvSpPr>
        <p:spPr>
          <a:xfrm>
            <a:off x="2772360" y="428760"/>
            <a:ext cx="39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5. Flujo de 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3143160" y="1285920"/>
            <a:ext cx="48294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2681640" y="357120"/>
            <a:ext cx="34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Flujo de 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7429680" y="3786120"/>
            <a:ext cx="146664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2214720" y="2857680"/>
            <a:ext cx="1742760" cy="16570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7"/>
          <p:cNvSpPr/>
          <p:nvPr/>
        </p:nvSpPr>
        <p:spPr>
          <a:xfrm>
            <a:off x="2698920" y="285840"/>
            <a:ext cx="34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6. Recurs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3905280" y="164304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2964960" y="357120"/>
            <a:ext cx="304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Recurs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175716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2500200" y="1643040"/>
            <a:ext cx="1447920" cy="1200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2143080" y="2857680"/>
            <a:ext cx="1714680" cy="15904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"/>
          <p:cNvSpPr/>
          <p:nvPr/>
        </p:nvSpPr>
        <p:spPr>
          <a:xfrm>
            <a:off x="2744640" y="428760"/>
            <a:ext cx="39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7. Actividad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3"/>
          <a:stretch/>
        </p:blipFill>
        <p:spPr>
          <a:xfrm>
            <a:off x="3905280" y="142884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2670120" y="42876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Actividad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7429680" y="5072040"/>
            <a:ext cx="11430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2517840" y="285840"/>
            <a:ext cx="42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8. Asociacion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0" y="1428840"/>
            <a:ext cx="2523960" cy="26384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2"/>
          <a:stretch/>
        </p:blipFill>
        <p:spPr>
          <a:xfrm>
            <a:off x="2071800" y="1428840"/>
            <a:ext cx="1476360" cy="1209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3"/>
          <a:stretch/>
        </p:blipFill>
        <p:spPr>
          <a:xfrm>
            <a:off x="1643040" y="2500200"/>
            <a:ext cx="1714680" cy="1590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4"/>
          <a:stretch/>
        </p:blipFill>
        <p:spPr>
          <a:xfrm>
            <a:off x="3429000" y="114300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789840" y="285840"/>
            <a:ext cx="21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2443320" y="357120"/>
            <a:ext cx="37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Asociacion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6808680" y="4786200"/>
            <a:ext cx="179712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2618280" y="285840"/>
            <a:ext cx="45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9. 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325000" cy="4038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214200" y="3643200"/>
            <a:ext cx="43052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0" y="115920"/>
            <a:ext cx="1695600" cy="14191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2527920" y="285840"/>
            <a:ext cx="41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501040" cy="39528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2176560" y="214200"/>
            <a:ext cx="41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2214720" y="2643120"/>
            <a:ext cx="1257120" cy="1676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2786040" y="4429080"/>
            <a:ext cx="1282680" cy="15368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3"/>
          <a:stretch/>
        </p:blipFill>
        <p:spPr>
          <a:xfrm>
            <a:off x="6286680" y="2357280"/>
            <a:ext cx="1168200" cy="1244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4"/>
          <a:stretch/>
        </p:blipFill>
        <p:spPr>
          <a:xfrm>
            <a:off x="1857240" y="1143000"/>
            <a:ext cx="1447920" cy="1117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5"/>
          <a:stretch/>
        </p:blipFill>
        <p:spPr>
          <a:xfrm>
            <a:off x="4929120" y="5000760"/>
            <a:ext cx="1612800" cy="1358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"/>
          <p:cNvPicPr/>
          <p:nvPr/>
        </p:nvPicPr>
        <p:blipFill>
          <a:blip r:embed="rId6"/>
          <a:stretch/>
        </p:blipFill>
        <p:spPr>
          <a:xfrm>
            <a:off x="4786200" y="1285920"/>
            <a:ext cx="1041480" cy="1320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"/>
          <p:cNvPicPr/>
          <p:nvPr/>
        </p:nvPicPr>
        <p:blipFill>
          <a:blip r:embed="rId7"/>
          <a:stretch/>
        </p:blipFill>
        <p:spPr>
          <a:xfrm>
            <a:off x="7343640" y="988920"/>
            <a:ext cx="1409760" cy="1270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"/>
          <p:cNvPicPr/>
          <p:nvPr/>
        </p:nvPicPr>
        <p:blipFill>
          <a:blip r:embed="rId8"/>
          <a:stretch/>
        </p:blipFill>
        <p:spPr>
          <a:xfrm>
            <a:off x="4214880" y="3214800"/>
            <a:ext cx="1612800" cy="12571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"/>
          <p:cNvPicPr/>
          <p:nvPr/>
        </p:nvPicPr>
        <p:blipFill>
          <a:blip r:embed="rId9"/>
          <a:stretch/>
        </p:blipFill>
        <p:spPr>
          <a:xfrm>
            <a:off x="7500960" y="3929040"/>
            <a:ext cx="965160" cy="100332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"/>
          <p:cNvSpPr/>
          <p:nvPr/>
        </p:nvSpPr>
        <p:spPr>
          <a:xfrm>
            <a:off x="1685880" y="285840"/>
            <a:ext cx="58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: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1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523000" cy="378612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7"/>
          <p:cNvSpPr/>
          <p:nvPr/>
        </p:nvSpPr>
        <p:spPr>
          <a:xfrm>
            <a:off x="2314080" y="285840"/>
            <a:ext cx="35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6 Rectángulo"/>
          <p:cNvSpPr/>
          <p:nvPr/>
        </p:nvSpPr>
        <p:spPr>
          <a:xfrm>
            <a:off x="6300720" y="12682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Segmentos de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10 Conector recto de flecha"/>
          <p:cNvCxnSpPr/>
          <p:nvPr/>
        </p:nvCxnSpPr>
        <p:spPr>
          <a:xfrm flipV="1">
            <a:off x="7450560" y="1557000"/>
            <a:ext cx="73800" cy="41328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42" name="11 Rectángulo"/>
          <p:cNvSpPr/>
          <p:nvPr/>
        </p:nvSpPr>
        <p:spPr>
          <a:xfrm>
            <a:off x="214200" y="14288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Asociacione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12 Rectángulo"/>
          <p:cNvSpPr/>
          <p:nvPr/>
        </p:nvSpPr>
        <p:spPr>
          <a:xfrm>
            <a:off x="6286680" y="614376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Ingreso de Flu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3 Rectángulo"/>
          <p:cNvSpPr/>
          <p:nvPr/>
        </p:nvSpPr>
        <p:spPr>
          <a:xfrm>
            <a:off x="2357280" y="9288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Accione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4 Rectángulo"/>
          <p:cNvSpPr/>
          <p:nvPr/>
        </p:nvSpPr>
        <p:spPr>
          <a:xfrm>
            <a:off x="4643280" y="8366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Relación con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15 Rectángulo"/>
          <p:cNvSpPr/>
          <p:nvPr/>
        </p:nvSpPr>
        <p:spPr>
          <a:xfrm>
            <a:off x="2143080" y="614376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Estructura de C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19 Conector recto de flecha"/>
          <p:cNvCxnSpPr>
            <a:endCxn id="344" idx="2"/>
          </p:cNvCxnSpPr>
          <p:nvPr/>
        </p:nvCxnSpPr>
        <p:spPr>
          <a:xfrm flipH="1" flipV="1">
            <a:off x="3357360" y="1297800"/>
            <a:ext cx="72000" cy="70236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48" name="22 Conector recto de flecha"/>
          <p:cNvCxnSpPr/>
          <p:nvPr/>
        </p:nvCxnSpPr>
        <p:spPr>
          <a:xfrm flipH="1" flipV="1">
            <a:off x="1428480" y="1785240"/>
            <a:ext cx="357840" cy="7866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49" name="26 Conector recto de flecha"/>
          <p:cNvCxnSpPr>
            <a:endCxn id="345" idx="2"/>
          </p:cNvCxnSpPr>
          <p:nvPr/>
        </p:nvCxnSpPr>
        <p:spPr>
          <a:xfrm flipV="1">
            <a:off x="6000840" y="1206000"/>
            <a:ext cx="72000" cy="5090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50" name="29 Conector recto de flecha"/>
          <p:cNvCxnSpPr>
            <a:endCxn id="343" idx="0"/>
          </p:cNvCxnSpPr>
          <p:nvPr/>
        </p:nvCxnSpPr>
        <p:spPr>
          <a:xfrm>
            <a:off x="6999840" y="5143680"/>
            <a:ext cx="251640" cy="1000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51" name="33 Conector recto de flecha"/>
          <p:cNvCxnSpPr>
            <a:endCxn id="346" idx="0"/>
          </p:cNvCxnSpPr>
          <p:nvPr/>
        </p:nvCxnSpPr>
        <p:spPr>
          <a:xfrm>
            <a:off x="2642040" y="5071680"/>
            <a:ext cx="678600" cy="10724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2" name="42 Rectángulo"/>
          <p:cNvSpPr/>
          <p:nvPr/>
        </p:nvSpPr>
        <p:spPr>
          <a:xfrm>
            <a:off x="5572080" y="5572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44 Conector recto de flecha"/>
          <p:cNvCxnSpPr>
            <a:endCxn id="352" idx="0"/>
          </p:cNvCxnSpPr>
          <p:nvPr/>
        </p:nvCxnSpPr>
        <p:spPr>
          <a:xfrm>
            <a:off x="5929200" y="4000320"/>
            <a:ext cx="215280" cy="15721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4" name="46 Rectángulo"/>
          <p:cNvSpPr/>
          <p:nvPr/>
        </p:nvSpPr>
        <p:spPr>
          <a:xfrm>
            <a:off x="3286080" y="55720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Propuesta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51 Conector recto de flecha"/>
          <p:cNvCxnSpPr>
            <a:endCxn id="354" idx="0"/>
          </p:cNvCxnSpPr>
          <p:nvPr/>
        </p:nvCxnSpPr>
        <p:spPr>
          <a:xfrm flipH="1">
            <a:off x="4463640" y="3286080"/>
            <a:ext cx="37440" cy="22867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6" name="53 Rectángulo"/>
          <p:cNvSpPr/>
          <p:nvPr/>
        </p:nvSpPr>
        <p:spPr>
          <a:xfrm>
            <a:off x="0" y="31431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Recurso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55 Conector recto de flecha"/>
          <p:cNvCxnSpPr>
            <a:endCxn id="356" idx="2"/>
          </p:cNvCxnSpPr>
          <p:nvPr/>
        </p:nvCxnSpPr>
        <p:spPr>
          <a:xfrm flipH="1">
            <a:off x="999720" y="3359160"/>
            <a:ext cx="2286720" cy="154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3643200" y="1714680"/>
            <a:ext cx="2266920" cy="26859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7"/>
          <p:cNvSpPr/>
          <p:nvPr/>
        </p:nvSpPr>
        <p:spPr>
          <a:xfrm>
            <a:off x="2627640" y="285840"/>
            <a:ext cx="49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1. Segmentos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2552760" y="285840"/>
            <a:ext cx="46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Segmentos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7215120" y="4630680"/>
            <a:ext cx="1424160" cy="1816200"/>
          </a:xfrm>
          <a:prstGeom prst="rect">
            <a:avLst/>
          </a:prstGeom>
          <a:ln w="0">
            <a:noFill/>
          </a:ln>
        </p:spPr>
      </p:pic>
      <p:sp>
        <p:nvSpPr>
          <p:cNvPr id="363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3286080" y="2571840"/>
            <a:ext cx="1676520" cy="2619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5357880" y="2500200"/>
            <a:ext cx="2257200" cy="26002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7"/>
          <p:cNvSpPr/>
          <p:nvPr/>
        </p:nvSpPr>
        <p:spPr>
          <a:xfrm>
            <a:off x="2740320" y="571680"/>
            <a:ext cx="427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2. 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2736360" y="42876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6861240" y="3214800"/>
            <a:ext cx="228276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744000" y="42876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3. Ca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2714760" y="2071800"/>
            <a:ext cx="1638000" cy="2743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5500800" y="2000160"/>
            <a:ext cx="2257200" cy="2600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3"/>
          <a:stretch/>
        </p:blipFill>
        <p:spPr>
          <a:xfrm>
            <a:off x="3643200" y="3286080"/>
            <a:ext cx="3214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5:08:44Z</dcterms:created>
  <dc:creator>...</dc:creator>
  <dc:description/>
  <dc:language>en-US</dc:language>
  <cp:lastModifiedBy>............</cp:lastModifiedBy>
  <dcterms:modified xsi:type="dcterms:W3CDTF">2012-03-19T14:32:03Z</dcterms:modified>
  <cp:revision>171</cp:revision>
  <dc:subject/>
  <dc:title>Diapositiva 1</dc:title>
</cp:coreProperties>
</file>