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1C7D-9BB3-4C85-839E-8639B250099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5347-6E08-4830-911D-3B27CC1EE95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5DF-1CBE-4F1B-8340-9557CC04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773-53DA-47B2-B416-1F3B3A81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B61-FD2F-4E0F-84E7-E7DF549A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A66-DA13-41D5-B0B2-635A4DBA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F38-1078-4AA0-9BDD-5496CDB0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53E-DFE6-4008-B56B-3405849C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6A3-9AB8-4CE6-8897-829CF893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883E-67CC-4D46-9584-9699C375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54D-42BB-4EBD-A249-AE417B30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2CD-E4A4-4F53-9CE3-84F1BDAB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BD2E-5E9C-47E7-A8BC-CDB947C9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856-05EE-4443-B90E-86728B86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242-678C-4CB7-B208-FE8B7762363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rpino@novos.cl" TargetMode="External"/><Relationship Id="rId3" Type="http://schemas.openxmlformats.org/officeDocument/2006/relationships/hyperlink" Target="http://twitter.com/rpino" TargetMode="External"/><Relationship Id="rId4" Type="http://schemas.openxmlformats.org/officeDocument/2006/relationships/hyperlink" Target="http://www.novos.cl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INGRES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a “caja” que una compañía genera a partir de cada cli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or qué valor nuestros clientes desean paga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ómo están pagando actualmente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Venta de activos/cosas (aut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or uso (telefonia celular pre y post pag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uscripción (diarios, revistas, gimnasio)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rriendo/Leasing (rent a car - Suipi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Licenciamiento (software a la antigu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rmediación (transbank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CURS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RECURS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ísicos  (bodegas, servido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Intelectuales (marcas, patente, derecho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Humanos (laboratorios farmaceuticos 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inancieros (Microcrédito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IVIDADE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Los “activos” más importantes que se requieren para hacer funcionar el Modelo de Negocio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requiere nuestra propuesta de valor, clientes y canales para poder funcionar de forma armónic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ACTIVIDADES TÍP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arrollo y Producción (empresas de manufactur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solver problemas (Consultoría - Hospital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Gestión de Plataformas (ebay – Microsof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LIADOS CLAVE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s la red proveedores y aliados que hacen funcion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clave desarrollan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recursos clave estamos adquiriendo de nuestros proveedor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OTIVACIONES PARA CREAR ALIANZ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Optimización y Economías de Escala (Pay Ro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Reducir el riesgo (desarrollo del Blu-Ray - itu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dquisición de recursos especiales (OS de celular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STRCUTURA DE COST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Son todos los costos “importantes” en los que se incurre para operar el modelo de negoc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actividades y recursos claves son los más car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Cuáles son los costos más importantes de nuestro modelo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MULLINS - KOMIS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Getting to Plan B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UADRO DE MANDO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14200" y="1428840"/>
          <a:ext cx="8715600" cy="40719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  <a:gridCol w="1743120"/>
                <a:gridCol w="1743120"/>
                <a:gridCol w="17431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LEMENTO DEL MODELO DE NEGO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IPOTESIS PARA TESTEAR ACTOS DE 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gr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l  margen br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liquide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lo de Inver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MUL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con exitosos de los cuales adoptar, adaptar para entender los aspectos relevantes del negoci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SPECTOS A EVITA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mpañías, productos, servicios sin éxito de los cuales aprender para cambiar y diferenciar los diversos aspectos del modelo de negocio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ACTOS DE F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Respuestas a  las preguntas que surgen y que no tienen respuesta sobre la base de aspectos a evitar y emular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Convicciones sin evidencias reales, sobre las cuales se plantean hipótes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MX" sz="4000" spc="-1" strike="noStrike">
                <a:solidFill>
                  <a:srgbClr val="ffffff"/>
                </a:solidFill>
                <a:latin typeface="Century Gothic"/>
              </a:rPr>
              <a:t>EL MODELO DE NEGOCIO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Century Gothic"/>
              </a:rPr>
              <a:t>Es un modelo que describe la razón de ser de cómo una organización (empresa, proyecto, ONG, etc.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ffffff"/>
                </a:solidFill>
                <a:uFillTx/>
                <a:latin typeface="Century Gothic"/>
              </a:rPr>
              <a:t>Crea, distribuye y captura valor*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l patrón (esquema, modelo) de la actividad económica que determina la </a:t>
            </a:r>
            <a:r>
              <a:rPr b="1" i="1" lang="es-ES" sz="2400" spc="-1" strike="noStrike" u="sng">
                <a:solidFill>
                  <a:srgbClr val="ffffff"/>
                </a:solidFill>
                <a:uFillTx/>
                <a:latin typeface="Century Gothic"/>
              </a:rPr>
              <a:t>liquidez y atractivo </a:t>
            </a: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de un negocio*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GRES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ién comprará? ¿Cuándo y con qué frecuencia? ¿A que precio? ¿Cuánto dinero recibo efectivament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MARGEN BRUT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parte de los ingresos quedará después de haber pagado los costos directos de lo que se vendió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GASTO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Qué otros costos de venta se tiene además de los costos directos de los bienes y servicios vendido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LIQUIDEZ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l es el plazo de pago que tengo con mis clientes? ¿Es necesario reservar recursos para ventas posteriores? ¿Qué frecuencia y desfase de pago tengo con mis proveedor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DE INVERSIÓN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¿Cuánto dinero se requiere invertir inicialmente hasta que los clientes proporcionen suficientes recursos para cubrir los gastos de explotació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532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EJEMPLO: iPod/iTunes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14200" y="1285920"/>
          <a:ext cx="8715600" cy="5346720"/>
        </p:xfrm>
        <a:graphic>
          <a:graphicData uri="http://schemas.openxmlformats.org/drawingml/2006/table">
            <a:tbl>
              <a:tblPr/>
              <a:tblGrid>
                <a:gridCol w="2905200"/>
                <a:gridCol w="2905200"/>
                <a:gridCol w="29052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MULAR (IMIT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SPECTOS A EVI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CTOS DE FE (SUPUEST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Descarga de Música a través de la web y canciones individuales, a gusto person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usicNet – PressPla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escaragas pagadas por suscripción y solo descargables en UN computador y el no pago de la suscripción eliminaba las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dos los jóvenes de menos de 25 años descargan mú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Walkman de Sony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La gente escucha música en dispositivos portátiles y pers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pañías Discográficas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ólo presentan catálogos web de sus artistas y venden discos complet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xisten dispositivos  bien diseñados para reproducir música dig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Modelo de Negocios Gillette: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La máquina de afeitar es el iPod y las hojas de afeitar la música (o contenido). Pero finalmente el tema fue al revés, se vendieron más iPods que canc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Rio: primer reproductor de MP3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 dificil de usar, tenia poca capacidad y el proceson de sincronización era muy l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 está claro que la gente pague por las canciones descargad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sponer música sin licencias o piratas como </a:t>
                      </a:r>
                      <a:r>
                        <a:rPr b="1" i="1" lang="es-CL" sz="1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Nap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os usuarios están dispuestos a pagar, pero quieren reproducirlos en más dispositiv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2 Marcador de contenido"/>
          <p:cNvSpPr/>
          <p:nvPr/>
        </p:nvSpPr>
        <p:spPr>
          <a:xfrm>
            <a:off x="357120" y="4029120"/>
            <a:ext cx="86439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Roberto 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E-mail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2"/>
              </a:rPr>
              <a:t>rpino@novos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: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3"/>
              </a:rPr>
              <a:t>http://twitter.com/rpi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Twitter corporativo: http://twitter.com/novo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Web: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Century Gothic"/>
                <a:ea typeface="Arial"/>
                <a:hlinkClick r:id="rId4"/>
              </a:rPr>
              <a:t>www.novos.cl</a:t>
            </a: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Century Gothic"/>
                <a:ea typeface="Arial"/>
              </a:rPr>
              <a:t>Fono: 978493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ÓMO DEFINIRLO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No hay mejor manera que definirlo </a:t>
            </a:r>
            <a:r>
              <a:rPr b="1" lang="es-CL" sz="2800" spc="-1" strike="noStrike" u="sng">
                <a:solidFill>
                  <a:srgbClr val="ffffff"/>
                </a:solidFill>
                <a:uFillTx/>
                <a:latin typeface="Century Gothic"/>
              </a:rPr>
              <a:t>“en terreno”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 y probándolo en el merca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Pero hay que partir de algo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odelo de Osterwalder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Century Gothic"/>
              </a:rPr>
              <a:t>Metodología Mullins – Komisar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MODELO OSTERWALDER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2800" spc="-1" strike="noStrike">
                <a:solidFill>
                  <a:srgbClr val="ffffff"/>
                </a:solidFill>
                <a:latin typeface="Century Gothic"/>
              </a:rPr>
              <a:t>The Business Modelo Gener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THE BUSINESS MODEL CANVA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00040" y="1176480"/>
            <a:ext cx="8215200" cy="5538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SEGMENTOS DE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Grupos de personas u organizaciones a quienes se desea alcanzar y servi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Para quienes estamos creando valo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iénes son nuestros clientes más importa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S DE SEGMENTOS DE CLIENTES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Masivo (retai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ercado Nicho (tunning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Segmentado (telecomunicacion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versificado (amazo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Multiplataforma (goog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PROPUESTA DE VALOR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El paquete de productos y servicios que crean valor a un segmento de clientes específic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9040" indent="-32904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valor entregamos a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problemas estamos ayudando a resolver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13160" indent="-27432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9728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DE VALO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Novedad (iphon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esempeño (intel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xclusividad y Hecho a la Medida (aston martin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Diseño (appl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Estatus (rolex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recio / Costo (ryanair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ccesibilidad (ERP Pymes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36120" indent="-21924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nveniencia (ok marke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CANAL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Century Gothic"/>
              </a:rPr>
              <a:t>Mecanismos mediante los cuales una empresa se comunica y llega a sus segmentos de clientes para entregar su propuesta de val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A través de qué canales llegarem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canales prefieren nuestros cliente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PATRONES OBSERVAD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Propi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end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Web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Fuerza de Vent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anales Externo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s-CL" sz="4000" spc="-1" strike="noStrike">
                <a:solidFill>
                  <a:srgbClr val="ffffff"/>
                </a:solidFill>
                <a:latin typeface="Century Gothic"/>
              </a:rPr>
              <a:t>RELACIÓN CON CLIENTES”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entury Gothic"/>
              </a:rPr>
              <a:t>Tipologías de interacción, contacto y comunicación con cada uno de los segmentos de client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esperan nuestros clientes mantengamos con ellos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entury Gothic"/>
              </a:rPr>
              <a:t>¿Qué tipo de relación tenemos y cuanto cuesta?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008e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TIPOLOGÍ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sistencia Personal (banca Corporativ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Autoservicio (Yogurt Lif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munidad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Century Gothic"/>
              </a:rPr>
              <a:t>Co-Creación (Youtube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008eb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3:55:26Z</dcterms:created>
  <dc:creator>Roberto Pino</dc:creator>
  <dc:description/>
  <dc:language>en-US</dc:language>
  <cp:lastModifiedBy>............</cp:lastModifiedBy>
  <dcterms:modified xsi:type="dcterms:W3CDTF">2012-03-19T14:31:17Z</dcterms:modified>
  <cp:revision>479</cp:revision>
  <dc:subject/>
  <dc:title>PROYECTO FORTALECIMIENTO CAPACIDADES DE INCUBACIÓN DII</dc:title>
</cp:coreProperties>
</file>