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0DB7-2AA1-4B3C-807D-6D518A09FE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080-CF34-420B-BBC1-23B09BC960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8A7-ABC4-4103-AD9A-4E7A403A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C0E-ABCB-4478-8D41-305C3D14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E52-2ED5-4231-A8F7-A5F9B217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C95-E730-48A3-B324-15C52C7B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E05-3E25-4056-ADAB-991F658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8E8-3A73-46CF-BE6E-FDD687E4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BE1-210A-4F4C-9129-2D4C476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DFE-A93D-48C3-845D-BF924E7A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6BB-F4D9-464E-949A-92942CA0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558-6348-41AA-A881-65AB135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5E7-1059-497C-91A3-4138137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15A-F985-4A71-8942-DAE9D19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BF54-4DEB-481F-8035-26A13AEDFA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............</cp:lastModifiedBy>
  <dcterms:modified xsi:type="dcterms:W3CDTF">2012-03-19T14:31:17Z</dcterms:modified>
  <cp:revision>479</cp:revision>
  <dc:subject/>
  <dc:title>PROYECTO FORTALECIMIENTO CAPACIDADES DE INCUBACIÓN DII</dc:title>
</cp:coreProperties>
</file>