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E56B-C004-4BDE-9AE5-E93A9C1152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637-052C-47B6-8399-4E7A93D98B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D50-B172-4652-A531-E7A60D4C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0FA-3FF4-4A3A-9BCE-36D1725F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EAD-C5B9-4576-B9F2-3FAD5240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DFC-7BBD-4FEB-BDE4-14A883B6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24B-4F35-4916-8971-5AF581A2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14A-8D22-484B-B898-2E4254B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2A3-B84B-41B9-8BF2-D729B26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82C-0CD7-4D6B-A03B-0F98BCC8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B9B-3C4F-4E15-880F-445994C4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247-7129-464A-9A11-53C9CD1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23C-9995-4003-A4F7-41BFDD0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810-9033-4C06-B3A4-FDFE3803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FC4-7E80-4965-8110-5CF8569F2B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............</cp:lastModifiedBy>
  <dcterms:modified xsi:type="dcterms:W3CDTF">2012-03-19T14:31:17Z</dcterms:modified>
  <cp:revision>479</cp:revision>
  <dc:subject/>
  <dc:title>PROYECTO FORTALECIMIENTO CAPACIDADES DE INCUBACIÓN DII</dc:title>
</cp:coreProperties>
</file>