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49C79-ED4B-4CAC-9F4D-48324B9A4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383E3-2093-4B3F-AF0D-89B644CF16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E22AF-9FFA-4346-AA10-4708F4109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1DB6E-A908-4810-8C9F-CF8B21F7C0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7928C-B2A1-4C34-A955-ECFDB33CA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0708F-1602-4568-8797-3EE456A7F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C5460-773A-44E4-AD5D-D470C13A50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9D9F7-E6DC-46A9-B579-C4B7458F59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3006-9020-48E2-973A-B3AC1825F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5E029-AA61-47B4-B565-C8E043E825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0651E-11EB-42B1-A68E-9D6F456D5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F7ADC-2A30-41E4-8969-EEAF81E70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16E94-05C3-4D33-A066-0987E109DE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D0A06-3D20-40CF-9D72-64B6D3BC3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84D20-EBA4-4540-9F5B-7F36E96459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79E9B-F493-4C1D-B2A1-E8EF8A48F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21D30-E0FB-4B8C-9408-641C0E5C0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CA406-CD42-438F-90A1-F3BEE45397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24865-08F2-4AF4-965F-D4BDDC9CD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84156-39C5-440F-9BA5-05D0C09C5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28D4C-4F39-49EB-A219-ED3979B95F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D27F8-6B63-48B3-827E-08253FFE43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3E585-862D-4BC8-8168-A2F0D3594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FA638-885F-4160-A74C-AE2B25C342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82320" y="637848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. Pizarro – F. Ramí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6308640"/>
            <a:ext cx="20732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-468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160920" y="638964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6571440" y="6357960"/>
            <a:ext cx="25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Pizarro - F. Ramí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30" descr="LOGO DII bco"/>
          <p:cNvPicPr/>
          <p:nvPr/>
        </p:nvPicPr>
        <p:blipFill>
          <a:blip r:embed="rId2"/>
          <a:stretch/>
        </p:blipFill>
        <p:spPr>
          <a:xfrm>
            <a:off x="2664000" y="476280"/>
            <a:ext cx="3803400" cy="13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2. Teoría de Carteras Revisitada y Administración de Renta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53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za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ficando Retorno y Riesgo para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523880" y="1371600"/>
            <a:ext cx="6097680" cy="4076640"/>
            <a:chOff x="1523880" y="1371600"/>
            <a:chExt cx="6097680" cy="407664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1523880" y="1371600"/>
            <a:ext cx="6097680" cy="40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523880" y="1371600"/>
                      <a:ext cx="609768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Group 6"/>
            <p:cNvGrpSpPr/>
            <p:nvPr/>
          </p:nvGrpSpPr>
          <p:grpSpPr>
            <a:xfrm>
              <a:off x="2743200" y="2209320"/>
              <a:ext cx="2286000" cy="1219680"/>
              <a:chOff x="2743200" y="2209320"/>
              <a:chExt cx="2286000" cy="1219680"/>
            </a:xfrm>
          </p:grpSpPr>
          <p:sp>
            <p:nvSpPr>
              <p:cNvPr id="123" name="Freeform 7"/>
              <p:cNvSpPr/>
              <p:nvPr/>
            </p:nvSpPr>
            <p:spPr>
              <a:xfrm>
                <a:off x="4191120" y="2209680"/>
                <a:ext cx="761760" cy="1219320"/>
              </a:xfrm>
              <a:prstGeom prst="pie">
                <a:avLst/>
              </a:prstGeom>
              <a:solidFill>
                <a:srgbClr val="ccecff">
                  <a:alpha val="50000"/>
                </a:srgbClr>
              </a:solidFill>
              <a:ln w="1260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 flipV="1">
                <a:off x="4648320" y="2209320"/>
                <a:ext cx="304560" cy="12193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 flipH="1">
                <a:off x="2743200" y="2209680"/>
                <a:ext cx="2286000" cy="5335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2743200" y="2743200"/>
                <a:ext cx="1905120" cy="68580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arteras posibles con 2 ac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156280"/>
            <a:ext cx="37195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strumentos con correlación positiva moder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85800" y="44388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685800" y="1447920"/>
            <a:ext cx="0" cy="29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6"/>
          <p:cNvSpPr/>
          <p:nvPr/>
        </p:nvSpPr>
        <p:spPr>
          <a:xfrm rot="16459800">
            <a:off x="1504800" y="1942560"/>
            <a:ext cx="1809720" cy="1619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04800" y="3543480"/>
            <a:ext cx="88920" cy="8856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19480" y="188604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343320" y="172404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09760" y="366696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990960" y="440064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33360" y="131436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924440" y="44766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24440" y="1485720"/>
            <a:ext cx="0" cy="29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5743440" y="358128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458120" y="192420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7581960" y="176220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648400" y="370512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8229600" y="443880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135252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5791320" y="1961640"/>
            <a:ext cx="1714320" cy="163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4915080" y="1962000"/>
            <a:ext cx="259056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4915080" y="2419200"/>
            <a:ext cx="876240" cy="1200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915240" y="284940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6610320" y="2990880"/>
            <a:ext cx="2858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5924520" y="1809720"/>
            <a:ext cx="1713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753160" y="117324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952880" y="5156280"/>
            <a:ext cx="375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relación perfecta (positiva y neg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 riesg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adecuada selección del peso en cada uno de los activos permite una disminución del riesgo de la car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menor riesgo implica siempre una mayor rentabilid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posible encontrar una cartera con riesgo cer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pasa para más de dos activ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Varianza de un portafolio de N instrumen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511360"/>
            <a:ext cx="845820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pongamos que el peso de cada instrumento es igual a 1/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varianza del portafolio, existen N varianzas ponderadas por 1/N y N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N covarianzas. Podemos decir entonces que la varianza del portafolio 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386000"/>
                <a:ext cx="3124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Rectangle 5"/>
          <p:cNvSpPr/>
          <p:nvPr/>
        </p:nvSpPr>
        <p:spPr>
          <a:xfrm>
            <a:off x="324000" y="11556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rianza del Portafo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073160" y="4022640"/>
                <a:ext cx="782316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324000" y="55944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N es muy grande, la varianza del portafolio tiende a la covarianza promedio de los instr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varianza del portafolio descend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á hasta un nivel donde no será posible reducir más su varianz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745240"/>
            <a:ext cx="8458200" cy="35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409760" y="527688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9760" y="1638000"/>
            <a:ext cx="0" cy="363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409760" y="3695760"/>
            <a:ext cx="598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7"/>
          <p:cNvSpPr/>
          <p:nvPr/>
        </p:nvSpPr>
        <p:spPr>
          <a:xfrm flipV="1" rot="3121200">
            <a:off x="3197160" y="-1146240"/>
            <a:ext cx="1228680" cy="4724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8"/>
          <p:cNvSpPr/>
          <p:nvPr/>
        </p:nvSpPr>
        <p:spPr>
          <a:xfrm rot="9434400">
            <a:off x="2307600" y="1041120"/>
            <a:ext cx="44924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9"/>
          <p:cNvSpPr/>
          <p:nvPr/>
        </p:nvSpPr>
        <p:spPr>
          <a:xfrm rot="11058600">
            <a:off x="3326760" y="1712880"/>
            <a:ext cx="4133880" cy="1758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09760" y="2171880"/>
            <a:ext cx="6134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66920" y="2171520"/>
            <a:ext cx="0" cy="31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6153120" y="3695400"/>
            <a:ext cx="0" cy="15620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286160" y="2171880"/>
            <a:ext cx="0" cy="11808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562040" y="1467000"/>
            <a:ext cx="20764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atilidad (desviaci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stándar del retor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29400" y="531504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úmero de instrumentos en 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62480" y="236232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eliminado por divers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029200" y="310500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324160" y="398160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 un instrumento tipo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172200" y="41720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pende de la correlació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685800" y="1447920"/>
          <a:ext cx="80010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ibución al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268360" y="1844640"/>
                <a:ext cx="5440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855720" y="4005360"/>
                <a:ext cx="76899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rontera de mínima varianza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2143080" y="1971720"/>
                <a:ext cx="51436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1474200" y="1339920"/>
            <a:ext cx="604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mos resolver el siguient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necesarias y suficientes para carteras en la frontera de mínima varianz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6400" y="1676520"/>
                <a:ext cx="8071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48040" y="3046320"/>
                <a:ext cx="29559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3344760" y="4724280"/>
                <a:ext cx="24465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cialment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lución par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speja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ón es de la form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ctores que dependen de la matriz varianza covarianza y el vector de retornos esp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33920" y="1268280"/>
                <a:ext cx="445608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4067280" y="4076640"/>
                <a:ext cx="2485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643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es g y h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fini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230640" y="1197000"/>
                <a:ext cx="2681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</m:nary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3132000" y="4140360"/>
                <a:ext cx="4322880" cy="20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lación entre el retorno esperado y la varianza de las carteras de la fronte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varianza de la cartera 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quivale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928800" y="2143080"/>
                <a:ext cx="7278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2050920" y="4149720"/>
                <a:ext cx="554220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 dos soluciones conocidas del problema para r distintos, ento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(1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también una solución pa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3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1 + (1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stración: en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cir, para construir toda la frontera de mínima varianza bastan dos carteras diferentes que pertenezcan a la front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458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714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3884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14680" y="3786120"/>
            <a:ext cx="5209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458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teras de mínima varianza define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parábola en el espacio r-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476360" y="981000"/>
          <a:ext cx="7128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1000"/>
                    <a:ext cx="7128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Line 7"/>
          <p:cNvSpPr/>
          <p:nvPr/>
        </p:nvSpPr>
        <p:spPr>
          <a:xfrm>
            <a:off x="3203640" y="364500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1042920" y="3645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2749680" y="5373720"/>
                <a:ext cx="8856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79280" y="3141720"/>
                <a:ext cx="833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o de frontera eficiente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2120" y="1484280"/>
          <a:ext cx="65214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84280"/>
                    <a:ext cx="65214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4"/>
          <p:cNvSpPr/>
          <p:nvPr/>
        </p:nvSpPr>
        <p:spPr>
          <a:xfrm>
            <a:off x="3809880" y="3429000"/>
            <a:ext cx="152640" cy="11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038480" y="4343400"/>
            <a:ext cx="15264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800600" y="3048120"/>
            <a:ext cx="152280" cy="152280"/>
          </a:xfrm>
          <a:prstGeom prst="rect">
            <a:avLst/>
          </a:prstGeom>
          <a:solidFill>
            <a:srgbClr val="66ff33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52680" y="3429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4920" y="1569960"/>
            <a:ext cx="64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efieren al mismo nivel de volatilidad car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yor retorno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14600" y="3809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181120" y="312408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4265280" y="4267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960720" y="33526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1:  Covarianza entre un portfolio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frontera de mínima varianza, y el portfolio de mínima varianza mv</a:t>
            </a:r>
            <a:r>
              <a:rPr b="1" lang="es-MX" sz="2000" spc="-1" strike="noStrike">
                <a:solidFill>
                  <a:srgbClr val="000000"/>
                </a:solidFill>
                <a:latin typeface="TECHMath"/>
                <a:ea typeface="TECHMath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igual a la varianza de éste últi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2: Para todo porfolio p en la frontera de mínima varianza, excepto para el portfolio mv, existe un portfolio q único en la frontera tal que la covarianza entre p y q sea cero. (llamaremos a q zc(p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se da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32000" y="2306520"/>
                <a:ext cx="288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425680" y="4581360"/>
                <a:ext cx="4292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3278160" y="5410080"/>
                <a:ext cx="2586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23520"/>
            <a:ext cx="84582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riesgo de una cartera se estima a partir de la desviación estándar que es la raíz cuadrada de la varianza: Var(Rp)=E(Rp-E(Rp))^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742968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6610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 portfolio p es eficiente, entonces zc(p) no lo 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emás, se puede mostrar que p y zc(p) son tales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3335400" y="2924280"/>
            <a:ext cx="1741320" cy="2089080"/>
          </a:xfrm>
          <a:prstGeom prst="pie">
            <a:avLst/>
          </a:pr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"/>
          <p:cNvSpPr/>
          <p:nvPr/>
        </p:nvSpPr>
        <p:spPr>
          <a:xfrm flipH="1">
            <a:off x="1763280" y="3213000"/>
            <a:ext cx="2303640" cy="1584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763640" y="2997360"/>
            <a:ext cx="0" cy="24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763640" y="4797360"/>
            <a:ext cx="2808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227400" y="26370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763640" y="544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115280" y="27082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11640" y="558468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3"/>
          <p:cNvCxnSpPr>
            <a:stCxn id="246" idx="0"/>
            <a:endCxn id="246" idx="0"/>
          </p:cNvCxnSpPr>
          <p:nvPr/>
        </p:nvCxnSpPr>
        <p:spPr>
          <a:xfrm>
            <a:off x="4068360" y="3212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Line 14"/>
          <p:cNvSpPr/>
          <p:nvPr/>
        </p:nvSpPr>
        <p:spPr>
          <a:xfrm>
            <a:off x="3492360" y="3068640"/>
            <a:ext cx="142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858920" y="414972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4571640" y="450864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58920" y="3429000"/>
            <a:ext cx="39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1619280" y="364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971640" y="4484520"/>
            <a:ext cx="758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2"/>
          <p:cNvSpPr/>
          <p:nvPr/>
        </p:nvSpPr>
        <p:spPr>
          <a:xfrm>
            <a:off x="1692360" y="4797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lmente podemos mostrar CAPM sin activo libre de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 p es un portfolio de la frontera otro que el mv, y q es cualquier portfolio (en particular un activo individual), 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uego podemos escribi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end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583000" y="2565360"/>
                <a:ext cx="4383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2603520" y="4076640"/>
                <a:ext cx="393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708360" y="5013360"/>
                <a:ext cx="2444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retorno de la cartera q se puede descomponer en riesgo sistemático y riesgo específic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retorno aleatorio se puede descomponer entonces co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44760" y="2349360"/>
                <a:ext cx="4591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319560" y="3933720"/>
                <a:ext cx="25048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62160" y="1562040"/>
            <a:ext cx="68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153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7215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jando el horizonte de análisis, nos concentramos en N activos riesgos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aleatoria es el retorno entre t y t+1 de los diferente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el vector de retornos esperados 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la matriz varianza covarianz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vector de retornos aleatorios se defin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676520" y="4114800"/>
                <a:ext cx="5711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809880" y="2209680"/>
                <a:ext cx="23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mos una cartera o portafolio como una selección de activ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cartera es un ve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porcentajes invertidos en cada uno de l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artera tiene un retorno espera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una varianza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76520" y="2133720"/>
                <a:ext cx="51814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267080" y="4191120"/>
                <a:ext cx="3276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47920" y="5181480"/>
                <a:ext cx="5006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íamos visto que para una cartera, la volatilidad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latilidad del activo 1 es 10% y del activo 2 es 12%, y su correlación es -0.5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57120" y="2514600"/>
                <a:ext cx="857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olatilidad de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3720" y="4648320"/>
            <a:ext cx="4473360" cy="11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acción w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ol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2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2:23:33Z</dcterms:created>
  <dc:creator>Miguel Cruz</dc:creator>
  <dc:description/>
  <dc:language>en-US</dc:language>
  <cp:lastModifiedBy>Felipe</cp:lastModifiedBy>
  <cp:lastPrinted>2002-04-25T02:11:35Z</cp:lastPrinted>
  <dcterms:modified xsi:type="dcterms:W3CDTF">2012-04-02T02:45:34Z</dcterms:modified>
  <cp:revision>124</cp:revision>
  <dc:subject/>
  <dc:title>Tipo de Cambio</dc:title>
</cp:coreProperties>
</file>