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7.wmf" ContentType="image/x-wmf"/>
  <Override PartName="/ppt/media/image15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C401E-EDC7-4828-A4D5-DB27FF3DB3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31915-95E9-424F-96AB-4D32A56A55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A9707-A952-4C77-8342-89CDB1617B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BDD8B-350F-435E-AEF3-8593C5E2E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5ED67-8B22-428E-AB5D-82BD19E14B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BA218-09C5-48D4-9D66-952BD2E90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4ED80-4A1E-4AE9-A8AB-1B93046749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30CD4-46C4-4659-ABA0-9E32D449D9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E6735-37E1-45CA-BB85-CC4C577600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189D8-5B98-4332-B618-D7DB6FBF62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CBE42-7257-45AE-A0C2-E8F472DC69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CA43B-AE56-4A87-BCA2-36685321AB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1CB7F-0BB0-4AE6-8B4B-D648B9E977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2E40E-8146-474C-AA27-BD82EDB0CB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C20BC-F463-40D8-8434-F12A6F4812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A6430-2B7C-4B4C-B44E-22F7EEED7C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09FBE-A8AF-4C18-87B8-AF9CA9751D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4749F-97DF-4D24-966D-7DEB3E3E0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3E4D3-E231-4226-A920-304C8DECE0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ABBB0-C53F-45ED-97EE-068C99C163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C8980-0836-44F6-8A2A-4CBF7AC0BF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2AEFE-DB5E-48D0-B04F-9E8EE8583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15E2D-2FFB-4BD5-85FB-49F7D9B63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8EC96-AB4C-41C8-AAA6-5C6AC8F173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076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076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33520" y="6324480"/>
            <a:ext cx="8610480" cy="5335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7582320" y="6378480"/>
            <a:ext cx="152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. Pizarro – F. Ramír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"/>
          <p:cNvPicPr/>
          <p:nvPr/>
        </p:nvPicPr>
        <p:blipFill>
          <a:blip r:embed="rId2"/>
          <a:stretch/>
        </p:blipFill>
        <p:spPr>
          <a:xfrm>
            <a:off x="0" y="6308640"/>
            <a:ext cx="207324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26"/>
          <p:cNvSpPr/>
          <p:nvPr/>
        </p:nvSpPr>
        <p:spPr>
          <a:xfrm>
            <a:off x="-4680" y="6184800"/>
            <a:ext cx="9129600" cy="673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028"/>
          <p:cNvSpPr/>
          <p:nvPr/>
        </p:nvSpPr>
        <p:spPr>
          <a:xfrm>
            <a:off x="160920" y="638964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29"/>
          <p:cNvSpPr/>
          <p:nvPr/>
        </p:nvSpPr>
        <p:spPr>
          <a:xfrm>
            <a:off x="6571440" y="6357960"/>
            <a:ext cx="257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J. Pizarro - F. Ramí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30" descr="LOGO DII bco"/>
          <p:cNvPicPr/>
          <p:nvPr/>
        </p:nvPicPr>
        <p:blipFill>
          <a:blip r:embed="rId2"/>
          <a:stretch/>
        </p:blipFill>
        <p:spPr>
          <a:xfrm>
            <a:off x="2664000" y="476280"/>
            <a:ext cx="3803400" cy="1393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2. Teoría de Carteras Revisitada y Administración de Renta Vari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5303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inanza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raficando Retorno y Riesgo para una carte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523880" y="1371600"/>
            <a:ext cx="6097680" cy="4076640"/>
            <a:chOff x="1523880" y="1371600"/>
            <a:chExt cx="6097680" cy="4076640"/>
          </a:xfrm>
        </p:grpSpPr>
        <p:graphicFrame>
          <p:nvGraphicFramePr>
            <p:cNvPr id="120" name="Object 5"/>
            <p:cNvGraphicFramePr/>
            <p:nvPr/>
          </p:nvGraphicFramePr>
          <p:xfrm>
            <a:off x="1523880" y="1371600"/>
            <a:ext cx="6097680" cy="4076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Object 5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1523880" y="1371600"/>
                      <a:ext cx="6097680" cy="40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2" name="Group 6"/>
            <p:cNvGrpSpPr/>
            <p:nvPr/>
          </p:nvGrpSpPr>
          <p:grpSpPr>
            <a:xfrm>
              <a:off x="2743200" y="2209320"/>
              <a:ext cx="2286000" cy="1219680"/>
              <a:chOff x="2743200" y="2209320"/>
              <a:chExt cx="2286000" cy="1219680"/>
            </a:xfrm>
          </p:grpSpPr>
          <p:sp>
            <p:nvSpPr>
              <p:cNvPr id="123" name="Freeform 7"/>
              <p:cNvSpPr/>
              <p:nvPr/>
            </p:nvSpPr>
            <p:spPr>
              <a:xfrm>
                <a:off x="4191120" y="2209680"/>
                <a:ext cx="761760" cy="1219320"/>
              </a:xfrm>
              <a:prstGeom prst="pie">
                <a:avLst/>
              </a:prstGeom>
              <a:solidFill>
                <a:srgbClr val="ccecff">
                  <a:alpha val="50000"/>
                </a:srgbClr>
              </a:solidFill>
              <a:ln w="1260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8"/>
              <p:cNvSpPr/>
              <p:nvPr/>
            </p:nvSpPr>
            <p:spPr>
              <a:xfrm flipV="1">
                <a:off x="4648320" y="2209320"/>
                <a:ext cx="304560" cy="1219320"/>
              </a:xfrm>
              <a:prstGeom prst="line">
                <a:avLst/>
              </a:prstGeom>
              <a:ln w="126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9"/>
              <p:cNvSpPr/>
              <p:nvPr/>
            </p:nvSpPr>
            <p:spPr>
              <a:xfrm flipH="1">
                <a:off x="2743200" y="2209680"/>
                <a:ext cx="2286000" cy="533520"/>
              </a:xfrm>
              <a:prstGeom prst="line">
                <a:avLst/>
              </a:prstGeom>
              <a:ln w="126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0"/>
              <p:cNvSpPr/>
              <p:nvPr/>
            </p:nvSpPr>
            <p:spPr>
              <a:xfrm>
                <a:off x="2743200" y="2743200"/>
                <a:ext cx="1905120" cy="685800"/>
              </a:xfrm>
              <a:prstGeom prst="line">
                <a:avLst/>
              </a:prstGeom>
              <a:ln w="126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arteras posibles con 2 ac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5156280"/>
            <a:ext cx="371952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strumentos con correlación positiva moder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685800" y="4438800"/>
            <a:ext cx="361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 flipV="1">
            <a:off x="685800" y="1447920"/>
            <a:ext cx="0" cy="299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rc 6"/>
          <p:cNvSpPr/>
          <p:nvPr/>
        </p:nvSpPr>
        <p:spPr>
          <a:xfrm rot="16459800">
            <a:off x="1504800" y="1942560"/>
            <a:ext cx="1809720" cy="1619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1504800" y="3543480"/>
            <a:ext cx="88920" cy="8856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219480" y="1886040"/>
            <a:ext cx="88920" cy="889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343320" y="172404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409760" y="366696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3990960" y="4400640"/>
            <a:ext cx="504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333360" y="1314360"/>
            <a:ext cx="5904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4924440" y="4476600"/>
            <a:ext cx="361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4924440" y="1485720"/>
            <a:ext cx="0" cy="29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5"/>
          <p:cNvSpPr/>
          <p:nvPr/>
        </p:nvSpPr>
        <p:spPr>
          <a:xfrm>
            <a:off x="5743440" y="3581280"/>
            <a:ext cx="88920" cy="889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6"/>
          <p:cNvSpPr/>
          <p:nvPr/>
        </p:nvSpPr>
        <p:spPr>
          <a:xfrm>
            <a:off x="7458120" y="1924200"/>
            <a:ext cx="88920" cy="889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7581960" y="176220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5648400" y="370512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8229600" y="4438800"/>
            <a:ext cx="504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4572000" y="1352520"/>
            <a:ext cx="5904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1"/>
          <p:cNvSpPr/>
          <p:nvPr/>
        </p:nvSpPr>
        <p:spPr>
          <a:xfrm flipV="1">
            <a:off x="5791320" y="1961640"/>
            <a:ext cx="1714320" cy="163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22"/>
          <p:cNvSpPr/>
          <p:nvPr/>
        </p:nvSpPr>
        <p:spPr>
          <a:xfrm flipH="1">
            <a:off x="4915080" y="1962000"/>
            <a:ext cx="2590560" cy="4572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3"/>
          <p:cNvSpPr/>
          <p:nvPr/>
        </p:nvSpPr>
        <p:spPr>
          <a:xfrm flipH="1" flipV="1">
            <a:off x="4915080" y="2419200"/>
            <a:ext cx="876240" cy="12002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6915240" y="2849400"/>
            <a:ext cx="1790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CL" sz="3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5"/>
          <p:cNvSpPr/>
          <p:nvPr/>
        </p:nvSpPr>
        <p:spPr>
          <a:xfrm flipH="1" flipV="1">
            <a:off x="6610320" y="2990880"/>
            <a:ext cx="28584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6"/>
          <p:cNvSpPr/>
          <p:nvPr/>
        </p:nvSpPr>
        <p:spPr>
          <a:xfrm flipH="1">
            <a:off x="5924520" y="1809720"/>
            <a:ext cx="17136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5753160" y="1173240"/>
            <a:ext cx="1790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CL" sz="3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4952880" y="5156280"/>
            <a:ext cx="3753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rrelación perfecta (positiva y neg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ficación de riesg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adecuada selección del peso en cada uno de los activos permite una disminución del riesgo de la carter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menor riesgo implica siempre una mayor rentabilida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posible encontrar una cartera con riesgo cero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é pasa para más de dos activo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Varianza de un portafolio de N instrumen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2511360"/>
            <a:ext cx="845820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upongamos que el peso de cada instrumento es igual a 1/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n la varianza del portafolio, existen N varianzas ponderadas por 1/N y N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N covarianzas. Podemos decir entonces que la varianza del portafolio 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4572000" y="1386000"/>
                <a:ext cx="31240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Rectangle 5"/>
          <p:cNvSpPr/>
          <p:nvPr/>
        </p:nvSpPr>
        <p:spPr>
          <a:xfrm>
            <a:off x="324000" y="1155600"/>
            <a:ext cx="85341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arianza del Portafol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1073160" y="4022640"/>
                <a:ext cx="7823160" cy="14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ianza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rPr>
                            <m:lit/>
                            <m:nor/>
                          </m:rPr>
                          <m:t xml:space="preserve">ar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ianz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rPr>
                            <m:lit/>
                            <m:nor/>
                          </m:rPr>
                          <m:t xml:space="preserve">ar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1" name="Rectangle 7"/>
          <p:cNvSpPr/>
          <p:nvPr/>
        </p:nvSpPr>
        <p:spPr>
          <a:xfrm>
            <a:off x="324000" y="5594400"/>
            <a:ext cx="85341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N es muy grande, la varianza del portafolio tiende a la covarianza promedio de los instru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10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varianza del portafolio descender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á hasta un nivel donde no será posible reducir más su varianz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5745240"/>
            <a:ext cx="8458200" cy="35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1409760" y="5276880"/>
            <a:ext cx="621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 flipV="1">
            <a:off x="1409760" y="1638000"/>
            <a:ext cx="0" cy="363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1409760" y="3695760"/>
            <a:ext cx="598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rc 7"/>
          <p:cNvSpPr/>
          <p:nvPr/>
        </p:nvSpPr>
        <p:spPr>
          <a:xfrm flipV="1" rot="3121200">
            <a:off x="3197160" y="-1146240"/>
            <a:ext cx="1228680" cy="4724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rc 8"/>
          <p:cNvSpPr/>
          <p:nvPr/>
        </p:nvSpPr>
        <p:spPr>
          <a:xfrm rot="9434400">
            <a:off x="2307600" y="1041120"/>
            <a:ext cx="4492440" cy="1638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rc 9"/>
          <p:cNvSpPr/>
          <p:nvPr/>
        </p:nvSpPr>
        <p:spPr>
          <a:xfrm rot="11058600">
            <a:off x="3326760" y="1712880"/>
            <a:ext cx="4133880" cy="17589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1409760" y="2171880"/>
            <a:ext cx="6134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2266920" y="2171520"/>
            <a:ext cx="0" cy="3105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6153120" y="3695400"/>
            <a:ext cx="0" cy="15620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4286160" y="2171880"/>
            <a:ext cx="0" cy="11808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1562040" y="1467000"/>
            <a:ext cx="20764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latilidad (desviaci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stándar del retor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6629400" y="5315040"/>
            <a:ext cx="2076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Número de instrumentos en el porta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4362480" y="2362320"/>
            <a:ext cx="2076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eliminado por divers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5029200" y="3105000"/>
            <a:ext cx="207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total del porta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2324160" y="3981600"/>
            <a:ext cx="2076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total de un instrumento tipo del porta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6172200" y="4172040"/>
            <a:ext cx="207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no diversifi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ficación depende de la correlació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4"/>
          <p:cNvGraphicFramePr/>
          <p:nvPr/>
        </p:nvGraphicFramePr>
        <p:xfrm>
          <a:off x="685800" y="1447920"/>
          <a:ext cx="8001000" cy="477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010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ibución al Ries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2268360" y="1844640"/>
                <a:ext cx="544068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855720" y="4005360"/>
                <a:ext cx="768996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</m:e>
                        </m:nary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M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rontera de mínima varianza de Carter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2143080" y="1971720"/>
                <a:ext cx="51436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w</m:t>
                            </m:r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0" name="Text Box 5"/>
          <p:cNvSpPr/>
          <p:nvPr/>
        </p:nvSpPr>
        <p:spPr>
          <a:xfrm>
            <a:off x="1474200" y="1339920"/>
            <a:ext cx="604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demos resolver el siguiente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1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ciones necesarias y suficientes para carteras en la frontera de mínima varianz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536400" y="1676520"/>
                <a:ext cx="807120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…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2948040" y="3046320"/>
                <a:ext cx="295596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3344760" y="4724280"/>
                <a:ext cx="244656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ema de dos fon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4640" y="1218960"/>
            <a:ext cx="835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ricialmente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solución par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despeja 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ción es de la forma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ectores que dependen de la matriz varianza covarianza y el vector de retornos espera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3733920" y="1268280"/>
                <a:ext cx="4456080" cy="23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5"/>
              <p:cNvSpPr txBox="1"/>
              <p:nvPr/>
            </p:nvSpPr>
            <p:spPr>
              <a:xfrm>
                <a:off x="4067280" y="4076640"/>
                <a:ext cx="24858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785880" y="2286000"/>
            <a:ext cx="76438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ctores g y h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4640" y="1218960"/>
            <a:ext cx="835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definim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3230640" y="1197000"/>
                <a:ext cx="2681280" cy="26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1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1</m:t>
                                </m:r>
                              </m:e>
                            </m:acc>
                          </m:e>
                        </m:nary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3132000" y="4140360"/>
                <a:ext cx="4322880" cy="20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1</m:t>
                                    </m:r>
                                  </m:e>
                                </m:acc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1</m:t>
                                    </m:r>
                                  </m:e>
                                </m:acc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elación entre el retorno esperado y la varianza de las carteras de la fronter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varianza de la cartera 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o que equivale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928800" y="2143080"/>
                <a:ext cx="72784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σ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2050920" y="4149720"/>
                <a:ext cx="554220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σ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ema de dos fon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04640" y="1218960"/>
            <a:ext cx="835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n dos soluciones conocidas del problema para r distintos, ento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=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(1 -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también una solución par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3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1 + (1 -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r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mostración: en cl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decir, para construir toda la frontera de mínima varianza bastan dos carteras diferentes que pertenezcan a la fronte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57200" y="2378160"/>
            <a:ext cx="84582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116000" y="1523880"/>
            <a:ext cx="7140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5838840" cy="1905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1714680" y="3786120"/>
            <a:ext cx="52099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4582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rteras de mínima varianza definen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a parábola en el espacio r-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1476360" y="981000"/>
          <a:ext cx="7128000" cy="468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981000"/>
                    <a:ext cx="712800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Line 7"/>
          <p:cNvSpPr/>
          <p:nvPr/>
        </p:nvSpPr>
        <p:spPr>
          <a:xfrm>
            <a:off x="3203640" y="3645000"/>
            <a:ext cx="0" cy="172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 flipH="1">
            <a:off x="1042920" y="3645000"/>
            <a:ext cx="21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2"/>
              <p:cNvSpPr txBox="1"/>
              <p:nvPr/>
            </p:nvSpPr>
            <p:spPr>
              <a:xfrm>
                <a:off x="2749680" y="5373720"/>
                <a:ext cx="8856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3"/>
              <p:cNvSpPr txBox="1"/>
              <p:nvPr/>
            </p:nvSpPr>
            <p:spPr>
              <a:xfrm>
                <a:off x="179280" y="3141720"/>
                <a:ext cx="833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o de frontera eficiente de carter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762120" y="1484280"/>
          <a:ext cx="652140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84280"/>
                    <a:ext cx="65214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14"/>
          <p:cNvSpPr/>
          <p:nvPr/>
        </p:nvSpPr>
        <p:spPr>
          <a:xfrm>
            <a:off x="3809880" y="3429000"/>
            <a:ext cx="152640" cy="11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4038480" y="4343400"/>
            <a:ext cx="15264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4800600" y="3048120"/>
            <a:ext cx="152280" cy="152280"/>
          </a:xfrm>
          <a:prstGeom prst="rect">
            <a:avLst/>
          </a:prstGeom>
          <a:solidFill>
            <a:srgbClr val="66ff33"/>
          </a:solidFill>
          <a:ln w="1260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52680" y="3429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754920" y="1569960"/>
            <a:ext cx="642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es prefieren al mismo nivel de volatilidad cart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ayor retorno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1337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14600" y="38098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5181120" y="312408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4265280" y="426708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3960720" y="335268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p1:  Covarianza entre un portfolio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la frontera de mínima varianza, y el portfolio de mínima varianza mv</a:t>
            </a:r>
            <a:r>
              <a:rPr b="1" lang="es-MX" sz="2000" spc="-1" strike="noStrike">
                <a:solidFill>
                  <a:srgbClr val="000000"/>
                </a:solidFill>
                <a:latin typeface="TECHMath"/>
                <a:ea typeface="TECHMath"/>
              </a:rPr>
              <a:t>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igual a la varianza de éste últim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p2: Para todo porfolio p en la frontera de mínima varianza, excepto para el portfolio mv, existe un portfolio q único en la frontera tal que la covarianza entre p y q sea cero. (llamaremos a q zc(p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se da q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3132000" y="2306520"/>
                <a:ext cx="28800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2425680" y="4581360"/>
                <a:ext cx="4292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3278160" y="5410080"/>
                <a:ext cx="25862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23520"/>
            <a:ext cx="8458200" cy="13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l riesgo de una cartera se estima a partir de la desviación estándar que es la raíz cuadrada de la varianza: Var(Rp)=E(Rp-E(Rp))^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714240" y="3000240"/>
            <a:ext cx="7429680" cy="1571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857160" y="4572000"/>
            <a:ext cx="6610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i portfolio p es eficiente, entonces zc(p) no lo 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demás, se puede mostrar que p y zc(p) son tales qu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4"/>
          <p:cNvSpPr/>
          <p:nvPr/>
        </p:nvSpPr>
        <p:spPr>
          <a:xfrm>
            <a:off x="3335400" y="2924280"/>
            <a:ext cx="1741320" cy="2089080"/>
          </a:xfrm>
          <a:prstGeom prst="pie">
            <a:avLst/>
          </a:prstGeom>
          <a:noFill/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6"/>
          <p:cNvSpPr/>
          <p:nvPr/>
        </p:nvSpPr>
        <p:spPr>
          <a:xfrm flipH="1">
            <a:off x="1763280" y="3213000"/>
            <a:ext cx="2303640" cy="1584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1763640" y="2997360"/>
            <a:ext cx="0" cy="2447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1763640" y="4797360"/>
            <a:ext cx="28083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3227400" y="263700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1763640" y="544500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1115280" y="270828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011640" y="5584680"/>
            <a:ext cx="36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13"/>
          <p:cNvCxnSpPr>
            <a:stCxn id="246" idx="0"/>
            <a:endCxn id="246" idx="0"/>
          </p:cNvCxnSpPr>
          <p:nvPr/>
        </p:nvCxnSpPr>
        <p:spPr>
          <a:xfrm>
            <a:off x="4068360" y="321264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54" name="Line 14"/>
          <p:cNvSpPr/>
          <p:nvPr/>
        </p:nvSpPr>
        <p:spPr>
          <a:xfrm>
            <a:off x="3492360" y="3068640"/>
            <a:ext cx="14292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4858920" y="4149720"/>
            <a:ext cx="86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zc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6"/>
          <p:cNvSpPr/>
          <p:nvPr/>
        </p:nvSpPr>
        <p:spPr>
          <a:xfrm flipH="1">
            <a:off x="4571640" y="4508640"/>
            <a:ext cx="36036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1258920" y="3429000"/>
            <a:ext cx="3985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0"/>
          <p:cNvSpPr/>
          <p:nvPr/>
        </p:nvSpPr>
        <p:spPr>
          <a:xfrm>
            <a:off x="1619280" y="36450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971640" y="4484520"/>
            <a:ext cx="758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zc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2"/>
          <p:cNvSpPr/>
          <p:nvPr/>
        </p:nvSpPr>
        <p:spPr>
          <a:xfrm>
            <a:off x="1692360" y="479736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inalmente podemos mostrar CAPM sin activo libre de ries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i p es un portfolio de la frontera otro que el mv, y q es cualquier portfolio (en particular un activo individual), entonc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uego podemos escribir 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finiendo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2583000" y="2565360"/>
                <a:ext cx="43830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w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r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2603520" y="4076640"/>
                <a:ext cx="3935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6"/>
              <p:cNvSpPr txBox="1"/>
              <p:nvPr/>
            </p:nvSpPr>
            <p:spPr>
              <a:xfrm>
                <a:off x="3708360" y="5013360"/>
                <a:ext cx="2444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87138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retorno de la cartera q se puede descomponer en riesgo sistemático y riesgo específico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retorno aleatorio se puede descomponer entonces com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2444760" y="2349360"/>
                <a:ext cx="45910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3319560" y="3933720"/>
                <a:ext cx="250488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c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c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262160" y="1562040"/>
            <a:ext cx="6848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109520" y="1547640"/>
            <a:ext cx="71535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071720" y="2714760"/>
            <a:ext cx="72151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jando el horizonte de análisis, nos concentramos en N activos riesgos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aleatoria es el retorno entre t y t+1 de los diferentes activ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s el vector de retornos esperados 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s la matriz varianza covarianza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vector de retornos aleatorios se define com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1676520" y="4114800"/>
                <a:ext cx="57117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e>
                          <m: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3809880" y="2209680"/>
                <a:ext cx="23986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mos una cartera o portafolio como una selección de activo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cartera es un vect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porcentajes invertidos en cada uno de los activ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artera tiene un retorno esperad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una varianza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676520" y="2133720"/>
                <a:ext cx="518148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4267080" y="4191120"/>
                <a:ext cx="3276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447920" y="5181480"/>
                <a:ext cx="5006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σ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28600" y="1600200"/>
            <a:ext cx="9144000" cy="40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íamos visto que para una cartera, la volatilidad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volatilidad del activo 1 es 10% y del activo 2 es 12%, y su correlación es -0.5 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2"/>
              <p:cNvSpPr txBox="1"/>
              <p:nvPr/>
            </p:nvSpPr>
            <p:spPr>
              <a:xfrm>
                <a:off x="357120" y="2514600"/>
                <a:ext cx="85726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ρ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Volatilidad de una carte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133720" y="4648320"/>
            <a:ext cx="4473360" cy="1180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racción w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Vol Car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0.0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12.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0.5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 5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1.0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10.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02:23:33Z</dcterms:created>
  <dc:creator>Miguel Cruz</dc:creator>
  <dc:description/>
  <dc:language>en-US</dc:language>
  <cp:lastModifiedBy>Felipe</cp:lastModifiedBy>
  <cp:lastPrinted>2002-04-25T02:11:35Z</cp:lastPrinted>
  <dcterms:modified xsi:type="dcterms:W3CDTF">2012-04-02T02:45:34Z</dcterms:modified>
  <cp:revision>124</cp:revision>
  <dc:subject/>
  <dc:title>Tipo de Cambio</dc:title>
</cp:coreProperties>
</file>