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ED49-8F0B-43BE-A2B4-CA911946D5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FCC-FED8-450C-AF19-3ACBD7CE1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47B3-9045-4BB9-97C9-DB5E492FD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CF8-E71F-48A4-AC88-6276DA669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0D8-1E8F-49B8-8BB6-6613125CA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60B-AC25-4D03-99C5-E7BAD3FC5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66C-E7E6-4278-86D5-3D59C7ACA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3DC6-0F4E-463B-8DA5-F2F919CFD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D4D-FB7C-41A5-A8DE-BB7E8CA04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76E6-DA2E-4657-9F87-01DE0D715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F2F-A3DA-4B38-B523-494EEF4D9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AB93-7DA6-42C4-8C47-84BFA8A88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C8D-4829-4003-9404-57EFCC6AC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15F-6D54-4AD9-8972-3E57CB632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84C-7B70-46FA-B705-77C1A30A8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28B-A9A5-4BAC-B2C1-996AD919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108-D560-4622-9CAE-7BCBDC23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E27-5F2B-4B86-92E7-856A2710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DF1-A7E7-4414-871D-F18F1F9A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5F0E-2924-4BCA-97A3-F9416ABC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49FE-0276-498F-BE72-6546B70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2C9-8D7F-40DC-9310-5288B69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267-D958-4665-9BB1-9A1984C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701-7F1D-4725-97E8-89C39CAA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03C0-CDFB-4249-97DB-AE1D232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DAD8-A64C-48E8-8A1C-315910D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4C6-0E9F-459C-92C6-9609ECC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07F-6996-4815-8EC1-C8E9DC18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BFF-D530-4453-8A98-4DB8AC5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202-0B64-4C97-99CB-CC1DA73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7F3-FDA5-4DCB-AD06-01D276E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4D5D-9019-4F9B-98CC-426DDD19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312-0F5C-445D-8460-898E80D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D2F-177A-41AC-9FE1-F2F8662C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763-1E42-42D9-A0C0-2B03FF7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04E-3C9B-4F35-98F5-56BEB5CF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647-1C21-42BD-BB90-14FFA6D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80-1EA3-4621-B9B9-8FA0612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A91-B0CB-4B72-A0DF-FFDA452F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BEE-C31A-44E2-9B40-F6C1DA3F05B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E6E-CB5F-4B07-B4D2-537578DC74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Prevención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Elipse"/>
          <p:cNvSpPr/>
          <p:nvPr/>
        </p:nvSpPr>
        <p:spPr>
          <a:xfrm>
            <a:off x="785880" y="42148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Somos trabajadores expuestos a accidentes y enfermedad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ocer y respetar normativa, procedimientos, derechos y deber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r Auto-cuid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y promover cultura prev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aso de accidentes utilizar mecanismos de  cober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Somos profesionales con responsabilidades parti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nificar Trabajos (Quién, cómo, cuán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ir procedimientos, dimensionar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eñar productos, equi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or responsabilidad en empresa o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lar por el 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es con responsabilid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el caso de las profesiones, un primer “deber” de las/os profesionales que la ejercen es hacer bien lo que saben hace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profesor, enseñ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abogado, conocer la ley e interpretarla para abogar por la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médico conocer el cuerpo y san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lo tanto, las profesiones -parte importante de las acciones humanas actuales- implican un actuar é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, dicho de otro modo, cualquier quehacer profesional conlleva implicancias éticas que son inelu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Norma &amp; V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s sociedades se rigen por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ley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; éstas vienen a dar un marco normativo positivo desde el cual los seres humanos organizamos nuestra vida comú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forman en su conjunto el ámbito de lo leg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 de suponer que las leyes que rigen distintos y variados ámbitos de la vida humana son buenas, deseables, puesto que persiguen el bien de la sociedad to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atar las leyes y regirse por ellas vendría a ser algo en sí mismo b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61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motivos complejos que ahora no viene al caso analizar, en nuestras sociedades contemporáneas no siempre con solo acatar las leyes llegamos a realizar acciones éticamente buenas, deseables y/o aceptables para to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Atención con esto: no significa que acatar las leyes necesariamente sea algo “no-bueno”; tan sólo decimos que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no necesariamente coinciden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Y si no hubiera Seguridad Industr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28800" y="16430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actitud y procedimientos proa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r alerta, evaluar constantemente riesgos y controlarlos, informarse, prepara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lgunas Industrias: no solo reporte de accidentes también de incidentes (ejemp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1T14:28:36Z</dcterms:modified>
  <cp:revision>26</cp:revision>
  <dc:subject/>
  <dc:title>Ética e Ingeniería</dc:title>
</cp:coreProperties>
</file>