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652E-340C-466E-82A6-615D830DE4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D76-8B25-49D2-9C2F-34BC235E9C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9DEB-42E4-48BB-8BF8-B817758977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47BF-1569-4280-8BA2-CC0EFF510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B89B-745B-4AB4-8DD8-5B670B504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D45-00AA-4275-BBC5-D9E7DC4C0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68A3-3781-4319-A16A-930B3DE44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D80-53FE-4182-B327-ABEB29E26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020B-E42D-4791-A5B2-BCCA8C1F2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600-02DC-4EB3-87FE-CC9B0896F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F329-5AA6-46C5-9402-E8ED00866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C28-081D-4A5A-8B70-B2CBE6C3B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0EC8-3FC3-4E16-9D51-E481213C2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59F-A363-45D7-B77F-FE0153A63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FF29-AA3F-46EC-BD14-57E5AED43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E29-C288-4C88-8A2C-55796AE1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F2D-3132-43BF-AF3C-90C4A52F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D9F-20C1-4239-9F57-C8612518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105-C56D-4485-9B75-3FE8606B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1F85-44DA-4609-BDF4-660A0B91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606E-9244-489F-B68A-30A16D29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2F22-07B4-482F-A6F6-F6E571AA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5412-25FD-481B-AFDF-4BF0115C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C73-0E59-4AC0-A50B-00E4D75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3937-603C-4F8A-ACE4-AD65F6D1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6122-EF75-48B2-AB38-213B8E08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B38-6273-4CD5-AC96-20AED10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FBC8-76FE-41A4-A7D7-6AF63AB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6F48-4959-47DF-8022-AE8F0432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F164-D859-48D2-91E1-928407E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D544-439D-4E3C-AA44-E08F369F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F63-E7F6-4FCC-9447-F2E80E9C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DB8-20B4-4532-B90A-0250C42D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F54-6A03-4200-A46A-DA3CA05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16A-A8ED-423E-BD20-24DE25E6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0AE-1129-4B35-8B7E-9B25FE8A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61D-FBDC-42AB-8088-9FC5C60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ADC-AE11-4294-846D-0F211AC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A2D-F3B5-400C-BF7E-A6CE67A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25AD-1C0F-4E83-9E06-C0E2B866316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96F-8ABA-40A8-B27F-8F5B0B1D21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Prevención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Elipse"/>
          <p:cNvSpPr/>
          <p:nvPr/>
        </p:nvSpPr>
        <p:spPr>
          <a:xfrm>
            <a:off x="785880" y="42148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Somos trabajadores expuestos a accidentes y enfermedad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ocer y respetar normativa, procedimientos, derechos y deber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acticar Auto-cuid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y promover cultura preven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caso de accidentes utilizar mecanismos de  cober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Somos profesionales con responsabilidades particu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lanificar Trabajos (Quién, cómo, cuán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finir procedimientos, dimensionar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señar productos, equip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yor responsabilidad en empresa o proy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lar por el 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fesionales con responsabilidad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57120" y="10713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n el caso de las profesiones, un primer “deber” de las/os profesionales que la ejercen es hacer bien lo que saben hacer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profesor, enseñ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abogado, conocer la ley e interpretarla para abogar por la justi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l médico conocer el cuerpo y san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lo tanto, las profesiones -parte importante de las acciones humanas actuales- implican un actuar ét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O, dicho de otro modo, cualquier quehacer profesional conlleva implicancias éticas que son inelud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alibri"/>
              </a:rPr>
              <a:t>Norma &amp; Va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as sociedades se rigen por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leyes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; éstas vienen a dar un marco normativo positivo desde el cual los seres humanos organizamos nuestra vida comú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forman en su conjunto el ámbito de lo leg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82296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 de suponer que las leyes que rigen distintos y variados ámbitos de la vida humana son buenas, deseables, puesto que persiguen el bien de la sociedad to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catar las leyes y regirse por ellas vendría a ser algo en sí mismo bue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404640"/>
            <a:ext cx="8261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r motivos complejos que ahora no viene al caso analizar, en nuestras sociedades contemporáneas no siempre con solo acatar las leyes llegamos a realizar acciones éticamente buenas, deseables y/o aceptables para to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(Atención con esto: no significa que acatar las leyes necesariamente sea algo “no-bueno”; tan sólo decimos que </a:t>
            </a: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no necesariamente coinciden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Y si no hubiera Seguridad Industri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28800" y="16430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es una Profesió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Responsabilidad Profesiona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doptar actitud y procedimientos proa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r alerta, evaluar constantemente riesgos y controlarlos, informarse, preparar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algunas Industrias: no solo reporte de accidentes también de incidentes (ejemp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1T14:28:36Z</dcterms:modified>
  <cp:revision>26</cp:revision>
  <dc:subject/>
  <dc:title>Ética e Ingeniería</dc:title>
</cp:coreProperties>
</file>