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wmf" ContentType="image/x-wmf"/>
  <Override PartName="/ppt/media/image7.wmf" ContentType="image/x-wmf"/>
  <Override PartName="/ppt/media/image8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55C83-1559-4F14-87BB-23B5A9DBA3E2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490F5-96DA-4C0E-970E-4C98332400E7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6FB3B-B2B8-4012-9039-F4C43F4AFEBB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4BB61-BB76-4B64-809D-DC1432600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E70C6-EF0E-473E-80B7-856DB5965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0187A-1805-4071-8F3A-ACC0D905A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B6F0B-9A4C-4600-B976-F8A2674C6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501B5-A811-4BBF-84F8-CA394BB91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C884B-1ED8-4471-8A99-4BD494200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0E4BF-91BB-470E-8D06-DDF9C21B2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63EF3-D2DA-4611-B821-6A353E0D8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FF966-AC89-4122-A3CD-F598CBA6E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AD8D8-8B0B-4E32-8332-52FDE4E94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A6111-55F9-4735-9762-1BD364B6B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25F8F-6F2D-402C-8CE5-58AE3CC50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32A14-8369-46DD-A217-85A47F93371C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2143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ES" sz="4800" spc="-1" strike="noStrike">
                <a:solidFill>
                  <a:srgbClr val="000000"/>
                </a:solidFill>
                <a:latin typeface="Calibri"/>
              </a:rPr>
              <a:t>Ingeniería </a:t>
            </a:r>
            <a:br>
              <a:rPr sz="4800"/>
            </a:br>
            <a:r>
              <a:rPr b="1" lang="es-ES" sz="4800" spc="-1" strike="noStrike">
                <a:solidFill>
                  <a:srgbClr val="000000"/>
                </a:solidFill>
                <a:latin typeface="Calibri"/>
              </a:rPr>
              <a:t>y Seguridad Industrial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898989"/>
                </a:solidFill>
                <a:latin typeface="Calibri"/>
              </a:rPr>
              <a:t>Área de Humanidad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898989"/>
                </a:solidFill>
                <a:latin typeface="Calibri"/>
              </a:rPr>
              <a:t>Área de Desarrollo Docen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898989"/>
                </a:solidFill>
                <a:latin typeface="Calibri"/>
              </a:rPr>
              <a:t>Prevención de Riesgos FCF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Precauciones mínimas Laboratori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500040" y="1857240"/>
            <a:ext cx="840096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Presentar un diagrama con el circuito a usar. Incluir en el diagrama los instrumento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Ubicar ordenadamente los instrumentos y cabl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Pedir revisión del circui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Energizar solo con el visto buen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Precauciones mínimas Laboratori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500040" y="1857240"/>
            <a:ext cx="840096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Con el circuito energizado, sólo efectuar lectura de instrumentos.  No hacer modificacion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Utilizar conexiones de tierra (masa) de equipos e instrumentación cuando correspond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Cualquier operación que merezca duda, consultarla antes con el ayudant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Recomendaciones Laboratori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500040" y="1714320"/>
            <a:ext cx="8400960" cy="31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Utilizar en lo posible zapatos con planta de goma y, cuando sea necesario, guantes de segurida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No utilizar ropas que presenten peligro para el trabajo propio del laboratorio (en particular con máquinas rotatorias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Rechazar e informar de instrumentos y equipos en mal estad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En caso de Acciden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5 Imagen" descr="b9a463a16934c62cfbe08fb2dcef_740.jpg"/>
          <p:cNvPicPr/>
          <p:nvPr/>
        </p:nvPicPr>
        <p:blipFill>
          <a:blip r:embed="rId1"/>
          <a:stretch/>
        </p:blipFill>
        <p:spPr>
          <a:xfrm>
            <a:off x="1928880" y="1357200"/>
            <a:ext cx="5000400" cy="42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Primeros auxili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00040" y="1857240"/>
            <a:ext cx="840096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Corte energía (no se confíe, esta puede ser la causa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Desconecte accidentado de conductor (con algo aislante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Si hay llamas en el accidentado apagar con mantas o hacerlo rodar. Enfriar con agua limpi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Primeros auxili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00040" y="1071360"/>
            <a:ext cx="8400960" cy="31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0000"/>
          </a:bodyPr>
          <a:p>
            <a:pPr marL="205560" indent="-205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Ver si está consien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05560" indent="-205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Si no respira, aplicar respiración artificial: ambú (21% O</a:t>
            </a:r>
            <a:r>
              <a:rPr b="0" lang="es-E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) o boca a boca (16% O</a:t>
            </a:r>
            <a:r>
              <a:rPr b="0" lang="es-E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05560" indent="-205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05560" indent="-205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05560" indent="-205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05560" indent="-205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05560" indent="-205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Si no hay pulso aplicar masaje cardiac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05560" indent="-2055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NUNCA APLICAR SI NO ES NECESARI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2357280" y="2928960"/>
            <a:ext cx="4071960" cy="21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7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RC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2" descr=""/>
          <p:cNvPicPr/>
          <p:nvPr/>
        </p:nvPicPr>
        <p:blipFill>
          <a:blip r:embed="rId1"/>
          <a:stretch/>
        </p:blipFill>
        <p:spPr>
          <a:xfrm>
            <a:off x="357120" y="1143000"/>
            <a:ext cx="2581200" cy="26114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3" descr=""/>
          <p:cNvPicPr/>
          <p:nvPr/>
        </p:nvPicPr>
        <p:blipFill>
          <a:blip r:embed="rId2"/>
          <a:stretch/>
        </p:blipFill>
        <p:spPr>
          <a:xfrm>
            <a:off x="3429000" y="1214280"/>
            <a:ext cx="2247840" cy="2489400"/>
          </a:xfrm>
          <a:prstGeom prst="rect">
            <a:avLst/>
          </a:prstGeom>
          <a:ln w="0">
            <a:noFill/>
          </a:ln>
        </p:spPr>
      </p:pic>
      <p:sp>
        <p:nvSpPr>
          <p:cNvPr id="89" name="7 CuadroTexto"/>
          <p:cNvSpPr/>
          <p:nvPr/>
        </p:nvSpPr>
        <p:spPr>
          <a:xfrm>
            <a:off x="5857920" y="1643040"/>
            <a:ext cx="30718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errar la nariz de la victi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Sellar las bocas, soplar como si se inflara un glob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Mirar tórax para confirmar entrada de a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" descr=""/>
          <p:cNvPicPr/>
          <p:nvPr/>
        </p:nvPicPr>
        <p:blipFill>
          <a:blip r:embed="rId3"/>
          <a:stretch/>
        </p:blipFill>
        <p:spPr>
          <a:xfrm>
            <a:off x="3429000" y="4000680"/>
            <a:ext cx="2457360" cy="25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RC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214200" y="1428840"/>
            <a:ext cx="3970440" cy="2500200"/>
          </a:xfrm>
          <a:prstGeom prst="rect">
            <a:avLst/>
          </a:prstGeom>
          <a:ln w="0">
            <a:noFill/>
          </a:ln>
        </p:spPr>
      </p:pic>
      <p:sp>
        <p:nvSpPr>
          <p:cNvPr id="93" name="5 CuadroTexto"/>
          <p:cNvSpPr/>
          <p:nvPr/>
        </p:nvSpPr>
        <p:spPr>
          <a:xfrm>
            <a:off x="4786200" y="1500120"/>
            <a:ext cx="3071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Mantener  mano en esternón y brazos rec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hundir pecho entre 2 a 5 c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6 CuadroTexto"/>
          <p:cNvSpPr/>
          <p:nvPr/>
        </p:nvSpPr>
        <p:spPr>
          <a:xfrm>
            <a:off x="1928880" y="4357800"/>
            <a:ext cx="6572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lterne 2 respiraciones con 15 compresiones a un ritmo de 80 a 100 por minu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l cabo de 4 ciclos verifique si tiene puls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No interrumpa la RCP por ninguna razón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hasta que llegue el equipo médico especializado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Ingeniería y Seguridad Industri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1285920" y="1428840"/>
            <a:ext cx="750096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1.- Rol de los Ingenieros en la Seguridad Industri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2.- Riesgos Eléctric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3.- Legislación Chile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4.- Conceptos de Seguridad Industri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5.- Análisis de Casos Rea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6.- Evaluació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3 Rectángulo"/>
          <p:cNvSpPr/>
          <p:nvPr/>
        </p:nvSpPr>
        <p:spPr>
          <a:xfrm>
            <a:off x="1285920" y="2571840"/>
            <a:ext cx="4214880" cy="500040"/>
          </a:xfrm>
          <a:prstGeom prst="rect">
            <a:avLst/>
          </a:prstGeom>
          <a:solidFill>
            <a:srgbClr val="ffff00">
              <a:alpha val="4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0616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Riesgos Eléctric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928800" y="1643040"/>
            <a:ext cx="750096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Efectos de la electricidad en el cuerpo Human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Accidentes más comun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Control de riesg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Primeros Auxili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Normas de seguridad en el laboratori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Efectos de la electricidad en el cuerpo Human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785960"/>
            <a:ext cx="822960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243360" indent="-243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Riesgo Directo: Electrocución, circulación de corriente eléctrica a través del cuerp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43360" indent="-243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43360" indent="-243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Otros indirectos: quemaduras por contacto  o explosiones de equipos por sobrecarg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43360" indent="-243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43360" indent="-243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Efectos no inmediatos: Problemas renales, cardiovasculares, nerviosos, sensorial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43360" indent="-243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7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Electrocució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28760" y="1143000"/>
            <a:ext cx="8400960" cy="10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2000"/>
          </a:bodyPr>
          <a:p>
            <a:pPr marL="144000" indent="-144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Cuerpo Humano es conductor (</a:t>
            </a:r>
            <a:r>
              <a:rPr b="0" lang="el-GR" sz="3200" spc="-1" strike="noStrike">
                <a:solidFill>
                  <a:srgbClr val="000000"/>
                </a:solidFill>
                <a:latin typeface="Calibri"/>
              </a:rPr>
              <a:t>≈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1-600k</a:t>
            </a:r>
            <a:r>
              <a:rPr b="0" lang="el-GR" sz="3200" spc="-1" strike="noStrike">
                <a:solidFill>
                  <a:srgbClr val="000000"/>
                </a:solidFill>
                <a:latin typeface="Calibri"/>
              </a:rPr>
              <a:t>Ω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44000" indent="-144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44000" indent="-144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Efectos dependen de: frecuencia y magnitud de corriente, trayectoria en el cuerpo, tiempo sometido a circulación de corrient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Electrocució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1571760" y="1285920"/>
          <a:ext cx="7143480" cy="4970520"/>
        </p:xfrm>
        <a:graphic>
          <a:graphicData uri="http://schemas.openxmlformats.org/drawingml/2006/table">
            <a:tbl>
              <a:tblPr/>
              <a:tblGrid>
                <a:gridCol w="1717560"/>
                <a:gridCol w="5425920"/>
              </a:tblGrid>
              <a:tr h="64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A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fectos fisiológicos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f(tpo, lugar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4  -  1,2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mbral de percepción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  -  9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mbral de contracciones musculares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3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  -  18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ificultad para respirar y liberars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  -  25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tracciones musculares violentas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6  -  50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aralización  músculos respiratorios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1  -  100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mbral de fibrilación ventricular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(&gt;150 ms, 20% ciclo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&gt; 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Quemadur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26560" y="764640"/>
            <a:ext cx="7015320" cy="36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Accidentes más comun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52320" y="1500120"/>
            <a:ext cx="399600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s-ES_tradnl" sz="2000" spc="-1" strike="noStrike">
                <a:solidFill>
                  <a:srgbClr val="000000"/>
                </a:solidFill>
                <a:latin typeface="Calibri"/>
              </a:rPr>
              <a:t>Contacto Eléctrico Directo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s-ES_tradnl" sz="2000" spc="-1" strike="noStrike">
                <a:solidFill>
                  <a:srgbClr val="000000"/>
                </a:solidFill>
                <a:latin typeface="Calibri"/>
              </a:rPr>
              <a:t>Persona toca una parte del circuito que en condiciones normales está energizad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3" name="Object 2"/>
          <p:cNvGraphicFramePr/>
          <p:nvPr/>
        </p:nvGraphicFramePr>
        <p:xfrm>
          <a:off x="5797440" y="3287880"/>
          <a:ext cx="2632320" cy="271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97440" y="3287880"/>
                    <a:ext cx="2632320" cy="2712960"/>
                  </a:xfrm>
                  <a:prstGeom prst="rect">
                    <a:avLst/>
                  </a:prstGeom>
                  <a:ln w="9360">
                    <a:solidFill>
                      <a:srgbClr val="0000ff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65" name="Object 3"/>
          <p:cNvGraphicFramePr/>
          <p:nvPr/>
        </p:nvGraphicFramePr>
        <p:xfrm>
          <a:off x="1698480" y="3287880"/>
          <a:ext cx="2521080" cy="2712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6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98480" y="3287880"/>
                    <a:ext cx="2521080" cy="2712960"/>
                  </a:xfrm>
                  <a:prstGeom prst="rect">
                    <a:avLst/>
                  </a:prstGeom>
                  <a:ln w="9360">
                    <a:solidFill>
                      <a:srgbClr val="0000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67" name="Text Box 6"/>
          <p:cNvSpPr/>
          <p:nvPr/>
        </p:nvSpPr>
        <p:spPr>
          <a:xfrm>
            <a:off x="4971960" y="1428840"/>
            <a:ext cx="38862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Contacto Eléctrico Indirecto: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ersona toca parte metálica que normalmente no está energizada, pero que adquiere voltaje bajo situación de fal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Control de Riesg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500040" y="1857240"/>
            <a:ext cx="840096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Estado de aisladores, evitar acceso a conducto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Sistema de Puesta a tier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Sistemas de interrupción: Magnéticos, térmicos, Diferencial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785880" y="1642680"/>
            <a:ext cx="7826400" cy="37148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80880" indent="0">
              <a:spcBef>
                <a:spcPts val="451"/>
              </a:spcBef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</a:rPr>
              <a:t>Las 5 Reglas de Oro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80880" indent="0">
              <a:spcBef>
                <a:spcPts val="451"/>
              </a:spcBef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1. Abrir con corte visible todas las fuentes de tensión mediante interruptores y seccionadores que aseguren la imposibilidad de su cierre intempestivo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80880" indent="0">
              <a:spcBef>
                <a:spcPts val="451"/>
              </a:spcBef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2. Prevenir cualquier posible realimentación mediante enclavamiento o bloqueo de los aparatos de corte y señalización en el mando de éstos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80880" indent="0">
              <a:spcBef>
                <a:spcPts val="451"/>
              </a:spcBef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3. Verificar la ausencia de tensió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80880" indent="0">
              <a:spcBef>
                <a:spcPts val="451"/>
              </a:spcBef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4. Puesta a tierra y en cortocircuito de todas las posibles fuentes de tensió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80880" indent="0">
              <a:spcBef>
                <a:spcPts val="451"/>
              </a:spcBef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5. Proteger frente a los elementos próximos en tensión y establecer una señalización de seguridad para delimitar la zona de trabajo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Rectangle 3"/>
          <p:cNvSpPr/>
          <p:nvPr/>
        </p:nvSpPr>
        <p:spPr>
          <a:xfrm>
            <a:off x="2656080" y="403200"/>
            <a:ext cx="476172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EDIDAS PREVENTIVAS PA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TRABAJOS ELÉCTR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7 CuadroTexto"/>
          <p:cNvSpPr/>
          <p:nvPr/>
        </p:nvSpPr>
        <p:spPr>
          <a:xfrm>
            <a:off x="2244960" y="5715000"/>
            <a:ext cx="490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ortar- Bloquear-Chequear-Aterrizar-Señaliz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2T13:45:09Z</dcterms:created>
  <dc:creator>Hector Agusto</dc:creator>
  <dc:description/>
  <dc:language>en-US</dc:language>
  <cp:lastModifiedBy>Hector Agusto</cp:lastModifiedBy>
  <dcterms:modified xsi:type="dcterms:W3CDTF">2011-03-18T16:29:15Z</dcterms:modified>
  <cp:revision>29</cp:revision>
  <dc:subject/>
  <dc:title>Ética e Ingeniería</dc:title>
</cp:coreProperties>
</file>