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DAC9-49F2-4EE5-A158-F9D521C0CF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0310-A4F6-449A-85DA-DF3D659240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74CE-A764-42DE-A0D7-16EB42D11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D302-E2BF-4999-8FB7-A2F32412BC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6CC3-FD22-4024-842D-43DD646B23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6E69-148F-414E-A85E-2D50590E1C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5944-CB4B-4DCB-88C8-0C8E0A2AA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6534-59B3-4464-896F-2803DC287E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CC8D-AD65-454F-B792-3B19319B1C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A586-72BF-454D-BCC0-F199A871F5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A999-70EB-4381-91B0-FEC911AE1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5284-EF57-471E-8E10-211E0BDCF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A643-7A42-4A27-85DC-E1964E49F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610B-F575-4F9D-ACC5-2C1AE18D0A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5D63-CD99-4995-BCCB-DA3104EAE5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F4F-7A56-45C8-9CF8-A4B6DBF6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452-20E4-4ECF-B3C2-49360221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439-C45C-4799-9E35-A5EEC874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F30-8EFD-45DA-9A75-71D5906F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E268-59CF-4899-8862-52452B6A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F4B3-60FA-4E01-997F-E6FF7769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CA14-2AAF-488D-843D-F2E427A7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F075-5471-4F41-9582-B38782F4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6605-550C-4C03-976B-F4DFC274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2BE1-8BD6-47F3-94C2-DB414D51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ED6D-5C5C-41AC-8897-BA50C76C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7BF-69A2-4C1E-B380-262CDD60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4D2E-34A7-4685-96F1-0B01807A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6517-FC0D-4BA9-993F-FE7D728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4451-B306-4FF6-A269-0390BB0A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BA0B-58B2-46C5-BF66-7677DFC7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3C59-BCD3-496E-B663-A8670625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FB5-C594-40AA-B037-B3277B42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A35-F1C6-4358-BD15-86053551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E02-BBC8-4302-B647-87CC620A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DEC-BF79-47B7-A9C3-8AB0AE2D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180-BE74-45B4-BD03-BBC2F758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8DF-A5EF-4644-88D0-E6E1AA88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477-F7FF-4EE7-A56B-36DA01E7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8F07-12FC-44E1-B0E8-D77FE92A8D9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5B40-BE06-4771-98BB-CC5C6815833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Ingeniería 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Seguridad Industria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Human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Desarrollo Do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Prevención de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3 Imagen" descr="~Oh_dear~7.jpg"/>
          <p:cNvPicPr/>
          <p:nvPr/>
        </p:nvPicPr>
        <p:blipFill>
          <a:blip r:embed="rId1"/>
          <a:stretch/>
        </p:blipFill>
        <p:spPr>
          <a:xfrm>
            <a:off x="1714680" y="1643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Mantener el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Usar EPP Adecu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2 Imagen" descr="49ba5bbc849bcb2ec739fbc7192e_740.jpg"/>
          <p:cNvPicPr/>
          <p:nvPr/>
        </p:nvPicPr>
        <p:blipFill>
          <a:blip r:embed="rId1"/>
          <a:stretch/>
        </p:blipFill>
        <p:spPr>
          <a:xfrm>
            <a:off x="1952640" y="12859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Usar EPP Adecuado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y correctam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3 Imagen" descr="sb1038-doblecasco1269375024.jpg"/>
          <p:cNvPicPr/>
          <p:nvPr/>
        </p:nvPicPr>
        <p:blipFill>
          <a:blip r:embed="rId1"/>
          <a:stretch/>
        </p:blipFill>
        <p:spPr>
          <a:xfrm>
            <a:off x="3000240" y="164304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o sobrecargar equip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4 Imagen" descr="1768e5e0b034ad21ee28201df4d6_740.jpg"/>
          <p:cNvPicPr/>
          <p:nvPr/>
        </p:nvPicPr>
        <p:blipFill>
          <a:blip r:embed="rId1"/>
          <a:stretch/>
        </p:blipFill>
        <p:spPr>
          <a:xfrm>
            <a:off x="2548080" y="1866960"/>
            <a:ext cx="5452920" cy="42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spetar las Normativ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2 Imagen" descr="sb1105-reglas1277242786.jpg"/>
          <p:cNvPicPr/>
          <p:nvPr/>
        </p:nvPicPr>
        <p:blipFill>
          <a:blip r:embed="rId1"/>
          <a:stretch/>
        </p:blipFill>
        <p:spPr>
          <a:xfrm>
            <a:off x="3714840" y="1285920"/>
            <a:ext cx="4286160" cy="52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2 Imagen" descr="29885dfebc91774bce0ace225ab6_740.jpg"/>
          <p:cNvPicPr/>
          <p:nvPr/>
        </p:nvPicPr>
        <p:blipFill>
          <a:blip r:embed="rId1"/>
          <a:stretch/>
        </p:blipFill>
        <p:spPr>
          <a:xfrm>
            <a:off x="1609560" y="1519200"/>
            <a:ext cx="6677280" cy="4305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o ser imprud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Qué pasaría si no hubiera Seguridad Industri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¡¡Es necesaria l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guridad Industrial 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Elipse"/>
          <p:cNvSpPr/>
          <p:nvPr/>
        </p:nvSpPr>
        <p:spPr>
          <a:xfrm>
            <a:off x="785880" y="4214880"/>
            <a:ext cx="385740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Elipse"/>
          <p:cNvSpPr/>
          <p:nvPr/>
        </p:nvSpPr>
        <p:spPr>
          <a:xfrm>
            <a:off x="5286240" y="3143160"/>
            <a:ext cx="385776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5 Elipse"/>
          <p:cNvSpPr/>
          <p:nvPr/>
        </p:nvSpPr>
        <p:spPr>
          <a:xfrm>
            <a:off x="1428840" y="1714680"/>
            <a:ext cx="385740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CUMPL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Y  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Flecha curvada hacia la derecha"/>
          <p:cNvSpPr/>
          <p:nvPr/>
        </p:nvSpPr>
        <p:spPr>
          <a:xfrm rot="1021800">
            <a:off x="499680" y="285768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Flecha curvada hacia la derecha"/>
          <p:cNvSpPr/>
          <p:nvPr/>
        </p:nvSpPr>
        <p:spPr>
          <a:xfrm rot="15033600">
            <a:off x="5367960" y="473580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9 Flecha curvada hacia la derecha"/>
          <p:cNvSpPr/>
          <p:nvPr/>
        </p:nvSpPr>
        <p:spPr>
          <a:xfrm rot="7415400">
            <a:off x="5853600" y="177876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guridad Industrial Trasciende del ámbito de la Indust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500040" y="2928960"/>
            <a:ext cx="82296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 trata de SUSTENTAB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1040" y="1714320"/>
            <a:ext cx="84013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Somos trabajadores expuestos a accidentes y enfermedades labo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ocer y respetar normativa, procedimientos, derechos y deber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acticar Auto-cuida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optar y promover cultura preven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caso de accidentes utilizar mecanismos de  cober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ngeniería y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85920" y="14288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Riesgos Eléctr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- Legislación Chil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- Conceptos de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- Análisis de Casos Re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-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71040" y="1500120"/>
            <a:ext cx="84013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Somos profesionales con responsabilidades particu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lanificar Trabajos (Quién, cómo, cuánd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finir procedimientos, dimensionar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señar productos, equip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yor responsabilidad en empresa o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lar por el bienestar de las perso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fesionales con responsabilidad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57120" y="107136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n el caso de las profesiones, un primer “deber” de las/os profesionales que la ejercen es hacer bien lo que saben hacer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profesor, enseñ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abogado, conocer la ley e interpretarla para abogar por la justi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médico conocer el cuerpo y sanar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 lo tanto, las profesiones -parte importante de las acciones humanas actuales- implican un actuar é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O, dicho de otro modo, cualquier quehacer profesional conlleva implicancias éticas que son ineludi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Norma &amp; Va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as sociedades se rigen por </a:t>
            </a:r>
            <a:r>
              <a:rPr b="0" i="1" lang="es-ES_tradnl" sz="3200" spc="-1" strike="noStrike">
                <a:solidFill>
                  <a:srgbClr val="000000"/>
                </a:solidFill>
                <a:latin typeface="Calibri"/>
              </a:rPr>
              <a:t>leyes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; éstas vienen a dar un marco normativo positivo desde el cual los seres humanos organizamos nuestra vida comú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forman en su conjunto el ámbito de lo leg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42960" y="128556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 de suponer que las leyes que rigen distintos y variados ámbitos de la vida humana son buenas, deseables, puesto que persiguen el bien de la sociedad to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catar las leyes y regirse por ellas vendría a ser algo en sí mismo bue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61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 motivos complejos que ahora no viene al caso analizar, en nuestras sociedades contemporáneas no siempre con solo acatar las leyes llegamos a realizar acciones éticamente buenas, deseables y/o aceptables para to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(Atención con esto: no significa que acatar las leyes necesariamente sea algo “no-bueno”; tan sólo decimos que </a:t>
            </a:r>
            <a:r>
              <a:rPr b="0" i="1" lang="es-ES_tradnl" sz="3200" spc="-1" strike="noStrike">
                <a:solidFill>
                  <a:srgbClr val="000000"/>
                </a:solidFill>
                <a:latin typeface="Calibri"/>
              </a:rPr>
              <a:t>no necesariamente coinciden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es una Profes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ponsabilidad Profes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Y si no hubiera Seguridad Industri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Qué Incluye la seguridad Industri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cidentes Labo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fermedades Profes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Por qué preven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costos: materiales, retraso en proyectos, Imagen corporativa, alzas en pólizas, deman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umentar Beneficios/util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ienestar de las perso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28800" y="16430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¿Qué es una Profesión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Responsabilidad Profesiona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actitud pasiva o re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inimizar consecu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ven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optar actitud y procedimientos proa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r alerta, evaluar constantemente riesgos y controlarlos, informarse, preparar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algunas Industrias: no solo reporte de accidentes también de incidentes (ejempl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cedimientos deben ser: Formales, Conocidos y efic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la “burocratiza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imprudencia, actuar sin prepa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3:45:09Z</dcterms:created>
  <dc:creator>Hector Agusto</dc:creator>
  <dc:description/>
  <dc:language>en-US</dc:language>
  <cp:lastModifiedBy>Hector Agusto</cp:lastModifiedBy>
  <dcterms:modified xsi:type="dcterms:W3CDTF">2011-03-11T14:28:36Z</dcterms:modified>
  <cp:revision>26</cp:revision>
  <dc:subject/>
  <dc:title>Ética e Ingeniería</dc:title>
</cp:coreProperties>
</file>