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6D84-65B6-4AAD-9ABA-5AD7B7AA027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E9E1-8770-47F5-99F9-A6DC6F35B89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C48B-4155-4AB2-915B-A0F9D911F36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DA8C-A794-4324-A81B-1A1151614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7E69-B9F6-4F00-9926-A7CD0ACC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F1FE-445B-41CD-B530-38911585C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555F-A0AF-4F78-A48E-9AC750BAE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372F-1094-4B60-A8DE-AA51EF22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A893-CF5F-4792-A15A-D8863AF5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40B9-D0E8-4A48-AABC-CB5D79DD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7584-E8A6-45CE-A8D1-19242E9E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5193-AC5C-43C1-810C-2C071CBD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C8FB-2175-40B4-B18E-6FF37C39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7666-1CA9-44DD-B1A6-442910B1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7E8E-9933-4B24-B2A5-CAABE8FC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F5EB-DC59-4051-9CFE-086A6B016BCD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2143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Ingeniería </a:t>
            </a:r>
            <a:br>
              <a:rPr sz="4800"/>
            </a:b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y Seguridad Industrial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Área de Humanid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Área de Desarrollo Doc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Prevención de Riesgos FCF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recauciones mínimas Laborator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00040" y="18572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esentar un diagrama con el circuito a usar. Incluir en el diagrama los instrument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Ubicar ordenadamente los instrumentos y cab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edir revisión del circui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nergizar solo con el visto bue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recauciones mínimas Laborator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00040" y="18572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n el circuito energizado, sólo efectuar lectura de instrumentos.  No hacer modificacio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Utilizar conexiones de tierra (masa) de equipos e instrumentación cuando correspond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ualquier operación que merezca duda, consultarla antes con el ayudan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Recomendaciones Laborator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00040" y="1714320"/>
            <a:ext cx="840096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Utilizar en lo posible zapatos con planta de goma y, cuando sea necesario, guantes de segurid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o utilizar ropas que presenten peligro para el trabajo propio del laboratorio (en particular con máquinas rotatoria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chazar e informar de instrumentos y equipos en mal esta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n caso de Accide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5 Imagen" descr="b9a463a16934c62cfbe08fb2dcef_740.jpg"/>
          <p:cNvPicPr/>
          <p:nvPr/>
        </p:nvPicPr>
        <p:blipFill>
          <a:blip r:embed="rId1"/>
          <a:stretch/>
        </p:blipFill>
        <p:spPr>
          <a:xfrm>
            <a:off x="1928880" y="1357200"/>
            <a:ext cx="500040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rimeros auxil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00040" y="18572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rte energía (no se confíe, esta puede ser la caus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sconecte accidentado de conductor (con algo aislant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 hay llamas en el accidentado apagar con mantas o hacerlo rodar. Enfriar con agua limp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rimeros auxil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00040" y="1071360"/>
            <a:ext cx="840096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Ver si está consi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 no respira, aplicar respiración artificial: ambú (21% O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) o boca a boca (16% O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 no hay pulso aplicar masaje cardia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UNCA APLICAR SI NO ES NECESA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357280" y="2928960"/>
            <a:ext cx="407196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RC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357120" y="1143000"/>
            <a:ext cx="2581200" cy="2611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3429000" y="1214280"/>
            <a:ext cx="2247840" cy="2489400"/>
          </a:xfrm>
          <a:prstGeom prst="rect">
            <a:avLst/>
          </a:prstGeom>
          <a:ln w="0">
            <a:noFill/>
          </a:ln>
        </p:spPr>
      </p:pic>
      <p:sp>
        <p:nvSpPr>
          <p:cNvPr id="89" name="7 CuadroTexto"/>
          <p:cNvSpPr/>
          <p:nvPr/>
        </p:nvSpPr>
        <p:spPr>
          <a:xfrm>
            <a:off x="5857920" y="1643040"/>
            <a:ext cx="3071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errar la nariz de la vic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llar las bocas, soplar como si se inflara un glo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irar tórax para confirmar entrada de 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3"/>
          <a:stretch/>
        </p:blipFill>
        <p:spPr>
          <a:xfrm>
            <a:off x="3429000" y="4000680"/>
            <a:ext cx="245736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RC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214200" y="1428840"/>
            <a:ext cx="3970440" cy="2500200"/>
          </a:xfrm>
          <a:prstGeom prst="rect">
            <a:avLst/>
          </a:prstGeom>
          <a:ln w="0">
            <a:noFill/>
          </a:ln>
        </p:spPr>
      </p:pic>
      <p:sp>
        <p:nvSpPr>
          <p:cNvPr id="93" name="5 CuadroTexto"/>
          <p:cNvSpPr/>
          <p:nvPr/>
        </p:nvSpPr>
        <p:spPr>
          <a:xfrm>
            <a:off x="4786200" y="1500120"/>
            <a:ext cx="307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antener  mano en esternón y brazos re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undir pecho entre 2 a 5 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6 CuadroTexto"/>
          <p:cNvSpPr/>
          <p:nvPr/>
        </p:nvSpPr>
        <p:spPr>
          <a:xfrm>
            <a:off x="1928880" y="4357800"/>
            <a:ext cx="657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terne 2 respiraciones con 15 compresiones a un ritmo de 80 a 100 por minu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 cabo de 4 ciclos verifique si tiene pul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 interrumpa la RCP por ninguna raz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asta que llegue el equipo médico especializa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Ingeniería y Seguridad Indust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285920" y="1428840"/>
            <a:ext cx="75009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1.- Rol de los Ingenieros en la Seguridad Indust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2.- Riesgos Eléctri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3.- Legislación Chil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4.- Conceptos de Seguridad Indust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5.- Análisis de Casos Re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6.- Evalu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3 Rectángulo"/>
          <p:cNvSpPr/>
          <p:nvPr/>
        </p:nvSpPr>
        <p:spPr>
          <a:xfrm>
            <a:off x="1285920" y="2571840"/>
            <a:ext cx="4214880" cy="500040"/>
          </a:xfrm>
          <a:prstGeom prst="rect">
            <a:avLst/>
          </a:prstGeom>
          <a:solidFill>
            <a:srgbClr val="ffff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616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Riesgos Eléctric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28800" y="1643040"/>
            <a:ext cx="75009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fectos de la electricidad en el cuerpo Huma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ccidentes más comu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ntrol de riesg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imeros Auxil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ormas de seguridad en el laborato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fectos de la electricidad en el cuerpo Huma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78596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iesgo Directo: Electrocución, circulación de corriente eléctrica a través del cuerp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Otros indirectos: quemaduras por contacto  o explosiones de equipos por sobrecarg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fectos no inmediatos: Problemas renales, cardiovasculares, nerviosos, sensori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lectrocu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28760" y="1143000"/>
            <a:ext cx="840096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 marL="144000" indent="-144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uerpo Humano es conductor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≈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1-600k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00" indent="-144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00" indent="-144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fectos dependen de: frecuencia y magnitud de corriente, trayectoria en el cuerpo, tiempo sometido a circulación de corrien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lectrocu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71760" y="1285920"/>
          <a:ext cx="7143480" cy="4970520"/>
        </p:xfrm>
        <a:graphic>
          <a:graphicData uri="http://schemas.openxmlformats.org/drawingml/2006/table">
            <a:tbl>
              <a:tblPr/>
              <a:tblGrid>
                <a:gridCol w="1717560"/>
                <a:gridCol w="5425920"/>
              </a:tblGrid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ectos fisiológico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f(tpo, lug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  -  1,2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mbral de percepció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  -  9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mbral de contracciones musculare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 -  18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ficultad para respirar y liberar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  -  25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acciones musculares violenta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  -  50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alización  músculos respiratorio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  -  100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mbral de fibrilación ventricular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(&gt;150 ms, 20% cicl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emadur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560" y="764640"/>
            <a:ext cx="70153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ccidentes más comu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2320" y="1500120"/>
            <a:ext cx="3996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Contacto Eléctrico Direc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Persona toca una parte del circuito que en condiciones normales está energiz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Object 2"/>
          <p:cNvGraphicFramePr/>
          <p:nvPr/>
        </p:nvGraphicFramePr>
        <p:xfrm>
          <a:off x="5797440" y="3287880"/>
          <a:ext cx="2632320" cy="27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287880"/>
                    <a:ext cx="2632320" cy="271296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5" name="Object 3"/>
          <p:cNvGraphicFramePr/>
          <p:nvPr/>
        </p:nvGraphicFramePr>
        <p:xfrm>
          <a:off x="1698480" y="3287880"/>
          <a:ext cx="2521080" cy="271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8480" y="3287880"/>
                    <a:ext cx="2521080" cy="271296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7" name="Text Box 6"/>
          <p:cNvSpPr/>
          <p:nvPr/>
        </p:nvSpPr>
        <p:spPr>
          <a:xfrm>
            <a:off x="4971960" y="1428840"/>
            <a:ext cx="3886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tacto Eléctrico Indirecto: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sona toca parte metálica que normalmente no está energizada, pero que adquiere voltaje bajo situación de fa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Control de Riesg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0040" y="18572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tado de aisladores, evitar acceso a conduct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stema de Puesta a tier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stemas de interrupción: Magnéticos, térmicos, Diferenci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785880" y="1642680"/>
            <a:ext cx="7826400" cy="3714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Las 5 Reglas de Oro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1. Abrir con corte visible todas las fuentes de tensión mediante interruptores y seccionadores que aseguren la imposibilidad de su cierre intempestivo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2. Prevenir cualquier posible realimentación mediante enclavamiento o bloqueo de los aparatos de corte y señalización en el mando de ésto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3. Verificar la ausencia de tens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4. Puesta a tierra y en cortocircuito de todas las posibles fuentes de tens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5. Proteger frente a los elementos próximos en tensión y establecer una señalización de seguridad para delimitar la zona de trabaj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2656080" y="403200"/>
            <a:ext cx="4761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EDIDAS PREVENTIVAS 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BAJOS ELÉCT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7 CuadroTexto"/>
          <p:cNvSpPr/>
          <p:nvPr/>
        </p:nvSpPr>
        <p:spPr>
          <a:xfrm>
            <a:off x="2244960" y="5715000"/>
            <a:ext cx="49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rtar- Bloquear-Chequear-Aterrizar-Señali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3:45:09Z</dcterms:created>
  <dc:creator>Hector Agusto</dc:creator>
  <dc:description/>
  <dc:language>en-US</dc:language>
  <cp:lastModifiedBy>Hector Agusto</cp:lastModifiedBy>
  <dcterms:modified xsi:type="dcterms:W3CDTF">2011-03-18T16:29:15Z</dcterms:modified>
  <cp:revision>29</cp:revision>
  <dc:subject/>
  <dc:title>Ética e Ingeniería</dc:title>
</cp:coreProperties>
</file>