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108D-621B-49D6-8D7E-DFE6FD7175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051-9648-41A3-8F87-C25ECE7135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96C3-2577-41EE-8FFD-335F1C647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431-479E-461F-B0D8-F09E8AB5B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295-0685-432F-841A-F24D95D22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8DE4-26F8-4287-A8BB-174C2A439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B20-CCB6-46CC-B44E-D215E30C6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005-9D85-4731-90A8-353496945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9E9-D4A0-474E-8525-FB84B28C6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3C65-34F6-404D-BB58-863EB1399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4337-6DB0-41AE-9D30-2867101DF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FE6-A090-4187-AE4B-498814875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EEE-0511-490F-91B0-25BC59798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3007-FBD9-480B-87E7-EA2E9AEA4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7246-611F-4603-A85B-C408CF6E4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1E7-6A87-405C-A85B-9DC71E30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C86-BDB6-4EBA-8676-0BC46DD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9FA-4534-4CC0-A42B-765A5FB4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5A1-2CDA-4EB7-B400-005F9848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BAD0-34FF-44AD-8E41-52C31AA9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AC02-FA17-4CF0-87CA-920CBB40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7EC-B707-4B45-B1F6-61A65D59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98C9-ECA5-4004-975B-6BCB5B4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A8A-C284-4998-AAB1-79AA897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6C3-DCA1-4796-AB7E-F3281F04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DF6-1B24-46E0-950D-2A824CD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6C1-F066-469E-A920-A391E39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1C16-3548-4393-88FB-63E306C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C3A-F8A9-4E25-B84E-8BC8246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B66E-4C5A-43F0-BF95-FF83CEC9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756-7EF2-42B0-B7BB-79B1BBED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681D-9A8D-4712-A8E5-6E8297BB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548-756A-4733-B3DD-EE25989E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5A5-20F6-489E-B97F-80A8EB6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C96-C636-4D8F-9FE8-033B92BE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7B1-0534-44AB-8EBF-7AD2400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204-6381-4C2F-95B9-B561001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3C8-4F63-4B6B-9D48-59DA5390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DBD-926A-4FB7-A0F9-804EF75F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2BF-5C0B-431A-BFF5-471402E339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106-97F5-402C-B385-A4DCD9E57E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Prevención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Elipse"/>
          <p:cNvSpPr/>
          <p:nvPr/>
        </p:nvSpPr>
        <p:spPr>
          <a:xfrm>
            <a:off x="785880" y="42148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Somos trabajadores expuestos a accidentes y enfermedad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ocer y respetar normativa, procedimientos, derechos y deber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r Auto-cuid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y promover cultura prev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aso de accidentes utilizar mecanismos de  cober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Somos profesionales con responsabilidades parti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nificar Trabajos (Quién, cómo, cuán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ir procedimientos, dimensionar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eñar productos, equi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or responsabilidad en empresa o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lar por el 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es con responsabilid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el caso de las profesiones, un primer “deber” de las/os profesionales que la ejercen es hacer bien lo que saben hace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profesor, enseñ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abogado, conocer la ley e interpretarla para abogar por la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médico conocer el cuerpo y san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lo tanto, las profesiones -parte importante de las acciones humanas actuales- implican un actuar é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, dicho de otro modo, cualquier quehacer profesional conlleva implicancias éticas que son inelu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Norma &amp; V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s sociedades se rigen por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ley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; éstas vienen a dar un marco normativo positivo desde el cual los seres humanos organizamos nuestra vida comú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forman en su conjunto el ámbito de lo leg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 de suponer que las leyes que rigen distintos y variados ámbitos de la vida humana son buenas, deseables, puesto que persiguen el bien de la sociedad to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atar las leyes y regirse por ellas vendría a ser algo en sí mismo b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61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motivos complejos que ahora no viene al caso analizar, en nuestras sociedades contemporáneas no siempre con solo acatar las leyes llegamos a realizar acciones éticamente buenas, deseables y/o aceptables para to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Atención con esto: no significa que acatar las leyes necesariamente sea algo “no-bueno”; tan sólo decimos que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no necesariamente coinciden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Y si no hubiera Seguridad Industr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28800" y="16430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actitud y procedimientos proa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r alerta, evaluar constantemente riesgos y controlarlos, informarse, prepara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lgunas Industrias: no solo reporte de accidentes también de incidentes (ejemp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1T14:28:36Z</dcterms:modified>
  <cp:revision>26</cp:revision>
  <dc:subject/>
  <dc:title>Ética e Ingeniería</dc:title>
</cp:coreProperties>
</file>