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2B3-B149-4CF8-A178-A3044BBCF2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32A-0E54-49BD-805E-2D90AA68CB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554-AB5B-4448-BDD1-C4A289E104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086-6CE7-432A-AC58-FAC2C5B0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E74-F763-47F8-B0D0-5D4BA0E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636-2347-46E2-8A90-DE70934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21F-0B93-4345-BC79-C0A39589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919-BBB4-4624-B66E-765C43A6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527-4390-471D-BC27-C624B8F6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DC4-EC95-4861-865A-762A54B1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157-2639-4257-A805-349F92B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30F-40B4-426C-892A-87F2983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1F9-86EA-4DA8-949B-CC29C57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36B3-F198-4C4C-AE94-60374EF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622-2A65-4F70-BF62-7EC7F8E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279-414E-4800-9A7F-74BAB079EE9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evención de Riesgos FC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r un diagrama con el circuito a usar. Incluir en el diagrama lo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r ordenadamente los instrumentos y 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dir revisión del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ergizar solo con el visto b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el circuito energizado, sólo efectuar lectura de instrumentos.  No hacer modific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conexiones de tierra (masa) de equipos e instrumentación cuando correspo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lquier operación que merezca duda, consultarla antes con el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mendacione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32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en lo posible zapatos con planta de goma y, cuando sea necesario, guantes de segur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utilizar ropas que presenten peligro para el trabajo propio del laboratorio (en particular con máquinas rotatori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ar e informar de instrumentos y equipos en ma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so de Acci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5 Imagen" descr="b9a463a16934c62cfbe08fb2dcef_740.jpg"/>
          <p:cNvPicPr/>
          <p:nvPr/>
        </p:nvPicPr>
        <p:blipFill>
          <a:blip r:embed="rId1"/>
          <a:stretch/>
        </p:blipFill>
        <p:spPr>
          <a:xfrm>
            <a:off x="1928880" y="1357200"/>
            <a:ext cx="5000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te energía (no se confíe, esta puede ser la cau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onecte accidentado de conductor (con algo aisl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y llamas en el accidentado apagar con mantas o hacerlo rodar. Enfriar con agua lim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07136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 si está cons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respira, aplicar respiración artificial: ambú (21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o boca a boca (16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hay pulso aplicar masaje cardi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APLICAR SI NO ES NECE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71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58120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2247840" cy="2489400"/>
          </a:xfrm>
          <a:prstGeom prst="rect">
            <a:avLst/>
          </a:prstGeom>
          <a:ln w="0">
            <a:noFill/>
          </a:ln>
        </p:spPr>
      </p:pic>
      <p:sp>
        <p:nvSpPr>
          <p:cNvPr id="89" name="7 CuadroTexto"/>
          <p:cNvSpPr/>
          <p:nvPr/>
        </p:nvSpPr>
        <p:spPr>
          <a:xfrm>
            <a:off x="5857920" y="164304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rar la nariz de la vi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lar las bocas, soplar como si se inflara un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rar tórax para confirmar entrada 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429000" y="4000680"/>
            <a:ext cx="2457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97044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4786200" y="150012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er  mano en esternón y brazos r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undir pecho entre 2 a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CuadroTexto"/>
          <p:cNvSpPr/>
          <p:nvPr/>
        </p:nvSpPr>
        <p:spPr>
          <a:xfrm>
            <a:off x="1928880" y="43578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erne 2 respiraciones con 15 compresiones a un ritmo de 80 a 100 por min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bo de 4 ciclos verifique si tiene pu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rrumpa la RCP por ninguna 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que llegue el equipo médico especializ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1285920" y="2571840"/>
            <a:ext cx="4214880" cy="500040"/>
          </a:xfrm>
          <a:prstGeom prst="rect">
            <a:avLst/>
          </a:prstGeom>
          <a:solidFill>
            <a:srgbClr val="ff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iesgos Eléc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má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rmas de seguridad en el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859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sgo Directo: Electrocución, circulación de corriente eléctrica a través del cuer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os indirectos: quemaduras por contacto  o explosiones de equipos por sobrecar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no inmediatos: Problemas renales, cardiovasculares, nerviosos, sensor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3000"/>
            <a:ext cx="84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erpo Humano es conducto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-600k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penden de: frecuencia y magnitud de corriente, trayectoria en el cuerpo, tiempo sometido a circulación de corr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71760" y="1285920"/>
          <a:ext cx="7143480" cy="4970520"/>
        </p:xfrm>
        <a:graphic>
          <a:graphicData uri="http://schemas.openxmlformats.org/drawingml/2006/table">
            <a:tbl>
              <a:tblPr/>
              <a:tblGrid>
                <a:gridCol w="1717560"/>
                <a:gridCol w="5425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ectos fisiológic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f(tpo,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 -  1,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percepc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 -  9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contracciones mu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-  18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icultad para respirar y liberar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-  2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cciones musculares violen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-  5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ización  músculos respirator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 - 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fibrilación ventri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&gt;150 ms, 20% ci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mad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0153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cidentes má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2320" y="1500120"/>
            <a:ext cx="399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acto Eléctrico Direc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sona toca una parte del circuito que en condiciones normales está energ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5797440" y="3287880"/>
          <a:ext cx="26323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87880"/>
                    <a:ext cx="263232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698480" y="3287880"/>
          <a:ext cx="2521080" cy="27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3287880"/>
                    <a:ext cx="252108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971960" y="142884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cto Eléctrico Indirect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 toca parte metálica que normalmente no está energizada, pero que adquiere voltaje bajo situación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isladores, evitar acceso a condu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 de Puesta a tier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de interrupción: Magnéticos, térmicos, Diferen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880" y="1642680"/>
            <a:ext cx="78264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s 5 Reglas de Or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. Abrir con corte visible todas las fuentes de tensión mediante interruptores y seccionadores que aseguren la imposibilidad de su cierre intempesti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2. Prevenir cualquier posible realimentación mediante enclavamiento o bloqueo de los aparatos de corte y señalización en el mando de ést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3. Verificar la ausencia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4. Puesta a tierra y en cortocircuito de todas las posibles fuentes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5. Proteger frente a los elementos próximos en tensión y establecer una señalización de seguridad para delimitar la zona de traba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656080" y="403200"/>
            <a:ext cx="47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DAS PREVENTIVAS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2244960" y="57150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tar- Bloquear-Chequear-Aterrizar-Señ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8T16:29:15Z</dcterms:modified>
  <cp:revision>29</cp:revision>
  <dc:subject/>
  <dc:title>Ética e Ingeniería</dc:title>
</cp:coreProperties>
</file>