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670B-B611-478B-80AA-B793801FA7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0E0-EA6E-4467-974F-1E3D0720C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2D3-762E-4D0E-8149-423A66A4D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E7A-7799-4119-98B2-0FAD0D3D2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3528-359B-41DA-A2C4-1FCB6EFE0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9EE4-1452-4FB9-89F4-EC8E5FE25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4A44-6370-4B5C-B28A-CB02D1AC9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026-D79E-4DE3-80BC-D4AFE524C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218-7445-4AAA-BF58-C913EADFB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ED3-3E94-489F-94CE-0CC0BC3CE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598-3CEF-4E46-A7D4-71B84FF4A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CDB-839D-4D23-857B-AF7C72B55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670-6A5E-4FFF-9CCF-99CA3C235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9EB-240C-4EAE-B7BC-43CCD7D9F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FEE6-0803-496F-AAA2-91D02034D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7DF-AE68-4580-8F01-A67F6286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90F-E21F-4E42-84E1-3191F3AD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DC0-CE29-4AAC-A3B1-E1F1D86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CCE-7AAA-4E35-91D1-3A70A9EB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2C03-5261-41A9-B78F-F2D7D928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716-CF3D-4B02-9062-1FF50C7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DF7C-8860-4B70-AC93-391E3D47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B72D-C7E6-4580-8AF4-9B4BB17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672-1509-4697-B8A6-4F77FBD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3B3-6467-43CA-8843-1A2EF7E6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6FA-1C0D-49B4-B406-AD4B1B7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3B2-C057-4183-ABDF-9CF588D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D56-955F-45ED-ACA9-A796D8C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F47A-E76B-47C9-9F4B-CB1CEB6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720-D13C-4607-A6F1-76CD2CB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95F4-0AF8-49A7-8AC3-EC1DB9B8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3B0-C829-49F3-85BA-755CB047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FD3-5A82-432A-BDEB-59654638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A11-0F41-4C5E-B18E-2F82F78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D05-D9F7-4C95-8BEE-7092AA5E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595-B933-4880-85F9-C11D14D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1BE-98D9-4EC8-A532-4653AF7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6AF-2B6B-4DFB-9D48-CA941D0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452-1505-4BCF-B0A3-16A90BB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8FC-1FD5-48CD-97A7-5A484448D96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8B0-044F-44D6-88A8-45C19A4679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Prevención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Elipse"/>
          <p:cNvSpPr/>
          <p:nvPr/>
        </p:nvSpPr>
        <p:spPr>
          <a:xfrm>
            <a:off x="785880" y="42148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Somos trabajadores expuestos a accidentes y enfermedad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ocer y respetar normativa, procedimientos, derechos y deber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r Auto-cuid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y promover cultura prev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aso de accidentes utilizar mecanismos de  cober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Somos profesionales con responsabilidades parti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nificar Trabajos (Quién, cómo, cuán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ir procedimientos, dimensionar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eñar productos, equi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or responsabilidad en empresa o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lar por el 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es con responsabilid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el caso de las profesiones, un primer “deber” de las/os profesionales que la ejercen es hacer bien lo que saben hace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profesor, enseñ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abogado, conocer la ley e interpretarla para abogar por la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médico conocer el cuerpo y san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lo tanto, las profesiones -parte importante de las acciones humanas actuales- implican un actuar é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, dicho de otro modo, cualquier quehacer profesional conlleva implicancias éticas que son inelu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Norma &amp; V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s sociedades se rigen por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ley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; éstas vienen a dar un marco normativo positivo desde el cual los seres humanos organizamos nuestra vida comú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forman en su conjunto el ámbito de lo leg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 de suponer que las leyes que rigen distintos y variados ámbitos de la vida humana son buenas, deseables, puesto que persiguen el bien de la sociedad to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atar las leyes y regirse por ellas vendría a ser algo en sí mismo b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61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motivos complejos que ahora no viene al caso analizar, en nuestras sociedades contemporáneas no siempre con solo acatar las leyes llegamos a realizar acciones éticamente buenas, deseables y/o aceptables para to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Atención con esto: no significa que acatar las leyes necesariamente sea algo “no-bueno”; tan sólo decimos que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no necesariamente coinciden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Y si no hubiera Seguridad Industr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28800" y="16430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actitud y procedimientos proa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r alerta, evaluar constantemente riesgos y controlarlos, informarse, prepara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lgunas Industrias: no solo reporte de accidentes también de incidentes (ejemp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1T14:28:36Z</dcterms:modified>
  <cp:revision>26</cp:revision>
  <dc:subject/>
  <dc:title>Ética e Ingeniería</dc:title>
</cp:coreProperties>
</file>