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7700-F6AF-425C-97F5-CCAF25B82EA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2098-94CB-472D-812F-CF13FF0AB6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3528-7141-44A8-B664-01CD1BD93D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DF79-97B5-4BD2-9DD8-70096DA2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96A-A4BA-4294-894E-93EEC1B0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7764-06BC-4532-83DD-E303E8B0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DA6B-FA99-4472-BBCE-648A78F4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03DF-ED7C-460C-B6EC-0AACE10B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3FE-0BAD-48D9-9E3F-0C157B5D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607-5EBD-49FA-BAF3-D1F0F868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5729-EA37-4A44-8649-1873B2D9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FF0-7ED6-4359-834E-332C7408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F72-7D80-4D5F-94C5-465641DA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1F8-3D65-4844-B6A1-70F5D4A8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8316-A8F1-49A7-A136-E04649DA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142C-A83B-455E-82E8-8673CB2740F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Ingeniería 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Seguridad Industrial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Human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Desarrollo Do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Prevención de Riesgos FCF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ecauciones mínimas Laborato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esentar un diagrama con el circuito a usar. Incluir en el diagrama los instrumen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bicar ordenadamente los instrumentos y c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edir revisión del circu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ergizar solo con el visto bu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ecauciones mínimas Laborato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04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 el circuito energizado, sólo efectuar lectura de instrumentos.  No hacer modificaci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tilizar conexiones de tierra (masa) de equipos e instrumentación cuando correspon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ualquier operación que merezca duda, consultarla antes con el ayud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ecomendaciones Laborato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0040" y="1714320"/>
            <a:ext cx="84009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tilizar en lo posible zapatos con planta de goma y, cuando sea necesario, guantes de segur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 utilizar ropas que presenten peligro para el trabajo propio del laboratorio (en particular con máquinas rotatoria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chazar e informar de instrumentos y equipos en mal est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n caso de Accid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5 Imagen" descr="b9a463a16934c62cfbe08fb2dcef_740.jpg"/>
          <p:cNvPicPr/>
          <p:nvPr/>
        </p:nvPicPr>
        <p:blipFill>
          <a:blip r:embed="rId1"/>
          <a:stretch/>
        </p:blipFill>
        <p:spPr>
          <a:xfrm>
            <a:off x="1928880" y="1357200"/>
            <a:ext cx="50004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imeros auxil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rte energía (no se confíe, esta puede ser la cau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onecte accidentado de conductor (con algo aislant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hay llamas en el accidentado apagar con mantas o hacerlo rodar. Enfriar con agua limp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imeros auxil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0040" y="1071360"/>
            <a:ext cx="84009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er si está consi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no respira, aplicar respiración artificial: ambú (21%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) o boca a boca (16%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no hay pulso aplicar masaje cardia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UNCA APLICAR SI NO ES NECE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357280" y="2928960"/>
            <a:ext cx="40719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C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2581200" cy="261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3429000" y="1214280"/>
            <a:ext cx="2247840" cy="2489400"/>
          </a:xfrm>
          <a:prstGeom prst="rect">
            <a:avLst/>
          </a:prstGeom>
          <a:ln w="0">
            <a:noFill/>
          </a:ln>
        </p:spPr>
      </p:pic>
      <p:sp>
        <p:nvSpPr>
          <p:cNvPr id="89" name="7 CuadroTexto"/>
          <p:cNvSpPr/>
          <p:nvPr/>
        </p:nvSpPr>
        <p:spPr>
          <a:xfrm>
            <a:off x="5857920" y="1643040"/>
            <a:ext cx="307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rrar la nariz de la vic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llar las bocas, soplar como si se inflara un glo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irar tórax para confirmar entrada de 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429000" y="4000680"/>
            <a:ext cx="2457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C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3970440" cy="2500200"/>
          </a:xfrm>
          <a:prstGeom prst="rect">
            <a:avLst/>
          </a:prstGeom>
          <a:ln w="0">
            <a:noFill/>
          </a:ln>
        </p:spPr>
      </p:pic>
      <p:sp>
        <p:nvSpPr>
          <p:cNvPr id="93" name="5 CuadroTexto"/>
          <p:cNvSpPr/>
          <p:nvPr/>
        </p:nvSpPr>
        <p:spPr>
          <a:xfrm>
            <a:off x="4786200" y="1500120"/>
            <a:ext cx="307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tener  mano en esternón y brazos r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undir pecho entre 2 a 5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CuadroTexto"/>
          <p:cNvSpPr/>
          <p:nvPr/>
        </p:nvSpPr>
        <p:spPr>
          <a:xfrm>
            <a:off x="1928880" y="4357800"/>
            <a:ext cx="657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terne 2 respiraciones con 15 compresiones a un ritmo de 80 a 100 por min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 cabo de 4 ciclos verifique si tiene pul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interrumpa la RCP por ninguna raz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sta que llegue el equipo médico especializa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Ingeniería y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85920" y="14288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- Rol de los Ingenieros en la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- Riesgos Eléctr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- Legislación Chil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4.- Conceptos de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5.- Análisis de Casos Re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6.- Evalu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 Rectángulo"/>
          <p:cNvSpPr/>
          <p:nvPr/>
        </p:nvSpPr>
        <p:spPr>
          <a:xfrm>
            <a:off x="1285920" y="2571840"/>
            <a:ext cx="4214880" cy="500040"/>
          </a:xfrm>
          <a:prstGeom prst="rect">
            <a:avLst/>
          </a:prstGeom>
          <a:solidFill>
            <a:srgbClr val="ffff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61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iesgos Eléctr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28800" y="16430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ectos de la electricidad en el cuerpo Hum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ccidentes más comu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trol de ries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imeros Auxil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rmas de seguridad en el laborato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fectos de la electricidad en el cuerpo Hum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8596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iesgo Directo: Electrocución, circulación de corriente eléctrica a través del cuerp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tros indirectos: quemaduras por contacto  o explosiones de equipos por sobrecarg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ectos no inmediatos: Problemas renales, cardiovasculares, nerviosos, sensori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ectrocu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143000"/>
            <a:ext cx="8400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-14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uerpo Humano es conducto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≈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-600k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00" indent="-14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00" indent="-14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ectos dependen de: frecuencia y magnitud de corriente, trayectoria en el cuerpo, tiempo sometido a circulación de corrie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ectrocu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71760" y="1285920"/>
          <a:ext cx="7143480" cy="4970520"/>
        </p:xfrm>
        <a:graphic>
          <a:graphicData uri="http://schemas.openxmlformats.org/drawingml/2006/table">
            <a:tbl>
              <a:tblPr/>
              <a:tblGrid>
                <a:gridCol w="1717560"/>
                <a:gridCol w="542592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ectos fisiológico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f(tpo, lug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  -  1,2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bral de percepció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 -  9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bral de contracciones muscular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 -  18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ficultad para respirar y liberar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  -  25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acciones musculares violent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 -  50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alización  músculos respiratorio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  -  100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bral de fibrilación ventricula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(&gt;150 ms, 20% cicl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emadu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0153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cidentes más comu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2320" y="1500120"/>
            <a:ext cx="3996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ontacto Eléctrico Direc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Persona toca una parte del circuito que en condiciones normales está energiz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5797440" y="3287880"/>
          <a:ext cx="263232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87880"/>
                    <a:ext cx="2632320" cy="271296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" name="Object 3"/>
          <p:cNvGraphicFramePr/>
          <p:nvPr/>
        </p:nvGraphicFramePr>
        <p:xfrm>
          <a:off x="1698480" y="3287880"/>
          <a:ext cx="2521080" cy="271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8480" y="3287880"/>
                    <a:ext cx="2521080" cy="271296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7" name="Text Box 6"/>
          <p:cNvSpPr/>
          <p:nvPr/>
        </p:nvSpPr>
        <p:spPr>
          <a:xfrm>
            <a:off x="4971960" y="1428840"/>
            <a:ext cx="38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tacto Eléctrico Indirecto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sona toca parte metálica que normalmente no está energizada, pero que adquiere voltaje bajo situación de f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ntrol de Riesg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004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do de aisladores, evitar acceso a conduc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stema de Puesta a tier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stemas de interrupción: Magnéticos, térmicos, Diferenci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85880" y="1642680"/>
            <a:ext cx="7826400" cy="371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as 5 Reglas de Or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1. Abrir con corte visible todas las fuentes de tensión mediante interruptores y seccionadores que aseguren la imposibilidad de su cierre intempestiv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2. Prevenir cualquier posible realimentación mediante enclavamiento o bloqueo de los aparatos de corte y señalización en el mando de ést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3. Verificar la ausencia de tens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4. Puesta a tierra y en cortocircuito de todas las posibles fuentes de tens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5. Proteger frente a los elementos próximos en tensión y establecer una señalización de seguridad para delimitar la zona de trabaj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656080" y="403200"/>
            <a:ext cx="476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DIDAS PREVENTIVAS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BAJOS ELÉC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7 CuadroTexto"/>
          <p:cNvSpPr/>
          <p:nvPr/>
        </p:nvSpPr>
        <p:spPr>
          <a:xfrm>
            <a:off x="2244960" y="5715000"/>
            <a:ext cx="49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tar- Bloquear-Chequear-Aterrizar-Seña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3:45:09Z</dcterms:created>
  <dc:creator>Hector Agusto</dc:creator>
  <dc:description/>
  <dc:language>en-US</dc:language>
  <cp:lastModifiedBy>Hector Agusto</cp:lastModifiedBy>
  <dcterms:modified xsi:type="dcterms:W3CDTF">2011-03-18T16:29:15Z</dcterms:modified>
  <cp:revision>29</cp:revision>
  <dc:subject/>
  <dc:title>Ética e Ingeniería</dc:title>
</cp:coreProperties>
</file>